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28.wmf" ContentType="image/x-wmf"/>
  <Override PartName="/ppt/media/image5.jpeg" ContentType="image/jpeg"/>
  <Override PartName="/ppt/media/image3.jpeg" ContentType="image/jpeg"/>
  <Override PartName="/ppt/media/image2.jpeg" ContentType="image/jpeg"/>
  <Override PartName="/ppt/media/image4.wmf" ContentType="image/x-wmf"/>
  <Override PartName="/ppt/media/image27.wmf" ContentType="image/x-wmf"/>
  <Override PartName="/ppt/media/image1.jpeg" ContentType="image/jpeg"/>
  <Override PartName="/ppt/media/image25.png" ContentType="image/png"/>
  <Override PartName="/ppt/media/image24.png" ContentType="image/png"/>
  <Override PartName="/ppt/media/image18.jpeg" ContentType="image/jpeg"/>
  <Override PartName="/ppt/media/image26.png" ContentType="image/png"/>
  <Override PartName="/ppt/media/image23.gif" ContentType="image/gif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2465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F574-4E88-4D2D-BE67-00C93662F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1643-8FA7-41EE-B8D9-E5F52411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FA8C-6C12-490A-9277-D4F42E71B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998F-3056-4970-9268-11F3A8F19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56B0-04E0-481C-9737-F7054326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B1C6-498E-461F-8973-827BD5E8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6EDB-ECB9-47B3-91B7-8C95B43B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6124-65A0-4105-B373-8130435F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7249-4F9E-4D0C-BF8E-2872167D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E20F-A61B-4A1C-BA76-0FF2131C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BD2F-D6F3-4CCC-BC64-DD65F516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7177-62EF-42CC-9A09-425FF2E0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800" y="64004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CF42-847E-4156-A44E-92D239A0D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gif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22856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3300"/>
                </a:solidFill>
                <a:latin typeface="Times New Roman"/>
              </a:rPr>
              <a:t>Reklamos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 rengimas kompiuterinėmis technologijomis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Kurso “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Reklamos elektroninė leidyba” dal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Išmokime parodyti save pasauliui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Ranka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15318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rema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523520" y="2209680"/>
            <a:ext cx="3048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Techninė įr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Monitori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Grafinė plokšt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kene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iešimo l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Fotoapara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0"/>
            <a:ext cx="6705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Elektroninė  </a:t>
            </a:r>
            <a:r>
              <a:rPr b="1" lang="lt-LT" sz="2800" spc="-1" strike="noStrike">
                <a:solidFill>
                  <a:srgbClr val="9933ff"/>
                </a:solidFill>
                <a:latin typeface="Times New Roman"/>
              </a:rPr>
              <a:t>spausdintinė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 rekl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AV_61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2209680" cy="1422360"/>
          </a:xfrm>
          <a:prstGeom prst="rect">
            <a:avLst/>
          </a:prstGeom>
          <a:ln w="0">
            <a:noFill/>
          </a:ln>
        </p:spPr>
      </p:pic>
      <p:pic>
        <p:nvPicPr>
          <p:cNvPr id="103" name="PAV_62" descr=""/>
          <p:cNvPicPr/>
          <p:nvPr/>
        </p:nvPicPr>
        <p:blipFill>
          <a:blip r:embed="rId3"/>
          <a:stretch/>
        </p:blipFill>
        <p:spPr>
          <a:xfrm>
            <a:off x="5257800" y="3962520"/>
            <a:ext cx="1765440" cy="1152360"/>
          </a:xfrm>
          <a:prstGeom prst="rect">
            <a:avLst/>
          </a:prstGeom>
          <a:ln w="0">
            <a:noFill/>
          </a:ln>
        </p:spPr>
      </p:pic>
      <p:pic>
        <p:nvPicPr>
          <p:cNvPr id="104" name="PAV_63" descr=""/>
          <p:cNvPicPr/>
          <p:nvPr/>
        </p:nvPicPr>
        <p:blipFill>
          <a:blip r:embed="rId4"/>
          <a:stretch/>
        </p:blipFill>
        <p:spPr>
          <a:xfrm>
            <a:off x="6019920" y="2743200"/>
            <a:ext cx="1828800" cy="148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6" name="removirsus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remoonas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380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eklama </a:t>
            </a:r>
            <a:r>
              <a:rPr b="1" lang="lt-LT" sz="3200" spc="-1" strike="noStrike">
                <a:solidFill>
                  <a:srgbClr val="9933ff"/>
                </a:solidFill>
                <a:latin typeface="Times New Roman"/>
              </a:rPr>
              <a:t>Intern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Ranka" descr=""/>
          <p:cNvPicPr/>
          <p:nvPr/>
        </p:nvPicPr>
        <p:blipFill>
          <a:blip r:embed="rId3"/>
          <a:stretch/>
        </p:blipFill>
        <p:spPr>
          <a:xfrm>
            <a:off x="2514600" y="3809880"/>
            <a:ext cx="1305000" cy="1752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295640" y="1752480"/>
            <a:ext cx="278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nterneto funkcij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endravimo bū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uomenų saugyk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omercijos rin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80040" y="3048120"/>
            <a:ext cx="3970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rivaluma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Firmos įvaizd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uditorijos masišku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limybė pasirinkti auditorij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nteraktyvus ryš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fektyvi preky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inamišku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3" name="remosonasd" descr=""/>
            <p:cNvPicPr/>
            <p:nvPr/>
          </p:nvPicPr>
          <p:blipFill>
            <a:blip r:embed="rId1"/>
            <a:stretch/>
          </p:blipFill>
          <p:spPr>
            <a:xfrm>
              <a:off x="8244000" y="0"/>
              <a:ext cx="900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removirsus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6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724280" y="3047760"/>
            <a:ext cx="3200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inklalap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lektroninis skyde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40800" y="22320"/>
            <a:ext cx="5481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eklama </a:t>
            </a:r>
            <a:r>
              <a:rPr b="1" lang="lt-LT" sz="3200" spc="-1" strike="noStrike">
                <a:solidFill>
                  <a:srgbClr val="9933ff"/>
                </a:solidFill>
                <a:latin typeface="Times New Roman"/>
              </a:rPr>
              <a:t>Intern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AV_92" descr=""/>
          <p:cNvPicPr/>
          <p:nvPr/>
        </p:nvPicPr>
        <p:blipFill>
          <a:blip r:embed="rId3"/>
          <a:stretch/>
        </p:blipFill>
        <p:spPr>
          <a:xfrm>
            <a:off x="304920" y="4343400"/>
            <a:ext cx="4800600" cy="716040"/>
          </a:xfrm>
          <a:prstGeom prst="rect">
            <a:avLst/>
          </a:prstGeom>
          <a:ln w="0">
            <a:noFill/>
          </a:ln>
        </p:spPr>
      </p:pic>
      <p:pic>
        <p:nvPicPr>
          <p:cNvPr id="118" name="PAV_91" descr=""/>
          <p:cNvPicPr/>
          <p:nvPr/>
        </p:nvPicPr>
        <p:blipFill>
          <a:blip r:embed="rId4"/>
          <a:stretch/>
        </p:blipFill>
        <p:spPr>
          <a:xfrm>
            <a:off x="380880" y="3505320"/>
            <a:ext cx="3429000" cy="544320"/>
          </a:xfrm>
          <a:prstGeom prst="rect">
            <a:avLst/>
          </a:prstGeom>
          <a:ln w="0">
            <a:noFill/>
          </a:ln>
        </p:spPr>
      </p:pic>
      <p:pic>
        <p:nvPicPr>
          <p:cNvPr id="119" name="PAV_93" descr=""/>
          <p:cNvPicPr/>
          <p:nvPr/>
        </p:nvPicPr>
        <p:blipFill>
          <a:blip r:embed="rId5"/>
          <a:stretch/>
        </p:blipFill>
        <p:spPr>
          <a:xfrm>
            <a:off x="304920" y="5334120"/>
            <a:ext cx="6705360" cy="8254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2133720"/>
            <a:ext cx="28958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Diskusijų klub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š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bpzenklas" descr=""/>
          <p:cNvPicPr/>
          <p:nvPr/>
        </p:nvPicPr>
        <p:blipFill>
          <a:blip r:embed="rId6"/>
          <a:stretch/>
        </p:blipFill>
        <p:spPr>
          <a:xfrm>
            <a:off x="6477120" y="1752480"/>
            <a:ext cx="1371600" cy="106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3" name="removirsus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remoonas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380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eklama </a:t>
            </a:r>
            <a:r>
              <a:rPr b="1" lang="lt-LT" sz="3200" spc="-1" strike="noStrike">
                <a:solidFill>
                  <a:srgbClr val="9933ff"/>
                </a:solidFill>
                <a:latin typeface="Times New Roman"/>
              </a:rPr>
              <a:t>Intern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4240" y="1371600"/>
            <a:ext cx="38581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WWW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okumentų kūri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Reikalavimai (W3-Consorti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Naršyklė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inklapių kūrimo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įrankia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76520" y="2362320"/>
            <a:ext cx="6832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Tekstiniai redaktoriai (Windows Notepad, CofeeCup HTML Editor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Vizualiniai redaktoriai ( Microsoft FrontPage, Altaire HomeSit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Macromedia Dreamwea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808080"/>
                </a:solidFill>
                <a:latin typeface="Times New Roman"/>
              </a:rPr>
              <a:t>Tarpiniai (HotMetal Pro 6.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onvertuojančios programos (MS Word, Adobe Photoshop 5.5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Grafik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rofesionalios programos (CorelDraw, Adobe Photosho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onvertavimo programos (Windows Paint +IrfanVie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pecialios programos (DeBabelizer Pro 4.5.1, Flash 4,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rema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785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Įsimena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85520" indent="-347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cen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ų perskaity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5520" indent="-347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n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ų išgir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5520" indent="-347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3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n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ų pamaty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5520" indent="-347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7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n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ų pamaty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r 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r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5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5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5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0"/>
            <a:ext cx="6705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eiklos </a:t>
            </a:r>
            <a:r>
              <a:rPr b="1" lang="lt-LT" sz="2800" spc="-1" strike="noStrike">
                <a:solidFill>
                  <a:srgbClr val="9933ff"/>
                </a:solidFill>
                <a:latin typeface="Times New Roman"/>
              </a:rPr>
              <a:t>pristaty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248520" y="2819520"/>
          <a:ext cx="144756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48520" y="2819520"/>
                    <a:ext cx="144756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bd05515_" descr=""/>
          <p:cNvPicPr/>
          <p:nvPr/>
        </p:nvPicPr>
        <p:blipFill>
          <a:blip r:embed="rId4"/>
          <a:stretch/>
        </p:blipFill>
        <p:spPr>
          <a:xfrm>
            <a:off x="4724280" y="1219320"/>
            <a:ext cx="1560600" cy="1676160"/>
          </a:xfrm>
          <a:prstGeom prst="rect">
            <a:avLst/>
          </a:prstGeom>
          <a:ln w="0">
            <a:noFill/>
          </a:ln>
        </p:spPr>
      </p:pic>
      <p:pic>
        <p:nvPicPr>
          <p:cNvPr id="134" name="pe07677_" descr=""/>
          <p:cNvPicPr/>
          <p:nvPr/>
        </p:nvPicPr>
        <p:blipFill>
          <a:blip r:embed="rId5"/>
          <a:stretch/>
        </p:blipFill>
        <p:spPr>
          <a:xfrm>
            <a:off x="4952880" y="3886200"/>
            <a:ext cx="1712880" cy="17175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371600" y="3733920"/>
            <a:ext cx="3809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Įrankia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4720" indent="-484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MS Power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4720" indent="-484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Corel Presen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4720" indent="-484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Lotus Freelance Graph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4720" indent="-484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Harvard Graph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4720" indent="-484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Išmokime parodyti save pasauliui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Ranka" descr=""/>
          <p:cNvPicPr/>
          <p:nvPr/>
        </p:nvPicPr>
        <p:blipFill>
          <a:blip r:embed="rId1"/>
          <a:stretch/>
        </p:blipFill>
        <p:spPr>
          <a:xfrm>
            <a:off x="4118040" y="2819520"/>
            <a:ext cx="907920" cy="121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5" name="removirsus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remoonas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380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1600"/>
            </a:b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Modulio</a:t>
            </a: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 struktū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90840" y="1855800"/>
          <a:ext cx="6265800" cy="337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90840" y="1855800"/>
                    <a:ext cx="6265800" cy="33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3502080" y="1103400"/>
            <a:ext cx="16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Times New Roman"/>
              </a:rPr>
              <a:t>Trukmė – 2 valan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2" name="removirsus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remoonas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380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6629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br>
              <a:rPr sz="2000"/>
            </a:br>
            <a:br>
              <a:rPr sz="2000"/>
            </a:b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eklamos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3200" spc="-1" strike="noStrike">
                <a:solidFill>
                  <a:srgbClr val="9933ff"/>
                </a:solidFill>
                <a:latin typeface="Times New Roman"/>
              </a:rPr>
              <a:t>sampr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AV_1" descr=""/>
          <p:cNvPicPr/>
          <p:nvPr/>
        </p:nvPicPr>
        <p:blipFill>
          <a:blip r:embed="rId3"/>
          <a:stretch/>
        </p:blipFill>
        <p:spPr>
          <a:xfrm>
            <a:off x="1523880" y="1752480"/>
            <a:ext cx="3886200" cy="2184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447920" y="41148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4d4d4d"/>
                </a:solidFill>
                <a:latin typeface="Times New Roman"/>
              </a:rPr>
              <a:t>Senovinė reklama (1477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1676520"/>
            <a:ext cx="236196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Vaidmeny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Marketingin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omunikacin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Ekonomin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ocialin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5486400"/>
            <a:ext cx="6934320" cy="703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Times New Roman"/>
              </a:rPr>
              <a:t>REKLAMA, tai sąmoningas, kryptingas ir planingas poveikis  vartotojams, siekiant tam tikrų tiksl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0" name="removirsus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remoonas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380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eklamos</a:t>
            </a:r>
            <a:r>
              <a:rPr b="1" lang="lt-LT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lt-LT" sz="3200" spc="-1" strike="noStrike">
                <a:solidFill>
                  <a:srgbClr val="ff3300"/>
                </a:solidFill>
                <a:latin typeface="Times New Roman"/>
              </a:rPr>
              <a:t>et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2209680"/>
            <a:ext cx="28958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Ginčytini klausimai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Išpūsta” reklam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Skonis reklamoj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Reklamos estetik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Flirto motyvas reklamoj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Ranka" descr=""/>
          <p:cNvPicPr/>
          <p:nvPr/>
        </p:nvPicPr>
        <p:blipFill>
          <a:blip r:embed="rId3"/>
          <a:stretch/>
        </p:blipFill>
        <p:spPr>
          <a:xfrm>
            <a:off x="3962520" y="3581280"/>
            <a:ext cx="1304640" cy="1752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257800" y="2514600"/>
            <a:ext cx="33526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Stereotipai reklamoj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Reklama vaika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Ginčytinų prekių reklam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Reklama, veikianti į pasąmon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7" name="remosonasd" descr=""/>
            <p:cNvPicPr/>
            <p:nvPr/>
          </p:nvPicPr>
          <p:blipFill>
            <a:blip r:embed="rId1"/>
            <a:stretch/>
          </p:blipFill>
          <p:spPr>
            <a:xfrm>
              <a:off x="8244000" y="0"/>
              <a:ext cx="900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removirsus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6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190760" y="2057400"/>
            <a:ext cx="3352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Dalyvi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Vykdytoj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Reklamos priemonė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Firmos įvaizd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Reklamavimo būd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Reklaminis praneš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Iliustra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Antrašt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Tek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Šūk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eklamos</a:t>
            </a:r>
            <a:r>
              <a:rPr b="1" lang="lt-LT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lt-LT" sz="3200" spc="-1" strike="noStrike">
                <a:solidFill>
                  <a:srgbClr val="9933ff"/>
                </a:solidFill>
                <a:latin typeface="Times New Roman"/>
              </a:rPr>
              <a:t>kūr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80880" y="1828800"/>
            <a:ext cx="3181320" cy="4008240"/>
            <a:chOff x="380880" y="1828800"/>
            <a:chExt cx="3181320" cy="4008240"/>
          </a:xfrm>
        </p:grpSpPr>
        <p:pic>
          <p:nvPicPr>
            <p:cNvPr id="72" name="PAV21" descr=""/>
            <p:cNvPicPr/>
            <p:nvPr/>
          </p:nvPicPr>
          <p:blipFill>
            <a:blip r:embed="rId3"/>
            <a:stretch/>
          </p:blipFill>
          <p:spPr>
            <a:xfrm>
              <a:off x="2057040" y="2637000"/>
              <a:ext cx="1219320" cy="8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AV22" descr=""/>
            <p:cNvPicPr/>
            <p:nvPr/>
          </p:nvPicPr>
          <p:blipFill>
            <a:blip r:embed="rId4"/>
            <a:stretch/>
          </p:blipFill>
          <p:spPr>
            <a:xfrm>
              <a:off x="1904760" y="1828800"/>
              <a:ext cx="1417680" cy="48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MP_LOGO" descr=""/>
            <p:cNvPicPr/>
            <p:nvPr/>
          </p:nvPicPr>
          <p:blipFill>
            <a:blip r:embed="rId5"/>
            <a:stretch/>
          </p:blipFill>
          <p:spPr>
            <a:xfrm>
              <a:off x="380880" y="1990080"/>
              <a:ext cx="1388880" cy="177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VIZIT4" descr=""/>
            <p:cNvPicPr/>
            <p:nvPr/>
          </p:nvPicPr>
          <p:blipFill>
            <a:blip r:embed="rId6"/>
            <a:stretch/>
          </p:blipFill>
          <p:spPr>
            <a:xfrm>
              <a:off x="380880" y="3929400"/>
              <a:ext cx="3181320" cy="190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removirsu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eklaminis </a:t>
            </a:r>
            <a:r>
              <a:rPr b="1" lang="lt-LT" sz="3200" spc="-1" strike="noStrike">
                <a:solidFill>
                  <a:srgbClr val="9933ff"/>
                </a:solidFill>
                <a:latin typeface="Times New Roman"/>
              </a:rPr>
              <a:t>skelb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remosonasd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AV_2" descr=""/>
          <p:cNvPicPr/>
          <p:nvPr/>
        </p:nvPicPr>
        <p:blipFill>
          <a:blip r:embed="rId3"/>
          <a:stretch/>
        </p:blipFill>
        <p:spPr>
          <a:xfrm>
            <a:off x="914400" y="1295280"/>
            <a:ext cx="1720800" cy="4876920"/>
          </a:xfrm>
          <a:prstGeom prst="rect">
            <a:avLst/>
          </a:prstGeom>
          <a:ln w="0">
            <a:noFill/>
          </a:ln>
        </p:spPr>
      </p:pic>
      <p:pic>
        <p:nvPicPr>
          <p:cNvPr id="80" name="REK4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3492360" cy="470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removirsu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eklaminis </a:t>
            </a:r>
            <a:r>
              <a:rPr b="1" lang="lt-LT" sz="3200" spc="-1" strike="noStrike">
                <a:solidFill>
                  <a:srgbClr val="9933ff"/>
                </a:solidFill>
                <a:latin typeface="Times New Roman"/>
              </a:rPr>
              <a:t>skelb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AV_3" descr=""/>
          <p:cNvPicPr/>
          <p:nvPr/>
        </p:nvPicPr>
        <p:blipFill>
          <a:blip r:embed="rId2"/>
          <a:stretch/>
        </p:blipFill>
        <p:spPr>
          <a:xfrm>
            <a:off x="5715000" y="1523880"/>
            <a:ext cx="2792520" cy="4191120"/>
          </a:xfrm>
          <a:prstGeom prst="rect">
            <a:avLst/>
          </a:prstGeom>
          <a:ln w="0">
            <a:noFill/>
          </a:ln>
        </p:spPr>
      </p:pic>
      <p:pic>
        <p:nvPicPr>
          <p:cNvPr id="84" name="PAV_4" descr=""/>
          <p:cNvPicPr/>
          <p:nvPr/>
        </p:nvPicPr>
        <p:blipFill>
          <a:blip r:embed="rId3"/>
          <a:stretch/>
        </p:blipFill>
        <p:spPr>
          <a:xfrm>
            <a:off x="0" y="609480"/>
            <a:ext cx="2297160" cy="6248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895480" y="35053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lyginkim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remosonasd" descr=""/>
          <p:cNvPicPr/>
          <p:nvPr/>
        </p:nvPicPr>
        <p:blipFill>
          <a:blip r:embed="rId4"/>
          <a:stretch/>
        </p:blipFill>
        <p:spPr>
          <a:xfrm>
            <a:off x="8505720" y="0"/>
            <a:ext cx="63828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ma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lt-LT" sz="3200" spc="-1" strike="noStrike">
                <a:solidFill>
                  <a:srgbClr val="ff3300"/>
                </a:solidFill>
                <a:latin typeface="Times New Roman"/>
              </a:rPr>
              <a:t>Elektroninė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 rekl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kompas" descr=""/>
          <p:cNvPicPr/>
          <p:nvPr/>
        </p:nvPicPr>
        <p:blipFill>
          <a:blip r:embed="rId2"/>
          <a:stretch/>
        </p:blipFill>
        <p:spPr>
          <a:xfrm>
            <a:off x="1447920" y="1600200"/>
            <a:ext cx="2133360" cy="1854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62160" y="3428640"/>
            <a:ext cx="33526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pausdintin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eiklos pristaty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eklama Intern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2" name="removirsus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remoonas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380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Elektroninė  </a:t>
            </a:r>
            <a:r>
              <a:rPr b="1" lang="lt-LT" sz="3200" spc="-1" strike="noStrike">
                <a:solidFill>
                  <a:srgbClr val="ff3300"/>
                </a:solidFill>
                <a:latin typeface="Times New Roman"/>
              </a:rPr>
              <a:t>spausdintinė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 rekl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638680" y="1828800"/>
            <a:ext cx="2210040" cy="3657600"/>
            <a:chOff x="5638680" y="1828800"/>
            <a:chExt cx="2210040" cy="3657600"/>
          </a:xfrm>
        </p:grpSpPr>
        <p:pic>
          <p:nvPicPr>
            <p:cNvPr id="96" name="" descr=""/>
            <p:cNvPicPr/>
            <p:nvPr/>
          </p:nvPicPr>
          <p:blipFill>
            <a:blip r:embed="rId3"/>
            <a:stretch/>
          </p:blipFill>
          <p:spPr>
            <a:xfrm>
              <a:off x="5848920" y="1828800"/>
              <a:ext cx="1387800" cy="287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638680" y="4833360"/>
              <a:ext cx="2210040" cy="65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800" spc="-1" strike="noStrike">
                  <a:solidFill>
                    <a:srgbClr val="000000"/>
                  </a:solidFill>
                  <a:latin typeface="Times New Roman"/>
                </a:rPr>
                <a:t>Spalvų sistemos 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lt-LT" sz="1800" spc="-1" strike="noStrike">
                  <a:solidFill>
                    <a:srgbClr val="000000"/>
                  </a:solidFill>
                  <a:latin typeface="Times New Roman"/>
                </a:rPr>
                <a:t>B ir CMY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676520" y="2133720"/>
            <a:ext cx="342900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Grafikos Program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CorelDr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dobe Photosh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Microsoft PhotoDraw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Grafx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4T21:32:43Z</dcterms:created>
  <dc:creator>mes</dc:creator>
  <dc:description/>
  <dc:language>en-US</dc:language>
  <cp:lastModifiedBy>mes</cp:lastModifiedBy>
  <cp:lastPrinted>2000-05-15T04:45:18Z</cp:lastPrinted>
  <dcterms:modified xsi:type="dcterms:W3CDTF">2000-05-25T23:25:48Z</dcterms:modified>
  <cp:revision>63</cp:revision>
  <dc:subject/>
  <dc:title>Reklamos rengimas kompiuterinėmis technologijomis</dc:title>
</cp:coreProperties>
</file>