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2B0-C9DB-4E66-B744-E55FCD80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E7A-7B90-4F3C-9352-A8308270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E49-6C46-468E-9DD4-A40C703B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CD7-A0B4-4C74-A5E2-925E9330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1792-671E-4BBC-AB18-E45639F4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875-50C1-4762-AACB-FDDE45BD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2570-629E-45EE-9786-F8B3F59F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319-DECD-48BC-9085-8CBCAD68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C17-4A7F-410C-B8F4-80B55971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E638-D118-47FD-838B-6D612767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9BEC-9137-4D03-A20D-0A5DFD55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1C4-F962-4E13-BF31-196197FA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8692-0890-4E65-B6E3-95103660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832-493B-4002-8C9A-44F08CF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A6A3-225A-4ACF-83E9-949346D5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8F62-ADC5-4C8F-A51C-40E95BD6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C724-8294-4370-B022-A01C6CA0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1A9-3518-4AC2-B8E1-8E15C02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110-37D9-42BF-8F50-76A77B8F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4D8-3001-4751-A920-3CB95226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431-26C5-479D-A30C-785EB68E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C7D-1D98-450A-B2DF-6623CF7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851-FB1F-401D-BA87-92F54FD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E52-C978-4621-8F29-E3A869F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079-DC0B-4B2A-A825-929D5CCC6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0C79-FA17-45E5-9C4F-CCF03415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lt-LT" sz="4000" spc="-1" strike="noStrike">
                <a:solidFill>
                  <a:srgbClr val="221304"/>
                </a:solidFill>
                <a:latin typeface="Times New Roman"/>
              </a:rPr>
              <a:t>DUOMENŲ BAZĖS IR  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2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Informacijos sistemos gyvavimo ciklas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Organizacijos i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nformacin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rchitekt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0400" y="5040000"/>
            <a:ext cx="6934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.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as palaikymas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nuolat besikeičiantį produktą daug sunkiau aptarnauti;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esnis programavimo proceso valdymas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nkiau suvaldyti nuolat besikeičiančius testavimo planus, projektų dokumentus ir t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326-FBF4-40C0-9311-A2E7E5B30E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Fontano” tipo IS GC model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7040" y="1542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11812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778-2D11-4160-848A-6111B552B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architektūra – pagrindinis organizacijos IT planavimo įrank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oje organizacijoje yra keletas įvairios paskirties IS, kurios kompiuterizuoja atskiras veiklos 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ai aišku, kad reikalingas vieningas IS planavimo būdas, kuris išspręstų IS kūrimo ir p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 proble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s architektūros paskir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ad kiekvienas veiklos dalyvis – vadybininkas, gamybininkas ar informatikas, IS skyriaus specialistas - turėtų tokį patį supratimą apie veiklą (veiklos modelį savo galvoj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305-D4AA-493C-8297-9ACB55524F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architektūros sudėt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keletas skirtingų informacinės architektūros sudėties apibūdinimų (modelių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ikiamas vienas iš labiau paplitus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nė architektūra susided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tokių sluoksni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Pagrindas yra organizacijos IT infrastruk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kre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tikrinanti paskirstytus duomenų šaltinius, būtinus organizacijos veiklai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entralizuota informacinės architektūros da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ecentralizuota IA dalis - funkcinės IS, kitos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AEC-BDC5-47C3-93E2-F624EC8837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3920" y="1995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838080"/>
          <a:ext cx="82328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2328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A8A-3E42-4C6A-A487-0C3E3653C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ntralizuota IA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dal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 nulem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ganizacijos informa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reik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ome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un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570-9AB3-4530-8D0C-0FF2FE0EAF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uota 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pima organizacijos veiklos funkcijų IS (funkcines IS) ir paslaugų IS (kompiuterizuotos darbo vietos individualiems skaičiavimams, E-mail ir kt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skirsto organizacinio valdymo (vadybos) hierarchijos lygiais: strateginės IS, vadybos IS, žinių IS, operatyvaus valdymo IS (skirstomos pagal funkcijas į finansų valdymo IS, gamybos valdymo IS, apskaitos IS, personalo vadybos IS ir kito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b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štinės IS ir komunikavimo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5FE-3A2E-4F2C-A7C8-4534CA3566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chninius įrengini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laugas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o personalą, kuris aptarnauja organizacijos techninę įrang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75E-B932-4991-913A-DFA5A805F1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infrastruktū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eda i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ės techninės įrangos ir jų programinė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endros paskirties programinės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ų perdavimo ir saugoj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chnologinės priemo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duomenų bazių valdymo sistemų (DB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ių tinklų ir komunikacinių įre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vadybos personalo (IS skyriaus personal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289-5FBC-40AF-B60C-6AA4C6570C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171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img024IA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6D2-D2B8-4568-885D-5D0352071A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ISTEMOS GYVAVIMO CIKLAS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vedame svarbią sąvoką – sistemos gyvavimo ciklas (system life cyc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yvavimo ciklas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žinerij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odologijos realizav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ces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ode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ekviena iš metodologijų reikalauja atitinkamo gyvavimo ciklo, kuris efektyviai realizuoja metodologijos galimyb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to, gyvavimo ciklo parinkimas susijęs su turimos programinės įrangos galimybė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E07-8A21-4655-965C-2C80C40246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Funkcinės IS ir inf. archite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81504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401-D83E-4CD6-BBD2-0796D6B8A2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2880" y="304920"/>
            <a:ext cx="7772400" cy="5665680"/>
            <a:chOff x="1442880" y="304920"/>
            <a:chExt cx="7772400" cy="5665680"/>
          </a:xfrm>
        </p:grpSpPr>
        <p:sp>
          <p:nvSpPr>
            <p:cNvPr id="196" name=""/>
            <p:cNvSpPr/>
            <p:nvPr/>
          </p:nvSpPr>
          <p:spPr>
            <a:xfrm>
              <a:off x="1598040" y="307800"/>
              <a:ext cx="102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Organ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800" y="4968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8160" y="496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40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0780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Tarnaujanči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4968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rupė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416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2080" y="68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42640" y="307800"/>
              <a:ext cx="51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S tip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076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31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8120" y="30780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nformac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8640" y="3078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07160" y="3078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s 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1032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99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52600" y="30492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2120" y="3049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492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304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0960" y="30492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392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11840" y="30492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2880" y="312840"/>
              <a:ext cx="97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312840"/>
              <a:ext cx="936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0392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0736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8720" y="87948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rateg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720" y="87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796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7600" y="879480"/>
              <a:ext cx="77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yriausiej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7240" y="10666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88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720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6360" y="882720"/>
              <a:ext cx="60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Vadov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106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7080" y="133200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1332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7760" y="155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2680" y="8794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m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61560" y="879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3400" y="8794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krypties progno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1880" y="1066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852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5760" y="1254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5760" y="125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59520" y="1254240"/>
              <a:ext cx="211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operacinio planavimo IS 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6972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5760" y="1441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5760" y="14414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160" y="1441440"/>
              <a:ext cx="225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biudžetas prognozavim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17320" y="1441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1625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5080" y="1625760"/>
              <a:ext cx="118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lno planav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7320" y="162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2880" y="8748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87480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32120" y="8748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1480" y="87480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304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0960" y="87480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92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87480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0736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880" y="882720"/>
              <a:ext cx="97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120" y="882720"/>
              <a:ext cx="936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304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392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0736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8360" y="18208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9680" y="182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96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18208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idutinio lygi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7240" y="2008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188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720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8160" y="1820880"/>
              <a:ext cx="65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8520" y="2008080"/>
              <a:ext cx="90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8880" y="219564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MIS)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708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77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4564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257184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prendim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09920" y="2571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8160" y="2759040"/>
              <a:ext cx="73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laik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8880" y="294624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DS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7480" y="2946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8320" y="1820880"/>
              <a:ext cx="2707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valdymo IS; Inventor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07600" y="2008080"/>
              <a:ext cx="248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controlės IS; kasmetinio biudžet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6160" y="2195640"/>
              <a:ext cx="210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pitalo investicij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304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9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51880" y="23828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95320" y="2382840"/>
              <a:ext cx="24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vimų regiono anaizės IS; Gamyb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6520" y="2571840"/>
              <a:ext cx="219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lanavimo IS; Kašt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17520" y="2571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4720" y="2571840"/>
              <a:ext cx="444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in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06880" y="2759040"/>
              <a:ext cx="279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nalizės IS; Kontraktinių kaštų analizės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98280" y="275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880" y="18176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2600" y="1817640"/>
              <a:ext cx="1379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2120" y="181764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1480" y="1817640"/>
              <a:ext cx="141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304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0960" y="1817640"/>
              <a:ext cx="1542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392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1840" y="1817640"/>
              <a:ext cx="339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0736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2880" y="182412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1824120"/>
              <a:ext cx="936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392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0736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8720" y="314172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ų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2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7960" y="31417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37240" y="3328920"/>
              <a:ext cx="60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om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444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2240" y="35164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96000" y="35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0080" y="3703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404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37960" y="389088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37600" y="40798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uomenim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560" y="4079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7720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7200" y="4449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9240" y="314172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yb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58520" y="3328920"/>
              <a:ext cx="113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KW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3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9960" y="3516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tinio intelekt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9240" y="37036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inklai (ANN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468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57800" y="3890880"/>
              <a:ext cx="41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iur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58880" y="4079880"/>
              <a:ext cx="110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utomati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8520" y="426240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OA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516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3141720"/>
              <a:ext cx="262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arbo stočių inžinerija; Graf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080" y="3328920"/>
              <a:ext cx="20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otys;Valnadčios darbo stoty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159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6880" y="3516480"/>
              <a:ext cx="22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odžio apdorojimas; Dokument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0" y="3703680"/>
              <a:ext cx="2478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uošimas; Elektroniniai kalendo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972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2880" y="31370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31370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2120" y="31370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1480" y="31370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304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960" y="31370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0392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11840" y="31370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20736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144960"/>
              <a:ext cx="97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2120" y="3144960"/>
              <a:ext cx="936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304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0392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0736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8000" y="4645080"/>
              <a:ext cx="107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Operac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172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9360" y="4645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64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ykdant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984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7240" y="4834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1880" y="4834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720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8520" y="4645080"/>
              <a:ext cx="62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andėri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8880" y="483408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doroj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59240" y="502128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TP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98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4960" y="520848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5208480"/>
              <a:ext cx="58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r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8880" y="5396040"/>
              <a:ext cx="79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funkcinės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8880" y="5583240"/>
              <a:ext cx="91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7440" y="5770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1640" y="5770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9040" y="4645080"/>
              <a:ext cx="262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ilės sekimo IS; orderių apdoroj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616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07960" y="4834080"/>
              <a:ext cx="28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ašinų kontrolės IS; Sodinimo plan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07240" y="502128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S; grynųjų pinigų valdy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410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6880" y="5208480"/>
              <a:ext cx="245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tlyginimai, paruošimas &amp; kūri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6520" y="5396040"/>
              <a:ext cx="178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arnautojų įrašų sekimo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9160" y="539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2880" y="46418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52600" y="46418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120" y="46418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46418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304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0960" y="46418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392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1840" y="46418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736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2880" y="464976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452600" y="5962680"/>
            <a:ext cx="1379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2120" y="4649760"/>
            <a:ext cx="9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32120" y="59626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1480" y="5962680"/>
            <a:ext cx="1411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5304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304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0960" y="5962680"/>
            <a:ext cx="154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392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92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11840" y="5962680"/>
            <a:ext cx="3395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20736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7960" y="5965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A4B-4372-4B88-997E-99E7373664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Transakcijų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P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ir 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valdymo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ir MIS yra skirstomos pagal funkcines sr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rdavimo ir marketing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ansų ir apskaitos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sonalo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iklausomai nuo pramonės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868-363F-48C5-BC0D-3A31AE6948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in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 IS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KW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tos darbuotojam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tvarkantiems veikl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žini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s (pvz., naujų gaminių ar technologijų projektuotojai)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N – dirbtiniai neuroniniai tinkl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- ekspertinė sist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52D-9916-43FD-B066-FDACFB7B61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Integr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49600" y="1676520"/>
            <a:ext cx="3219120" cy="2285640"/>
            <a:chOff x="3549600" y="1676520"/>
            <a:chExt cx="3219120" cy="2285640"/>
          </a:xfrm>
        </p:grpSpPr>
        <p:sp>
          <p:nvSpPr>
            <p:cNvPr id="416" name=""/>
            <p:cNvSpPr/>
            <p:nvPr/>
          </p:nvSpPr>
          <p:spPr>
            <a:xfrm>
              <a:off x="4787640" y="167652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S (E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49600" y="2019240"/>
              <a:ext cx="7426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60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87640" y="339084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PS fun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6040" y="201924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3032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29228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4460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692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68440" y="3276720"/>
              <a:ext cx="618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530680" y="3276720"/>
              <a:ext cx="619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97560" y="25909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283000" y="2247840"/>
              <a:ext cx="7430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4168440" y="2361600"/>
              <a:ext cx="185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292280" y="304812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92280" y="236196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55600" y="3809880"/>
            <a:ext cx="875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administravimo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– vadybos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– sprendimo priėmimo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ų (funkcinė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– ofiso automatizavimo siste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S – žinių sistemos (pvz., kompiuterizuoto projektavimo CAD siste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40E-9A5A-435A-8B22-AED0FC2FFB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Informacijos sistem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ų klasifikavimas pagal integravimo laips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komosios sistemos gamybos veiklai valdy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kiroms funkcijoms kompiuterizuoti; šio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žai susij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rpusavyje, pvz., įrenginių kontrolės IS , gamybos planavimo IS, sandėliavimo apskaito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- materialių resursų planavimo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integruoja atskiras funkcines gamybo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II – gamybos resursų planavimo 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M – integruotos gamybos sistemos (stambesnė už MRP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RP – įmonės resursų planavim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organizacinės IS, kurios plečia 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myb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C8F-3C5E-4B8C-BBDA-961E7151FC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evoliucij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a. 5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ui skirta programinė įr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o IS, kuri galėjo atlikti elementarius skaičiavimus, prognozes, ataskaitas ir 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taigi verslo IS plėtra panaudojant elektronines telekomunikacijas (bilietų rezervavimo sistemos ir kt.), taip pat prasidėjo sprendimų priėmimo sistemų vystym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dirbtinio intelekto ir ekspertinių sistemų plė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E5C-A935-4C05-BC01-05B113621B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Tradicinis  (top-down) arba “krioklio tipo” GC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uktūrinei-funkcinei IS inžinerij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bjektinis (bottom-up) arba “fontano” tipo GC, skirtas realizuoti O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inžinerijo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Iteracinis GC (spi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tipo), realizuojantis evoliucinį IS 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Lygiagretusis GC, taikomas dideliems projektams, kuriuos vykdo dide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ojektavimo ko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SCRUM metodas, kurio privalumas - lei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 keisti reikalavimus IS kiekviename projektavimo etape bet kuriuo momen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F80-ACA5-4E2D-B799-3A6849606F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yra sukurta daug (virš 50) CASE paketų, kiekvienas realizuoja savo gyvavimo ciklo modelį, kuris kažkuo skiriasi nuo kitų sistemų G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, CASE sistema “Rational Rose”  grindžiama gyvavimo ciklu, kuris vadin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 – Rational Unified Proces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0C5-C551-4AB3-8783-D53945F294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25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Tradicinis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krioklio tipo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IS k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rimo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gyvavimo cikla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78264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4760" y="870120"/>
            <a:ext cx="161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124308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330200"/>
            <a:ext cx="203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2505240" cy="5061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0000" y="1712880"/>
            <a:ext cx="19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ikalavimų 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inei įran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4400" y="187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2040" y="2438280"/>
            <a:ext cx="2505240" cy="495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2514600"/>
            <a:ext cx="136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stemos (architektūr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2400" y="2666880"/>
            <a:ext cx="20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 (log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087720"/>
            <a:ext cx="2505240" cy="493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0640" y="309708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(detalusis) 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32544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fiz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2040" y="4008600"/>
            <a:ext cx="2505240" cy="309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097160"/>
            <a:ext cx="149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avimas (Kod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2040" y="447192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5840" y="4481640"/>
            <a:ext cx="193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atskirų dali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7520" y="46371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2040" y="493236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4080" y="5019840"/>
            <a:ext cx="20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IS 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2040" y="539280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547992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eksploa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5853240"/>
            <a:ext cx="2505240" cy="309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480" y="59421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palaiky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8720" y="108900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9120" y="113652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8720" y="15508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9120" y="160020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8720" y="293364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98116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8720" y="43178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69120" y="436572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47782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9120" y="482616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8720" y="523872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9120" y="52894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570060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9120" y="574992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8720" y="5950080"/>
            <a:ext cx="1335240" cy="366480"/>
          </a:xfrm>
          <a:custGeom>
            <a:avLst/>
            <a:gdLst/>
            <a:ahLst/>
            <a:rect l="l" t="t" r="r" b="b"/>
            <a:pathLst>
              <a:path w="841" h="231">
                <a:moveTo>
                  <a:pt x="0" y="134"/>
                </a:moveTo>
                <a:lnTo>
                  <a:pt x="0" y="231"/>
                </a:lnTo>
                <a:lnTo>
                  <a:pt x="841" y="231"/>
                </a:lnTo>
                <a:lnTo>
                  <a:pt x="8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7240" y="5853240"/>
            <a:ext cx="7632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3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0" y="843120"/>
            <a:ext cx="1001520" cy="8604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3960" y="12081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1857240"/>
            <a:ext cx="1001520" cy="1998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279072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0" y="4008600"/>
            <a:ext cx="1001520" cy="2154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41720" y="4267080"/>
            <a:ext cx="89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nstravimas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(Taikomosios programinės įrango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8680" y="1703520"/>
            <a:ext cx="144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32320" y="175248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3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8680" y="385596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2320" y="39052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3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031760"/>
            <a:ext cx="1440" cy="422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2400" y="936720"/>
            <a:ext cx="75960" cy="102960"/>
          </a:xfrm>
          <a:custGeom>
            <a:avLst/>
            <a:gdLst/>
            <a:ahLst/>
            <a:rect l="l" t="t" r="r" b="b"/>
            <a:pathLst>
              <a:path w="48" h="65">
                <a:moveTo>
                  <a:pt x="0" y="65"/>
                </a:moveTo>
                <a:lnTo>
                  <a:pt x="25" y="0"/>
                </a:lnTo>
                <a:lnTo>
                  <a:pt x="48" y="65"/>
                </a:lnTo>
                <a:lnTo>
                  <a:pt x="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144612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49520" y="1203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54080"/>
            <a:ext cx="1440" cy="180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185724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5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375120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299120" y="2772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9FC-3814-4C3A-B926-4E6024943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IS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GC etap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pavadinima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analiz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kalavimų programinei įrangai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os (architektūros) projektavimas (log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(detalusis) projektavimas (fiz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vimas (Kod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atskirų dalių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IS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ksploa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laik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95B-F6A7-4507-BE9F-6D00A72E0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Tradicinio IS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kūrimo metu neatsižvelgiama į evoliucinius (kompiuterizuojamos sistemos) pakit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šiuo metodu (“iš viršaus žemyn” – top down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 siejama su veik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mi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i labai abejotinas daly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jos nuolat k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metodu “iš viršaus žemyn” yra atlie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funkcinė dekompozicija, duomenų struktūrų aspektas užmirštamas, kartais visi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ėl paminėtų priežasčių struktūrinis-funkcinis IS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jektav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 bū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š viršaus žemyn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inka siekiant sukurti pakartotino panaudojimo programinę įrangą (reusability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75E-6AD7-40C8-861F-EE7C2EF286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piralės 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tipo GC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1840" y="24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6C8-EB6F-4A4A-9EAC-5A0B62832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Spiralės tipo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ekada nesibaigiantys projek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adangi "spiralės" modeliui būdingas nuolatinis tų pačių programos funkcijų peržiūrėjimas ir tobulinimas, o tobulinimui ribų nėra, atsiranda rizika, jog projektas niekada nesibaigs, jei jam nenustatytas termi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žinomi kaš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ugeliu atvejų neaišku, kiek iteracijų reikės praeiti, kol projektas bus galutinai įgyvendintas, todėl praktiškai neįmanoma apskaičiuoti jo trukmės ir kašt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E41-93FC-4381-ABF3-96BCD2DDE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Saulius</cp:lastModifiedBy>
  <cp:lastPrinted>2002-08-27T15:34:20Z</cp:lastPrinted>
  <dcterms:modified xsi:type="dcterms:W3CDTF">2002-09-18T06:01:05Z</dcterms:modified>
  <cp:revision>81</cp:revision>
  <dc:subject/>
  <dc:title>Informacinės sistemos gamybos valdymui  IT apibrėžimas ir klasifikacija</dc:title>
</cp:coreProperties>
</file>