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AD3D-609B-4199-A102-E66E3FAF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BF9-3BDE-4B5D-9967-901601FF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95C9-D858-41DB-845B-0E320C13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E61-B067-498C-8110-A1B11836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E853-6EED-457F-A942-561896F2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93F4-74E1-408B-90D6-13F5C1EA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5426-2CB5-47E2-B518-5ACCE36A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D9CE-195C-455A-9F80-66B73BAF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7E2A-CDE6-4BFD-94A2-7B6B605E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139C-2678-46FC-A0D6-211C658C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040B-696E-4BBB-BC1C-8228AC8C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6CD-EB3C-4F9B-A881-DFB1E873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5208-0931-4362-A444-5FF59427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4C61-292D-485C-9493-024C2948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39CC-6AAB-4171-B92D-81DFEDB7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AC33-3864-4E72-BBA6-468C32A0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E972-B906-4E98-BCF8-726C93F1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59F-3330-42BB-9DCC-88C1CECE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454-EF6E-40AE-B915-FB159040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F7F5-020F-4880-B77F-367B29B5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C744-3378-4B25-8779-92D28549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9D5B-CA95-4153-9E58-E965F663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3EEB-FC50-4182-9154-3E73DEF1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7A3-A5A2-479F-8720-96D66771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0240" y="228600"/>
            <a:ext cx="892656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00160" y="1600200"/>
            <a:ext cx="831060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27944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98720" y="610704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740040" y="610704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454520" y="61070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846B-CBF8-4F29-A582-546D794A3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73120" y="201600"/>
            <a:ext cx="909792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27944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6200" y="4130640"/>
            <a:ext cx="11286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17432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816360" y="60958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531200" y="60958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387B-79EF-4EF6-86C2-C3BC35062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vakarai.lt/klientam/tinklai/teorija/111.htm" TargetMode="External"/><Relationship Id="rId2" Type="http://schemas.openxmlformats.org/officeDocument/2006/relationships/hyperlink" Target="http://www.vakarai.lt/klientam/tinklai/teorija/111.htm" TargetMode="External"/><Relationship Id="rId3" Type="http://schemas.openxmlformats.org/officeDocument/2006/relationships/hyperlink" Target="http://www.vakarai.lt/klientam/tinklai/teorija/112.htm" TargetMode="External"/><Relationship Id="rId4" Type="http://schemas.openxmlformats.org/officeDocument/2006/relationships/hyperlink" Target="http://www.vakarai.lt/klientam/tinklai/teorija/112.htm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DUOMEN</a:t>
            </a: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 BAZ</a:t>
            </a: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Ė</a:t>
            </a: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S IR </a:t>
            </a: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INFORMACIJOS SISTEMOS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1 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askait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5040000"/>
            <a:ext cx="81536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oc. Saulius Gu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825516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jos sistem</a:t>
            </a:r>
            <a:r>
              <a:rPr b="1" lang="lt-LT" sz="28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en-US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in</a:t>
            </a:r>
            <a:r>
              <a:rPr b="1" lang="lt-LT" sz="2800" spc="-1" strike="noStrike">
                <a:solidFill>
                  <a:srgbClr val="221304"/>
                </a:solidFill>
                <a:latin typeface="Times New Roman"/>
              </a:rPr>
              <a:t>žinerijos</a:t>
            </a:r>
            <a:r>
              <a:rPr b="1" lang="lt-LT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lt-LT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ąsajos su kitomis mokslo sritim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66840" y="1481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66840" y="1481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17760" y="2133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52480" y="1523880"/>
          <a:ext cx="7543800" cy="45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754380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061E-AAA2-4AF3-A86B-064CE0D101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38400" y="294840"/>
            <a:ext cx="8462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jos sistemų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 inžinerijos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ąsajos su kitomis mokslo sritim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niu požiūriu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chnical approaches)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vystymuisi turi įtakos informatika (computer science), operacijų tyrimas, vadybos moks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gsenos požiūr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havioral approaches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grinėja IS kūrimo ir IS eksploatavimo (palaikymo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us. Svarbiausios problemos yra strateginis veiklos integravimas,  veiklos kompiuterizavimo IS projektavimas ir realizavimas, kompiuterizuoti vadybos procesai. Šių veiklos sričių modelių kompiuterizavimas  grindžiamas techninio požiūrio modeliais ir metodai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trečias požiūris į IS vietą organizacijos veikloje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sociotechnologinis požiūris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E0C3-0E4F-4220-86C5-9818CA50A0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55600" y="380880"/>
            <a:ext cx="8255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rganizacijos dal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ių sąsaja su IT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5600" y="1371600"/>
            <a:ext cx="8255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5 pagr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ndinė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cijos dal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emi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eiklą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ormuo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us į aplinkos poveiki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anizacijos struktūra ir bendroji kultū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anizacijos strategi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ybos ir biznio (verslo) proces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ividai ir jų rol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formacinė technologija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57800" y="3886200"/>
            <a:ext cx="4038480" cy="2133720"/>
            <a:chOff x="5257800" y="3886200"/>
            <a:chExt cx="4038480" cy="2133720"/>
          </a:xfrm>
        </p:grpSpPr>
        <p:sp>
          <p:nvSpPr>
            <p:cNvPr id="119" name=""/>
            <p:cNvSpPr/>
            <p:nvPr/>
          </p:nvSpPr>
          <p:spPr>
            <a:xfrm>
              <a:off x="5257800" y="4739760"/>
              <a:ext cx="38448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719200" y="4739760"/>
              <a:ext cx="57672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11600" y="4739760"/>
              <a:ext cx="57672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65400" y="4739760"/>
              <a:ext cx="57672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42280" y="4099320"/>
              <a:ext cx="34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4228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8832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4248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0404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49680" y="3886200"/>
              <a:ext cx="34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4968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0384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5764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91180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42280" y="4953240"/>
              <a:ext cx="76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88320" y="4953240"/>
              <a:ext cx="57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42480" y="4953240"/>
              <a:ext cx="5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5593320"/>
              <a:ext cx="403848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4968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0384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94988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10404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DD2-61FE-4091-8F6F-D18EB3756B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55600" y="380880"/>
            <a:ext cx="825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IT apibūdin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5560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aur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sme 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rmacini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ch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ė dalis: techninė įranga, DB valdymo sistema, kompiuterinis tinklas, sisteminė programinė įran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kit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engin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čiąja prasme 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rganizacijos techninė, komunikacin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programin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ang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turi atitikti veiklos sričių poreikius. Atsiradus naujoms veiklos problemoms ar pasikeitus veiklos pobūdžiui, seni IT sprendimai turi būti modifiku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6A9-6A37-47A0-902C-BF4308DFFF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55600" y="380880"/>
            <a:ext cx="825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IT dal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55600" y="1752480"/>
            <a:ext cx="8255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 metu organizacijos IT skirstoma į dal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eginės sistemos,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rtos pirmavimui konkurencinėje kovoje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olatinio veiklos tobulinimo darb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ų sist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Verslo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so reinžinerij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PR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sist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Verslo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erystė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s sist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 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ktroni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ė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ercij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os siste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yra viena iš organizacijos IT sudedamųjų dalių. Efektyvus veiklos sričių tvarkymas gali būti tik įdiegus atitinkamos paskirties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2D92-2E50-4728-AB34-CE29AD22F8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1998720"/>
            <a:ext cx="891540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S KOMPONENT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Įei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– tai veiklos problemos, duomenys, nurodymai, galimyb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pdorojim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tai programos, įranga (technika), žmonės, D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šei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ataskaitos, grafikai, skaičiavimo rezultatai, sprendim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aldym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lyvauja sprendimą priimantys asmen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90720" y="1219320"/>
            <a:ext cx="8048160" cy="2412360"/>
            <a:chOff x="990720" y="1219320"/>
            <a:chExt cx="8048160" cy="2412360"/>
          </a:xfrm>
        </p:grpSpPr>
        <p:sp>
          <p:nvSpPr>
            <p:cNvPr id="147" name=""/>
            <p:cNvSpPr/>
            <p:nvPr/>
          </p:nvSpPr>
          <p:spPr>
            <a:xfrm>
              <a:off x="990720" y="1219320"/>
              <a:ext cx="1005840" cy="6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įeig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60240" y="2942640"/>
              <a:ext cx="1508760" cy="68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valdym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81400" y="1219320"/>
              <a:ext cx="1257480" cy="6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išeig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57320" y="1219320"/>
              <a:ext cx="2012040" cy="6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apdorojim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96560" y="1563840"/>
              <a:ext cx="176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69360" y="1563840"/>
              <a:ext cx="20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769000" y="1908720"/>
              <a:ext cx="2515320" cy="137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014800" y="1908720"/>
              <a:ext cx="0" cy="10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1493280" y="1908360"/>
              <a:ext cx="2766600" cy="137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138480" y="380880"/>
            <a:ext cx="49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 yra IS funkciniu požiūri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32F-9DB3-4CCD-9F80-15CFBC8B80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5240" y="380880"/>
            <a:ext cx="8255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Naujų</a:t>
            </a: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IT vystymosi krypty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371600"/>
            <a:ext cx="891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a tenden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ertinant kainos efektyvumo p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kompiuteriai vis labiau pirmaus prieš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gaus darb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is labiau dominuos draugišk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gui interfeisai (kalba, vaizdas ir k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ugojimo įrengin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alpa labai iša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om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augyk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ehou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Jose bus saugoja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 visi veiklos duomenys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erabait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bai išaugs daugialypių ter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multimedijos) panaudoj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us diegia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ntelektualios siste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yr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bjektiškai orientuotas (OO) programavima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8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tys kompiuteriai bus dar labiau kompaktišk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1B7A-FEA1-4FE7-A34E-71D3E3BB10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73160" y="0"/>
            <a:ext cx="8255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Naujų</a:t>
            </a:r>
            <a:r>
              <a:rPr b="0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IT vystymosi krypty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3160" y="1447920"/>
            <a:ext cx="8528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tosi skaičiavima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mpiuterių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e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pagrįstos sistemos, kurių technologinis pagrindas -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lien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/server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 siste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Ta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raujan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rchitek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labiau įsiga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pernešami kom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ter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bas namuose su ko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uter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– perspektyvi srit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terneto reikš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naudojimas išaugs. Bus sukurtas informacijos supergreitkel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tranetas taps vyraujančia tinklo sistema organizacijo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stysis elektroninė komercija iš es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keisdam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rganizacijų veiklos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izn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o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telektua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programiniai agentai (so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are agent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naršys duom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bazes taupydami 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lai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3182-BF4A-41AF-B4E5-EFC8E1B2DF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mpiuteriniai tinklai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r informaci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jos sistemo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rbus IS vaidmuo organizacijos veikloje yra paaiškinamas išaugusiu skaičiavimo technikos (techninės ir programinės įrangų) galingu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 kainos mažėjim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iuterinių sistemų pajėgu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 išaug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siradus kompiuterių tinklams.  Jie susiejo skirtingas darbo vietas, įgalino bendrai naudotis vieninga duomenų baze, paskirstyti informaciją pagal darbo vietų poreiki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turėjo įtakos organizacijų struktūrų pokyčiams, veiklos formoms ir metodam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D053-1079-4F28-BECC-F28039C9D0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mpiuterinių tinklų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ompiuterinių tinklų topologijų tip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"/>
              </a:rPr>
              <a:t>Bendros magistralės</a:t>
            </a: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2"/>
              </a:rPr>
              <a:t> (Bus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3"/>
              </a:rPr>
              <a:t>Žvaigždės</a:t>
            </a: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4"/>
              </a:rPr>
              <a:t> (Star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edo (Ring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žio (Tree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as su kiekvienu (Mesh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E4E-84F6-481C-9528-BB496EB72F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4160" y="580680"/>
            <a:ext cx="93567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as yra informaci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jos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istema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formac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sistema (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enka, apdoroja, saugo, analizuoja ir paskirsto informaciją, turinčią konkrečią paskirt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organizacijos veiklo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os a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or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i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uomenis) i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formuoja išei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taskaitas, 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vestin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uos nusiunčia vartotojui arba kitai sistem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os veikia tam tikroje aplinko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 organizacinėje aplinkoje, technologinėje aplinko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os sistemos yra informacinės technologijos, įdiegtos organizacijoje, dali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57C1-8C3B-49D4-BAEA-F001EC1899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Magistral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ė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s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05240" y="3048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111a" descr=""/>
          <p:cNvPicPr/>
          <p:nvPr/>
        </p:nvPicPr>
        <p:blipFill>
          <a:blip r:embed="rId1"/>
          <a:stretch/>
        </p:blipFill>
        <p:spPr>
          <a:xfrm>
            <a:off x="2063880" y="1371600"/>
            <a:ext cx="5448240" cy="1341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21120" y="2476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111b" descr=""/>
          <p:cNvPicPr/>
          <p:nvPr/>
        </p:nvPicPr>
        <p:blipFill>
          <a:blip r:embed="rId2"/>
          <a:stretch/>
        </p:blipFill>
        <p:spPr>
          <a:xfrm>
            <a:off x="1219320" y="2819520"/>
            <a:ext cx="3467160" cy="3200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21120" y="2476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111c" descr=""/>
          <p:cNvPicPr/>
          <p:nvPr/>
        </p:nvPicPr>
        <p:blipFill>
          <a:blip r:embed="rId3"/>
          <a:stretch/>
        </p:blipFill>
        <p:spPr>
          <a:xfrm>
            <a:off x="5410080" y="2895480"/>
            <a:ext cx="3549600" cy="32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A6AA-1055-4381-9446-B510FD87E1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Žvaigždės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38560" y="26766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112a" descr="star topology picture"/>
          <p:cNvPicPr/>
          <p:nvPr/>
        </p:nvPicPr>
        <p:blipFill>
          <a:blip r:embed="rId1"/>
          <a:stretch/>
        </p:blipFill>
        <p:spPr>
          <a:xfrm>
            <a:off x="1238400" y="1752480"/>
            <a:ext cx="3714480" cy="3429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21120" y="2476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112b" descr=""/>
          <p:cNvPicPr/>
          <p:nvPr/>
        </p:nvPicPr>
        <p:blipFill>
          <a:blip r:embed="rId2"/>
          <a:stretch/>
        </p:blipFill>
        <p:spPr>
          <a:xfrm>
            <a:off x="5448240" y="1600200"/>
            <a:ext cx="388008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2BE5-4DD6-4486-9C69-5E0D324AE6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Žiedo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06880" y="2724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590920" y="1828800"/>
          <a:ext cx="4724280" cy="42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828800"/>
                    <a:ext cx="472428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60E5-AEFF-49C4-BAA2-31B814EF8C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221304"/>
                </a:solidFill>
                <a:latin typeface="Times New Roman"/>
              </a:rPr>
              <a:t>Mesh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86360" y="27097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989440" y="2133720"/>
          <a:ext cx="4381200" cy="39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9440" y="2133720"/>
                    <a:ext cx="4381200" cy="39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7052-D173-4361-A77A-9F8E0324B8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IS klasifikavima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IS gali būti klasifikuojama pag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ganizacinės struktūros lygme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Funkcines veiklos sr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ompiuterizuojamo proceso (pagalbos) pobūd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istemos architektūr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eiklos, kuri kompiuterizuojama, valdymo lygmen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F059-399F-4C8B-ADED-6257E210F3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38040" y="685440"/>
            <a:ext cx="8057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IS klasifikacija pagal organizacinės struktūros lygmenis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dalin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Šio tipo IS dažniausiai būna skirta tik konkrečią funkciją atliekančiam padaliniui, pvz., žmogiškųjų išteklių valdymo IS skirta personalo skyri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ganizacijo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Šio tipo IS skirta kelių arba visų organizacijos padalinių funkcijų kompiuterizav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porganizacinės I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ai sudėtingos IS, kompiuterizuojanti kelių organizacijų veiklos procesus ar funkcijas, pvz.: pasaulinė aviabilietų rezervavimo sistem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4BE1-7FFB-4D51-BC0C-D8D5E7C1D4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Klasifikacija pagal veiklos 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f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unkcines sriti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82551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skaitos 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organizacijos apskaitos procesu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an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organizacijos finansų valdym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mybo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gamybos procesus, jų valdymą ir kontrolę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ketingo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ompiuterizuoja veiklos marketingo procesu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sonalo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organizacijos personalo valdymo funkci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B145-0510-4A66-99AD-7CC0A6C7FF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Klasifikacija pagal pagalbos pob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ū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d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į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55240" y="144792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PS – transakci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unkcin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veiklos sr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č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adybos informacijos sistema (Management IS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AS - rašt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iso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S - grupinio darbo informacijos sistemos (group suport system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SS - sprendimo pr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mo 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IS – vadovo IS (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ecutive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S – intelektualio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kspert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sistemos (ES), neuroni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ink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istemos (AN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B1D-D09A-4496-8327-E37CF9B04F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IS klasifikacija pagal architektūrą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j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k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čiavim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maš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agrindu veikiančios I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infram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istem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ski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ersonal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kompiuter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agrindu sudaryt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I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kirstytos informacijos sistemos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istributed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A13-91D1-460A-A720-F0498DDB58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Klasifikacija pagal veiklos valdymo lygmenį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peratyv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s valdym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rb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mybos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perational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adybos IS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nagerial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trateginės IS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rategic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A01-85AB-427E-B33F-49DC13ED242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as yra informaci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jos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istema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prastai organizacijos informacijos sistema (dar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u informacija ir priemonių visuma) yra dalinai kompiuterizuota, skirstoma į nekompiuterizuo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lį ir kompiuterizuo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lį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ustumo dėlei, mes sąvoką “kompiuterizuota informacijos sistema” toliau pakeisime terminu “informacijos sistema (IS)”, kadangi nekompiuterizuotų darbų su informacija nenagrinės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4D2-A9A5-47F9-A75B-18D6EC13CA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5240" y="704880"/>
            <a:ext cx="8255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jos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istemos sudėti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55240" y="1371240"/>
            <a:ext cx="8255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rindinia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kiekvieno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jo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sistemos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mponentai yr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chninė įranga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įrenginių rinkinys tokių kaip procesorius, monitorius, klaviatūra ir spausdintuvas, kurie priima duomenis, apdoroja ir išveda ju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inė įranga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programų rinkinys, kuris įgalina techninę įrangą apdoroti duomen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uomenų bazė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susijusių failų, lentelių, ryšių ir t.t. rinkinys, kuriame saugomi duomenys ir asociacijos tarp j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nkla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omunikacij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a, kuri leidžia resursų pasidalijimą tarp skirtingų kompiuteri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cedūros</a:t>
            </a:r>
            <a:r>
              <a:rPr b="0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instrukcijų rinkinys apie tai, kaip apjungti aukščiau išvardintus komponentus tam, kad būtų galima apdoroti informaciją ir sugeneruoti pageidaujamą rezultat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Žmonės</a:t>
            </a:r>
            <a:r>
              <a:rPr b="0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tokie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rganizacijos darbuotoj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e naudojasi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ba naudoja j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ultatu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, taip pat informatikos specialistai, kurie užtikrina IS funkcionavim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C66-0900-485A-A31D-330AF25F44D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20840" y="304920"/>
            <a:ext cx="784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nės sistemos </a:t>
            </a:r>
            <a:r>
              <a:rPr b="1" lang="lt-LT" sz="2600" spc="-1" strike="noStrike">
                <a:solidFill>
                  <a:srgbClr val="221304"/>
                </a:solidFill>
                <a:latin typeface="Times New Roman"/>
              </a:rPr>
              <a:t>sudėtis ir sąsaja su organizacija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2600280" y="20383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21859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1523880"/>
          <a:ext cx="8585280" cy="451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523880"/>
                    <a:ext cx="858528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E3D-54B4-4804-8D28-CD2E1A02C71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 PROGRAMINĖS ĮRANGOS TIPAI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24120" y="2166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2120" y="1143000"/>
          <a:ext cx="883260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883260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88D-FFF8-4E22-B71F-AC0E9254B0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veiklos efektyvumui svarbios informacinės technologijos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 (1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817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 klasifikacija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 yr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arptautinės mokslininkų grupės darbo rezulta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T srities pavadinimas,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rbos įvert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Adekvačios biznio procesui IT infrastruktūros sukūrimas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9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Biznio proceso perprojektavimo kompiuterizavimas                     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7,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Paskirstytų IS kūrimas ir tvarkymas.                                                       7,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Organizacijos informacinės architektūros kūrimas ir realizavimas.        7,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Komunikacinių tinklų planavimas ir tvarkymas.                                     7,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IS kūrimo efektyvumo didinimas.                                                            7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Duomenų šaltinio tikslinio naudojimo užtikrinimas.                               7,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IS personalo kvalifikacijos kėlimas.                                                         7,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IS organizavimas atsižvelgiant į organizacijos struktūros vystymąsi.     7,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IS strateginio planavimo įvertinimas.                                                     6,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9D8F-B718-4F7E-BEA9-747C5146EC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veiklos efektyvumui svarbios informacinės technologijos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 (2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A.Kolektyvinio darbo sistemų kūrimas ir valdymas.                               6,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B.IS efektyvumo ir našumo matavimas.                                                   6,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Supratimo apie IS vaidmenį ir įtaką organizacijai didinimas.                 6,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Organizacijos personalo apmokymo kompiuterizavimas.                       6,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Esamos IS valdymas.                                                                                6,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Galutiniam vartotojui skirtų IS kūrimas ir tvarkymas.                             6,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IS panaudojimas konkurenciniam pirmavimui.                                        6,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Atvirų sistemų planavimas ir integravimas (skirtingų IS integravimas)  6,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Elektroninių duomenų mainų (EDI) kūrimas ir tvarkymas.                     5,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Atskirų informacinių paslaugų nuomavimas (outsourcing).                     5,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0F54-D745-41AF-AD1C-0DE0432E0E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3160" y="456840"/>
            <a:ext cx="808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nių technologijų 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įtaka veiklai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3804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ima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as 1997 metų pabaigoje, nustat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kia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rbiausias I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įtako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cij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rit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Našumo didinimas (improving productivity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Savikainos mažinimas (reducing cost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Priimamų sprendimų gerinimas (improving decision making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Ryšio su vartotojais tobulinimas (enhancing customer relation­ship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Naujų st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ginės paskirties IS kūrimas (developing new strategic application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18A-5ADB-4EA9-95F6-F5E091CAA1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dėl reikia IS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240" y="1676160"/>
            <a:ext cx="8255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laikinio biznio aplinkos savybė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 kurios reikalauja kompiuterizuotų 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izavi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dyba ir kontrolė globalioje rinko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urencija pasaulio rink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inės darbo grup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inės produkto paskirstymo sist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9BE0-5A9B-4658-861C-128778A455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dėl reikia IS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5240" y="1371600"/>
            <a:ext cx="8255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laikinio biznio aplinkos savybė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 kurios reikalauja kompiuterizuotų 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dustrinės ekonomikos pokyči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niomis ir informacija grindžiama ekonom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ktyv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ji produktai ir paslau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nios: pagrindinis gamybos ir strateginis tur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urencija, kurioje svarbus laiko faktorius (time-based compet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mpesnis produkto gyvavimo laik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bulentinė apli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botas darbuotojų žinių bagaž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FE81-E192-436F-876D-053F63D190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dėl reikia IS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laikinio biznio aplinkos savybė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 kurios reikalauja kompiuterizuotų 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3.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iklos pokyči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nės struktūros plokštėjimas (flatte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aldymo d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entr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eiklos slanku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 (flexi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ietumas nuo geografinės padėties (location independ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mos transakcijų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eikl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ordinavimo ka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uotojo teisių didėjimas (empower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lektyvinis darbas ir grupinis dar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B889-497F-4A27-A81E-19F5E469BC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47:31Z</dcterms:created>
  <dc:creator>Rasa</dc:creator>
  <dc:description/>
  <dc:language>en-US</dc:language>
  <cp:lastModifiedBy>isd</cp:lastModifiedBy>
  <cp:lastPrinted>2002-08-27T15:34:20Z</cp:lastPrinted>
  <dcterms:modified xsi:type="dcterms:W3CDTF">2002-09-11T14:42:15Z</dcterms:modified>
  <cp:revision>86</cp:revision>
  <dc:subject/>
  <dc:title>Informacinės sistemos gamybos valdymui  IT apibrėžimas ir klasifikacija</dc:title>
</cp:coreProperties>
</file>