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278-36C7-4D84-9B23-B752B734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96C-8EB6-4DCB-9196-F1D005FB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BB6-2FC4-4DD3-8125-5378F1F5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96E-45E6-4DB3-88AD-666479FA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E086-E87A-4274-8C0A-0A252E8F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21AD-1673-48D4-A27E-031604F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35A9-97A3-47B1-8B57-100E4E9F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F847-2AFE-4571-9790-326406BD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8309-B92B-467F-A1B9-A5FA25BB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336F-0729-4867-9797-F1CF813E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2D2B-DEB1-4CAD-A5FE-D80D684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527-A11E-4391-811F-A5EC19FF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B15A-EFC0-429A-ACCC-B3141AAC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3B5A-0884-4CF9-BD17-6A45D51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E15C-6734-4B05-A4D0-F4E64BD3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D986-3058-4912-9655-B526236F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AD52-36B0-4E58-A78A-C5F2B33F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9A8-CEB4-4B29-B30F-C946EE9B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560-619E-4C95-A8DD-A791B88E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FC1-8880-4212-972A-2FE18D7E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911-0F83-4244-98E7-80847FA9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598-4E70-4862-8D43-DFC680B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F73-9A01-410B-9DD5-BBDF0EC7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558-C13F-4FB0-A35C-4D18FBB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9542-B093-4BBC-BE48-684EABD34C3F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DDAA-295A-481C-8F85-12BBE382CB1F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arkoz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ės teorij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9:27:00Z</dcterms:created>
  <dc:creator>Antanas</dc:creator>
  <dc:description/>
  <dc:language>en-US</dc:language>
  <cp:lastModifiedBy>Antanas</cp:lastModifiedBy>
  <dcterms:modified xsi:type="dcterms:W3CDTF">2004-01-08T10:30:51Z</dcterms:modified>
  <cp:revision>1</cp:revision>
  <dc:subject/>
  <dc:title>Narkozės teorijos</dc:title>
</cp:coreProperties>
</file>