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716-0760-485D-8DE8-E1AF1C96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926-0258-4492-A228-61D874DC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5B1-0F93-4EC7-8087-9E880E3F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6AC-B16D-48F9-AD8E-8E002825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59EB-0DEA-41E5-AB7B-E0FD2159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39DA-1788-4A15-8A0A-3C87E50F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D7E5-B514-446F-887D-617A7D66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282E-1799-426B-8F5F-95EAE324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9E34-4077-4BC4-8804-0309CF2E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CD71-E9D1-45D9-B374-7B8CF6A1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CD10-85F9-4927-89D9-DC0797B4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205-E3B8-4ECC-A215-32B4467B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ADA4-C0E4-4A87-997E-D7F8627A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7B3F-FD42-4CE2-9926-FC365235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9A17-A48C-419D-B187-0B263A0E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E70F-890D-4CA3-8EBF-0F48D971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CB63-FC95-4DA4-9DA0-F0451182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801-E841-487E-A492-E8DD69D2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078-3714-4E39-BA96-4A10FF62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539-3FDF-4E5A-ADAE-2A75F14A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39F-31AD-4CAE-8172-E8C25555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570-B594-40E5-89AE-22390C2D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EEA-1F3E-4370-BBC4-CAF01800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6AF-5D11-4E48-A25F-0F6C8BED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1C65-4E73-4793-ABB2-B228FBDA46AC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1DB3-1156-4A01-BD7C-6DF17FF6CAE7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bbraunusa.com/stimuplex/stimuplex-hns11.html" TargetMode="External"/><Relationship Id="rId3" Type="http://schemas.openxmlformats.org/officeDocument/2006/relationships/hyperlink" Target="http://www.bbraunusa.com/stimuplex/stimuplex-dig.html" TargetMode="External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ma, kad graikų filosofas Dioskor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.pr.Kr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termin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ikimo mechanizmas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yer-Overton teor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estetiko veikimo stiprumas koreliuoja su jo tirpumu riebaluo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ie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Kai kurie riebaluose tirpios substancijos yra ne anestetikai, bet konvulsant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4572000" cy="450072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mo mechanizma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38156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Hidrofobinės baltymų (receptorių) sritys CNS yra anestetikų veik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Anestetikai sąveikauja su šiais baltymais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38280" y="1600200"/>
            <a:ext cx="4496040" cy="259704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5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imo mechanizmas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4343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irmiausiai veiki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GABAA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us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Jie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Wingdings 3"/>
                <a:ea typeface="Wingdings 3"/>
              </a:rPr>
              <a:t>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ų jautrumą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adidina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-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ukeltą Cl</a:t>
            </a:r>
            <a:r>
              <a:rPr b="1" lang="lt-LT" sz="2800" spc="-1" strike="noStrike" baseline="30000">
                <a:solidFill>
                  <a:srgbClr val="40458c"/>
                </a:solidFill>
                <a:latin typeface="Tahoma"/>
              </a:rPr>
              <a:t>-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rautą daugiau kaip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5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600200" y="1371600"/>
            <a:ext cx="5791320" cy="272088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24080" y="533520"/>
            <a:ext cx="1981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106668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371600" y="1371600"/>
            <a:ext cx="26668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75248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Vietin</a:t>
            </a: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175248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Region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371600"/>
            <a:ext cx="3810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48720" y="137160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676520"/>
            <a:ext cx="2438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Bendr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22096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33520" y="2438280"/>
            <a:ext cx="7617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909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avirš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438280"/>
            <a:ext cx="7621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filtr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2096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343040" y="289548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236232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eriferini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nerv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266720" y="403848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42900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Ganglijų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r nerv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rezg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66720" y="4800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45720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pidūr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6720" y="533412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51055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pin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266720" y="5943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56386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traveninė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region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848720" y="213372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2590920"/>
            <a:ext cx="28958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3124080"/>
            <a:ext cx="1066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hali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124080"/>
            <a:ext cx="12193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ubalansuo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345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3124080"/>
            <a:ext cx="1371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intraven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(TIVA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4956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Kaukin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4495680"/>
            <a:ext cx="18288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trachėj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r/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bronch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267080"/>
            <a:ext cx="1524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nestez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kas jutimų praradimas ir atsko į aplinkos dirgiklius nebuvim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formą pirmą kartą panaudojo H.Coote 18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g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mažintas arba iš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ęs skausmo pojūtis bei atsakas į skausminius dirgikli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dirbtinai sukeltas grįžtamas CNS slopinimas. Jos dalys: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kozė (sąmonės išnyk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 (skausmo išnykimas arba sumažėj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orelaksacija (skersaruožių raumenų atsipalaidav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vegetacinė blokada (vegetacinių funkcijų slopinima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pakankama, kai yra trys dalys:     1) narkozė (miegas); 2) nejautra (analgezija); 3)raumenų relasacija. Papildomai galima atlikti ir neurovegetacinę blokadą, tai priklauso nuo operacijos apimties ir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uroleptanalg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cientas yra ra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 motorinis aktyvu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/išnykęs baimės jaus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bejingumas aplinkai, esant sąmonei.Pacientas vykdo paliepimu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aistai: neuroleptikas (droperidolis) kartu su opioidiniu analgetiku (fentanil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ociacinė anestezija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klė, kuriai būdinga sedacija, nejudrumas, amnezija ir išreikšta analgezi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sukelti ketaminas, naudojamas vie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ę anesteziją galima sukelti, vartojan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ą (mononarkozė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s skirtingus anestetikus (daugiakomponentė anestezija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nius anestetikus su vietiniais anestetikais (mišrioj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ndrinius anestetikus su vaistas, veikiančiais tam tikrą bendrinės anestezijos komponentą (kombinuotoji anestezija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 anestezija – nedidelės kūno srities anestezija vietiniu anestetiku. Ji gali būti paviršinė (gleivinių ) ir infiltracinė.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ltracinė anestezija – vietinis anestetikas,sušvirkštas po oda, veikia juntamųjų nervų galines šak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nedidelės koncentracijos vietinių anestetikų tirpalai (pvz. 0.5-1% lidokaino, 1-2% novokaino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stas vietinis anestetikas pradeda veikti iš karto; veikimo trukmė priklauso nuo anestetiko rūšies bei priedų (pvz. adrenalin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o dozė priklauso nuo anestezuojamo plot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kiros kūno dalies (plaštakos, rankos, kojos) skausmo malšinimas vietiniais anestetikais, kurie veikia nervų kamienus, pluoštus, rezginius, nugaros smegenis. Ji gali būti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dinė nervų kamienų bei rezginių anestezija (blokada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, naudojant turniketus (blokada pagal Bier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bei epidūralinė aneste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nės nervų blokad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niausiai atliekamos operuojant viršu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patines galū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l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alia nervų ar nervinių kamienų, sutrikdo nervinio impulso plit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iausiai yra paplitę viršutinė galūnės nervinių rezginių blokados, nes ranką galima nuskausminti vienkartiniu anestetiko suleidimu. Norint anestezuoti koją, reika 2-3 anestetiko injekcij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os laid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klausomai nuo operuojamos srities, galima nus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ti atlikant interskaleninę (tarplaiptinę), supraklavikulinę, infraklavikulinę arba aksiliarinę (pažasties duobėje) petinio rezginio blokad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inis pluoštas nustatomas neurostimuliatoriaus pagalb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džiama apie 30-40ml anestetiko tirpalo. Naudojamas 1-2% lidokainas arba 0.5% bupivakain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sideda po 20-30 min., trunka keletą valand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raveninė 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</a:rPr>
              <a:t>Neurostimuliatoria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838080" y="1523880"/>
            <a:ext cx="6781680" cy="4571640"/>
            <a:chOff x="838080" y="1523880"/>
            <a:chExt cx="6781680" cy="4571640"/>
          </a:xfrm>
        </p:grpSpPr>
        <p:pic>
          <p:nvPicPr>
            <p:cNvPr id="309" name="" descr="Stimuplex HNS11 and Stimuplex Dig RC: The leading edge in Peripheral Nerve Block Equipment"/>
            <p:cNvPicPr/>
            <p:nvPr/>
          </p:nvPicPr>
          <p:blipFill>
            <a:blip r:embed="rId1"/>
            <a:stretch/>
          </p:blipFill>
          <p:spPr>
            <a:xfrm>
              <a:off x="838080" y="1523880"/>
              <a:ext cx="678168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>
              <a:hlinkClick r:id="rId2"/>
            </p:cNvPr>
            <p:cNvSpPr/>
            <p:nvPr/>
          </p:nvSpPr>
          <p:spPr>
            <a:xfrm>
              <a:off x="4334040" y="1523880"/>
              <a:ext cx="328572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>
              <a:hlinkClick r:id="rId3"/>
            </p:cNvPr>
            <p:cNvSpPr/>
            <p:nvPr/>
          </p:nvSpPr>
          <p:spPr>
            <a:xfrm>
              <a:off x="838080" y="1523880"/>
              <a:ext cx="322956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traveninė region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a viršutinės ir apatinės galūnių nuskausminimui, kuomet operacijos trukmė ne ilgesnė kaip 1 v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tinis anestetikas sušvirkščiams į galūnės, kurioje turniketo pagalba yra nutraukta kraujotaka, veną žemiau užspaud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, tekėdamas retrogradiškai, pasiekia kapiliarus ir patenka į ekstravaskulinį tarpą, kur nuskausmina nervines galūnė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augusio žmogaus anestezijai pakanka 35-40 ml anestetik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i nedidelės (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koncentracijos prilokaino, lidokaino ar mepivakaino tirpalai. Nenaudojamas bupivaka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38140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381400" cy="3791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2971800" y="2590920"/>
            <a:ext cx="2381400" cy="3171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3048120" y="30492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6172200" y="304920"/>
            <a:ext cx="2381400" cy="1590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172200" y="3352680"/>
            <a:ext cx="2381400" cy="1190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523880" y="1066680"/>
            <a:ext cx="0" cy="114300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267080"/>
            <a:ext cx="38088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114800" y="1981080"/>
            <a:ext cx="0" cy="60984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1066680"/>
            <a:ext cx="7621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1905120"/>
            <a:ext cx="0" cy="144756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inė blokad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(spinalinė, epidūralinė, kaudalinė), sukeliama vietinį anestetiką suleidus šalia centrinės nervų sistemos  struktūrų (nugaros smegenų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leidžiamas į nugaros smegenų subarachnoid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operuojant apatines galūnes, lytinius organus, šlapimo pūslę, prostatą, tarvietės, tiesiosios žarnos operacija, taip pat nuskausminant Cezario pjūvio oper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inalinės adatos su mandren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ai : Lidokain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arba Bupivakainas 0.5%, suleidžiama 3-4 m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6000"/>
                            </p:stCondLst>
                            <p:childTnLst>
                              <p:par>
                                <p:cTn id="9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švirkščiamas į epidūr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tais pačiais atvejais kaip spinalinė anestezij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p pat kaip analgezijos dalis bendrinės anestezijos metu, atliekant sudėtingas kraujagyslių, žarnyno, plaučių operacijas; gimdymo nuskausminimui bei pooperaciniam skasumui malšint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ecial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pidūrinės adatos 17G-18G Tuochy arba Weiss ir 20G epidūriniai kateteri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1-2% lidokaino arba 0.25-0.75% bupivakaino tirpalai,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 15-30 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a valdyti bloko aukštį bei anestezijos trukmę(per kateterį papildomai suleidžiant anestetiko), o taip pat motorinio bloko išreikštumą (keičiant anestetiko koncentraciją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000"/>
                            </p:stCondLst>
                            <p:childTnLst>
                              <p:par>
                                <p:cTn id="9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500"/>
                            </p:stCondLst>
                            <p:childTnLst>
                              <p:par>
                                <p:cTn id="9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6337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847 m. vasario 12 d. A.</a:t>
            </a: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Adomavičiaus paskaita apie etrį VU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vasario 23 d. A.Adomavičius ir L.Lechavičius Vilniujepademonstravo pirmąją eterio narkoz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gruodžio 21 d. L.Lechavičius Vilniuje atliko pirmąją chloroformo narkoz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1683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55 m. – pirmoji endotrachėjinė nejaut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0 m. – Vilniuje įkurtas pirmasis anesteziologijos skyriu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2 m. – įkurta Lietuvois anesteziologų-reanimatologų draugij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rkoz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ės teorij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5-01-24T13:31:48Z</dcterms:modified>
  <cp:revision>7</cp:revision>
  <dc:subject/>
  <dc:title>Aneteziologija iki eterio</dc:title>
</cp:coreProperties>
</file>