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34B-8DEF-4684-A276-3908190D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2AD-6D95-4BC7-99D5-4E88B50F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DEB-28F5-40C0-BEC1-5201F274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C7C-B0EF-4AC5-A870-C52C84B3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BC3F-7AC8-44A5-AD39-F33868D8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084D-0B68-4C34-925B-037EA1B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07FF-9BF5-4B87-864E-316E9915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CFA-B6C4-45A2-993D-6C273DD4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8100-1598-4B5C-9005-52E15711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5B5F-BB7F-466A-B0C9-C48F09BA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DB3E-D762-4EDE-894B-B0207EA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68D-F9D6-40AF-86C7-98D71B88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3870-B7E5-45B4-B560-972DA3BC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5D20-6A67-4179-BA75-A43CE5E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6382-E52B-46C7-B28D-870B7A2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B8BF-77F0-4B75-A7B7-5ECFD5AD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60E1-82DD-4BD8-AFF4-AE646572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43E-0957-4DDA-902C-E3217CCF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F1A-11BB-4A1B-A9B4-9EC80DFF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AFA-2690-4D91-AB66-277601B4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16B-A0C9-436B-9618-8166B5EC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953-FD9C-4C6E-A5BD-89750BC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BCF-0379-426D-BC0F-37A00CC6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051-A233-439B-A317-7B7E104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84B-DC58-43FF-ACF0-AE1558F35C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3596-122C-4C66-B448-CE85383A524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aikoma, kad graikų filosofas Dioskoridas I a.pr.Kr. panaudojo terminą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pibu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oformą pirmą kartą buvo panaudojo H.Coot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Intraveninė a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ė anestezija gimė 18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4-01-08T07:45:01Z</dcterms:modified>
  <cp:revision>1</cp:revision>
  <dc:subject/>
  <dc:title>Aneteziologija iki eterio</dc:title>
</cp:coreProperties>
</file>