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05A-7A94-4307-9520-F1AC9B16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1B4-E45C-45FD-BE03-6B4A5880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7C6-93EE-4E1C-BDAC-9140D661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2F4-2A93-4C2F-9742-5F94B5BE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2466-130F-46E2-9EA8-3B53DC66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004C-F6B2-47B6-9BC8-476F23C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494-0173-45BF-9C90-DF2F002E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F2ED-9DA2-4BF2-BF5C-F0769E87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2089-461A-4191-973A-7606A7C5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FA5-547F-45F9-8D13-77F972C9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78C4-2057-4125-A292-A27B442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AFC-F3B5-454B-A1D4-1D58EB97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3640-E017-49E6-8C27-2F90E9B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4D0E-1049-4829-A22B-DEC566EC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5E6A-9072-44BC-8D77-473D16EC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E223-D756-428F-994E-A7DDD59D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A9DB-AE27-4227-AA19-E300FB9B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0C5-AA92-46E4-A8BF-DF729C9F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399-253B-491B-8C66-77ECFABA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C6B-A89B-4FF1-B3EF-D4418D0C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877-2D11-40A8-94FD-084EF5F6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58F-F2D1-46E2-AFCD-04CCF4BB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E99-836D-4B4A-B8AC-1AC11648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16D-9903-419F-B660-81B8C292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F254-847A-4F63-8C57-660397AC7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E378-240C-444A-83A6-63319A544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lt-LT" sz="4000" spc="-1" strike="noStrike">
                <a:solidFill>
                  <a:srgbClr val="221304"/>
                </a:solidFill>
                <a:latin typeface="Times New Roman"/>
              </a:rPr>
              <a:t>DUOMENŲ BAZĖS IR  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2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Informacijos sistemos gyvavimo ciklas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Organizacijos i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nformacin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rchitekt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0400" y="5040000"/>
            <a:ext cx="69343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.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as palaikymas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nuolat besikeičiantį produktą daug sunkiau aptarnauti;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esnis programavimo proceso valdymas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nkiau suvaldyti nuolat besikeičiančius testavimo planus, projektų dokumentus ir t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D91-D463-4EF2-8D22-3FC1FCD55A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Fontano” tipo IS GC model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7040" y="15429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11812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716-0E7F-498A-ABF4-4864271E5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architektūra – pagrindinis organizacijos IT planavimo įrank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oje organizacijoje yra keletas įvairios paskirties IS, kurios kompiuterizuoja atskiras veiklos 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ai aišku, kad reikalingas vieningas IS planavimo būdas, kuris išspręstų IS kūrimo ir p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s proble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s architektūros paskir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ad kiekvienas veiklos dalyvis – vadybininkas, gamybininkas ar informatikas, IS skyriaus specialistas - turėtų tokį patį supratimą apie veiklą (veiklos modelį savo galvoj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A11-3534-4537-91E3-4A36122A5A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architektūros sudėt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keletas skirtingų informacinės architektūros sudėties apibūdinimų (modelių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ikiamas vienas iš labiau paplitus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nė architektūra susided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tokių sluoksni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Pagrindas yra organizacijos IT infrastruk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kre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žtikrinanti paskirstytus duomenų šaltinius, būtinus organizacijos veiklai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entralizuota informacinės architektūros da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Decentralizuota IA dalis - funkcinės IS, kitos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C29-9253-479D-B305-BE988769E2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3920" y="1995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838080"/>
          <a:ext cx="823284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23284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6D5-B02E-4219-97C4-D6663892E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entralizuota IA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dal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 nulemi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rganizacijos informa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reik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ome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un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E87-EAD8-4458-9B51-5465E1167C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uota 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pima organizacijos veiklos funkcijų IS (funkcines IS) ir paslaugų IS (kompiuterizuotos darbo vietos individualiems skaičiavimams, E-mail ir kt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skirsto organizacinio valdymo (vadybos) hierarchijos lygiais: strateginės IS, vadybos IS, žinių IS, operatyvaus valdymo IS (skirstomos pagal funkcijas į finansų valdymo IS, gamybos valdymo IS, apskaitos IS, personalo vadybos IS ir kitos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b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aštinės IS ir komunikavimo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DAF-4F5B-4438-8760-7CFFF8801E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chninius įrengini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laugas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o personalą, kuris aptarnauja organizacijos techninę įrang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8FB-0B67-47BB-B904-BD5E588AED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infrastruktū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eda i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ės techninės įrangos ir jų programinė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endros paskirties programinės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ų perdavimo ir saugoj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chnologinės priemo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duomenų bazių valdymo sistemų (DB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ių tinklų ir komunikacinių įre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vadybos personalo (IS skyriaus personal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D50-CC0B-4AB2-8807-7121FEA785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171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img024IA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E21-6045-4E59-A809-7D79B2879D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ISTEMOS GYVAVIMO CIKLAS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vedame svarbią sąvoką – sistemos gyvavimo ciklas (system life cyc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yvavimo ciklas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žinerij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odologijos realizav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ces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ode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iekviena iš metodologijų reikalauja atitinkamo gyvavimo ciklo, kuris efektyviai realizuoja metodologijos galimyb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 to, gyvavimo ciklo parinkimas susijęs su turimos programinės įrangos galimybė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5CA-0FDD-4D93-B4F6-C5A898D20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Funkcinės IS ir inf. archite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1080" y="1828800"/>
            <a:ext cx="815040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08B-85A3-4250-A4E6-BDA358F5D5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2880" y="304920"/>
            <a:ext cx="7772400" cy="5665680"/>
            <a:chOff x="1442880" y="304920"/>
            <a:chExt cx="7772400" cy="5665680"/>
          </a:xfrm>
        </p:grpSpPr>
        <p:sp>
          <p:nvSpPr>
            <p:cNvPr id="196" name=""/>
            <p:cNvSpPr/>
            <p:nvPr/>
          </p:nvSpPr>
          <p:spPr>
            <a:xfrm>
              <a:off x="1598040" y="307800"/>
              <a:ext cx="1020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Organ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3800" y="49680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8160" y="4968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40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2240" y="30780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Tarnaujanči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7880" y="4968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rupė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416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2080" y="68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42640" y="307800"/>
              <a:ext cx="51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S tip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076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31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8120" y="30780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nformac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8640" y="3078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07160" y="3078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s 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1032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99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52600" y="30492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2120" y="3049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492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304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0960" y="30492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0392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11840" y="30492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2880" y="312840"/>
              <a:ext cx="97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312840"/>
              <a:ext cx="936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0392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0736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48720" y="87948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rateg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720" y="87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8796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7600" y="879480"/>
              <a:ext cx="77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yriausiej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7240" y="10666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88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720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56360" y="882720"/>
              <a:ext cx="60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Vadov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7440" y="1106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7080" y="133200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2280" y="1332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7760" y="155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2680" y="8794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 m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61560" y="879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3400" y="8794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krypties progno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1880" y="10666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852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5760" y="1254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5760" y="125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59520" y="1254240"/>
              <a:ext cx="211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operacinio planavimo IS 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6972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5760" y="1441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5760" y="14414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9160" y="1441440"/>
              <a:ext cx="225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biudžetas prognozavim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17320" y="1441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1625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5080" y="1625760"/>
              <a:ext cx="118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lno planav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47320" y="162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2880" y="8748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52600" y="87480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32120" y="8748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41480" y="87480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304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0960" y="87480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92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87480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0736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880" y="882720"/>
              <a:ext cx="97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2120" y="882720"/>
              <a:ext cx="936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304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392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0736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8360" y="18208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9680" y="182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796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8320" y="182088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idutinio lygi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37240" y="2008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188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720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8160" y="1820880"/>
              <a:ext cx="65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8520" y="2008080"/>
              <a:ext cx="90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8880" y="219564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MIS)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708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77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4564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257184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prendim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09920" y="2571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8160" y="2759040"/>
              <a:ext cx="73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laik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58880" y="294624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DS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7480" y="2946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08320" y="1820880"/>
              <a:ext cx="2707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valdymo IS; Inventor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07600" y="2008080"/>
              <a:ext cx="248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controlės IS; kasmetinio biudžet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6160" y="2195640"/>
              <a:ext cx="210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pitalo investicij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304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9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51880" y="23828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95320" y="2382840"/>
              <a:ext cx="24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vimų regiono anaizės IS; Gamyb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06520" y="2571840"/>
              <a:ext cx="219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lanavimo IS; Kašt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17520" y="2571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24720" y="2571840"/>
              <a:ext cx="444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in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06880" y="2759040"/>
              <a:ext cx="279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nalizės IS; Kontraktinių kaštų analizės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98280" y="275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880" y="18176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2600" y="1817640"/>
              <a:ext cx="1379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32120" y="181764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1480" y="1817640"/>
              <a:ext cx="1411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304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0960" y="1817640"/>
              <a:ext cx="1542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392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1840" y="1817640"/>
              <a:ext cx="339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0736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2880" y="182412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2120" y="1824120"/>
              <a:ext cx="936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5304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392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0736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8720" y="314172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ų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82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7960" y="31417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37240" y="3328920"/>
              <a:ext cx="608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om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6444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2240" y="35164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96000" y="35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0080" y="3703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404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37960" y="389088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37600" y="40798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uomenim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560" y="4079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7720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7200" y="4449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9240" y="314172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yb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58520" y="3328920"/>
              <a:ext cx="113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KW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73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59960" y="35164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tinio intelekt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9240" y="37036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inklai (ANN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9468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57800" y="3890880"/>
              <a:ext cx="41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iur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58880" y="4079880"/>
              <a:ext cx="110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utomati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8520" y="426240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OA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516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3141720"/>
              <a:ext cx="262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arbo stočių inžinerija; Graf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080" y="3328920"/>
              <a:ext cx="205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otys;Valnadčios darbo stoty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159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6880" y="3516480"/>
              <a:ext cx="22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odžio apdorojimas; Dokument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7600" y="3703680"/>
              <a:ext cx="2478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uošimas; Elektroniniai kalendo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972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2880" y="31370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31370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32120" y="31370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1480" y="31370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304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0960" y="31370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0392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11840" y="31370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20736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144960"/>
              <a:ext cx="97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2120" y="3144960"/>
              <a:ext cx="936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304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0392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20736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48000" y="4645080"/>
              <a:ext cx="107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Operac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172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9360" y="4645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64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ykdant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5984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37240" y="4834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1880" y="4834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720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8520" y="4645080"/>
              <a:ext cx="627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andėri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58880" y="483408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pdoroj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59240" y="502128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TP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98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04960" y="520848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9920" y="5208480"/>
              <a:ext cx="58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r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58880" y="5396040"/>
              <a:ext cx="79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funkcinės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8880" y="5583240"/>
              <a:ext cx="91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57440" y="5770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1640" y="5770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09040" y="4645080"/>
              <a:ext cx="262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ilės sekimo IS; orderių apdoroj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7616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07960" y="4834080"/>
              <a:ext cx="284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ašinų kontrolės IS; Sodinimo plan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07240" y="502128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S; grynųjų pinigų valdy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410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6880" y="5208480"/>
              <a:ext cx="2455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tlyginimai, paruošimas &amp; kūri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6520" y="5396040"/>
              <a:ext cx="178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arnautojų įrašų sekimo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9160" y="539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2880" y="46418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52600" y="46418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120" y="46418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46418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304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0960" y="46418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0392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11840" y="46418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0736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2880" y="464976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452600" y="5962680"/>
            <a:ext cx="1379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32120" y="4649760"/>
            <a:ext cx="936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32120" y="59626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41480" y="5962680"/>
            <a:ext cx="1411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5304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304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0960" y="5962680"/>
            <a:ext cx="154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392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0392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11840" y="5962680"/>
            <a:ext cx="3395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20736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7960" y="5965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E12-231C-49C9-B6A4-58F0325948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Transakcijų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P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ir 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valdymo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ir MIS yra skirstomos pagal funkcines sr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rdavimo ir marketing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inansų ir apskaitos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sonalo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iklausomai nuo pramonės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C70-4CE8-48B0-AB09-0B6384D1CF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in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 IS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KW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tos darbuotojam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tvarkantiems veikl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žini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s (pvz., naujų gaminių ar technologijų projektuotojai)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N – dirbtiniai neuroniniai tinkla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- ekspertinė siste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02B-3FD2-4894-B6A5-E8532814BA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Integrav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49600" y="1676520"/>
            <a:ext cx="3219120" cy="2285640"/>
            <a:chOff x="3549600" y="1676520"/>
            <a:chExt cx="3219120" cy="2285640"/>
          </a:xfrm>
        </p:grpSpPr>
        <p:sp>
          <p:nvSpPr>
            <p:cNvPr id="416" name=""/>
            <p:cNvSpPr/>
            <p:nvPr/>
          </p:nvSpPr>
          <p:spPr>
            <a:xfrm>
              <a:off x="4787640" y="167652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S (E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49600" y="2019240"/>
              <a:ext cx="7426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960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87640" y="339084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PS fun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6040" y="201924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3032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29228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04460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9692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168440" y="3276720"/>
              <a:ext cx="618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530680" y="3276720"/>
              <a:ext cx="619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97560" y="25909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283000" y="2247840"/>
              <a:ext cx="7430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4168440" y="2361600"/>
              <a:ext cx="185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292280" y="304812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92280" y="236196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155600" y="3809880"/>
            <a:ext cx="8750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administravimo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– vadybos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– sprendimo priėmimo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ų (funkcinė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– ofiso automatizavimo siste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S – žinių sistemos (pvz., kompiuterizuoto projektavimo CAD siste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978-A2A5-438B-8028-84FE16615C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Informacijos sistem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ų klasifikavimas pagal integravimo laips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komosios sistemos gamybos veiklai valdy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kiroms funkcijoms kompiuterizuoti; šio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žai susij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rpusavyje, pvz., įrenginių kontrolės IS , gamybos planavimo IS, sandėliavimo apskaito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- materialių resursų planavimo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integruoja atskiras funkcines gamybo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II – gamybos resursų planavimo 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M – integruotos gamybos sistemos (stambesnė už MRP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RP – įmonės resursų planavim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organizacinės IS, kurios plečia 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myb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488-2D64-4D3A-9420-F4C0E9E3AF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evoliucij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a. 5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ui skirta programinė įr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o IS, kuri galėjo atlikti elementarius skaičiavimus, prognozes, ataskaitas ir k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taigi verslo IS plėtra panaudojant elektronines telekomunikacijas (bilietų rezervavimo sistemos ir kt.), taip pat prasidėjo sprendimų priėmimo sistemų vystym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dirbtinio intelekto ir ekspertinių sistemų plė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407-92C1-4EDC-863E-68FDE4D19D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Tradicinis  (top-down) arba “krioklio tipo” GC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ruktūrinei-funkcinei IS inžinerij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bjektinis (bottom-up) arba “fontano” tipo GC, skirtas realizuoti O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inžinerijo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Iteracinis GC (spi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tipo), realizuojantis evoliucinį IS 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Lygiagretusis GC, taikomas dideliems projektams, kuriuos vykdo dide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rojektavimo ko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SCRUM metodas, kurio privalumas - lei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 keisti reikalavimus IS kiekviename projektavimo etape bet kuriuo momen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D3E-C86F-4117-9387-0BDF5D5419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yra sukurta daug (virš 50) CASE paketų, kiekvienas realizuoja savo gyvavimo ciklo modelį, kuris kažkuo skiriasi nuo kitų sistemų G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, CASE sistema “Rational Rose”  grindžiama gyvavimo ciklu, kuris vadin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 – Rational Unified Proces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93A-3948-43CD-8975-7C8A5B158B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25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Tradicinis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krioklio tipo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 IS k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rimo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gyvavimo cikla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78264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4760" y="870120"/>
            <a:ext cx="161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124308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330200"/>
            <a:ext cx="203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676520"/>
            <a:ext cx="2505240" cy="5061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0000" y="1712880"/>
            <a:ext cx="19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ikalavimų 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inei įran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4400" y="187020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2040" y="2438280"/>
            <a:ext cx="2505240" cy="495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2514600"/>
            <a:ext cx="136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stemos (architektūr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2400" y="2666880"/>
            <a:ext cx="20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 (log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087720"/>
            <a:ext cx="2505240" cy="4935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0640" y="309708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(detalusis) 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1560" y="32544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fiz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2040" y="4008600"/>
            <a:ext cx="2505240" cy="309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097160"/>
            <a:ext cx="149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avimas (Kod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2040" y="447192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5840" y="4481640"/>
            <a:ext cx="193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atskirų dali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7520" y="463716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2040" y="493236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4080" y="5019840"/>
            <a:ext cx="20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IS 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2040" y="539280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9560" y="547992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eksploa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5853240"/>
            <a:ext cx="2505240" cy="309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480" y="594216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palaiky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8720" y="108900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9120" y="113652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8720" y="15508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69120" y="160020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8720" y="293364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98116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8720" y="431784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69120" y="436572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47782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9120" y="482616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8720" y="523872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9120" y="52894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570060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69120" y="574992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8720" y="5950080"/>
            <a:ext cx="1335240" cy="366480"/>
          </a:xfrm>
          <a:custGeom>
            <a:avLst/>
            <a:gdLst/>
            <a:ahLst/>
            <a:rect l="l" t="t" r="r" b="b"/>
            <a:pathLst>
              <a:path w="841" h="231">
                <a:moveTo>
                  <a:pt x="0" y="134"/>
                </a:moveTo>
                <a:lnTo>
                  <a:pt x="0" y="231"/>
                </a:lnTo>
                <a:lnTo>
                  <a:pt x="841" y="231"/>
                </a:lnTo>
                <a:lnTo>
                  <a:pt x="84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7240" y="5853240"/>
            <a:ext cx="7632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3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0" y="843120"/>
            <a:ext cx="1001520" cy="8604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3960" y="120816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1857240"/>
            <a:ext cx="1001520" cy="1998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7320" y="279072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0" y="4008600"/>
            <a:ext cx="1001520" cy="2154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41720" y="4267080"/>
            <a:ext cx="89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nstravimas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(Taikomosios programinės įrango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8680" y="1703520"/>
            <a:ext cx="144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32320" y="175248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3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8680" y="385596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2320" y="39052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3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031760"/>
            <a:ext cx="1440" cy="422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2400" y="936720"/>
            <a:ext cx="75960" cy="102960"/>
          </a:xfrm>
          <a:custGeom>
            <a:avLst/>
            <a:gdLst/>
            <a:ahLst/>
            <a:rect l="l" t="t" r="r" b="b"/>
            <a:pathLst>
              <a:path w="48" h="65">
                <a:moveTo>
                  <a:pt x="0" y="65"/>
                </a:moveTo>
                <a:lnTo>
                  <a:pt x="25" y="0"/>
                </a:lnTo>
                <a:lnTo>
                  <a:pt x="48" y="65"/>
                </a:lnTo>
                <a:lnTo>
                  <a:pt x="0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0" y="144612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349520" y="12031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954080"/>
            <a:ext cx="1440" cy="180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2400" y="185724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5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375120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299120" y="2772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E2C-7CD2-496C-A759-2282C5AEBA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IS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GC etap</a:t>
            </a: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pavadinima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analiz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kalavimų programinei įrangai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os (architektūros) projektavimas (log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(detalusis) projektavimas (fiz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vimas (Kod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atskirų dalių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IS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ksploa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laik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244-AFF4-4B3A-A5C0-72FB516F11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Tradicinio IS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kūrimo metu neatsižvelgiama į evoliucinius (kompiuterizuojamos sistemos) pakit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šiuo metodu (“iš viršaus žemyn” – top down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 siejama su veik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mi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i labai abejotinas daly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jos nuolat k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metodu “iš viršaus žemyn” yra atlie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funkcinė dekompozicija, duomenų struktūrų aspektas užmirštamas, kartais visi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ėl paminėtų priežasčių struktūrinis-funkcinis IS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jektav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 bū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š viršaus žemyn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tinka siekiant sukurti pakartotino panaudojimo programinę įrangą (reusability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B84-6ACA-45D9-90C0-415B903ED0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piralės 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tipo GC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1840" y="24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F38-DEEE-42BA-B064-76AA2C6136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Spiralės tipo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iekada nesibaigiantys projek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adangi "spiralės" modeliui būdingas nuolatinis tų pačių programos funkcijų peržiūrėjimas ir tobulinimas, o tobulinimui ribų nėra, atsiranda rizika, jog projektas niekada nesibaigs, jei jam nenustatytas termi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žinomi kaš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ugeliu atvejų neaišku, kiek iteracijų reikės praeiti, kol projektas bus galutinai įgyvendintas, todėl praktiškai neįmanoma apskaičiuoti jo trukmės ir kašt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E84-9B01-4462-BC32-9327784BF6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Saulius</cp:lastModifiedBy>
  <cp:lastPrinted>2002-08-27T15:34:20Z</cp:lastPrinted>
  <dcterms:modified xsi:type="dcterms:W3CDTF">2002-09-18T06:01:05Z</dcterms:modified>
  <cp:revision>81</cp:revision>
  <dc:subject/>
  <dc:title>Informacinės sistemos gamybos valdymui  IT apibrėžimas ir klasifikacija</dc:title>
</cp:coreProperties>
</file>