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DBBC-47B2-48C6-BF40-AD86184C6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AD01-CF4E-417B-9ED6-942BF933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DEF8-4FE7-4B5C-86DF-9F261A5F8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AFB1-5A6E-4320-AA34-BEB0D8285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8003-75C2-45F1-8313-E47AD366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390D-AAAD-4D2A-A53D-A676A9DC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4450-29C4-469D-BC46-80222418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152E-597F-43F9-930E-16E710DC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E430-579D-43A1-911A-02141A04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8106-77A8-4479-87F4-AEB6CC98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FB00-6A6E-4808-BD6A-0D238394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9203-B294-4925-B8B8-0B3514DB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105F-827B-46BF-8636-CE144C3462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ftp://ftp.isi.edu/in-notes/rfc2616.txt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600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33526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TRANSMISSION CONTROL PROTOCO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( RFC 79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ttp://www.faqs.org/rfcs/rfc793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file174298_left_right1" descr="Left-right"/>
          <p:cNvPicPr/>
          <p:nvPr/>
        </p:nvPicPr>
        <p:blipFill>
          <a:blip r:embed="rId1"/>
          <a:stretch/>
        </p:blipFill>
        <p:spPr>
          <a:xfrm>
            <a:off x="6553080" y="304920"/>
            <a:ext cx="2590920" cy="571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F084-F2D2-4AED-B464-B639FF9306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tankini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ekiant leisti daugeliui procesų viename hoste naudotis TCP komunikacijos įrankiais vienu metu, TCP tur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ibę porto adres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iekviename hos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or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umeris, sujungtas su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inkl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be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hos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dresu (iš internetinio komunikacijų lygmens) sudar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oket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oketų por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vienareikšmiškai apibrėžia kiekvieną susijungi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oketas vienu metu gali būti naudoja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daugelyj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usijungim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FD94-500D-42DD-9526-5062E9DC4B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sijungima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CP inicializuoja ir palaiko kiekvienam duomenų srautui tam tikrą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būvio informacij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ke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eilės numeria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angų dydžia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ieš pradedant procesams komunikuoti TCP tur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įkur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usijungimą (inicializacija būvio kiekvienoje pusėj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cesams baigus komunikacijas, susijungimas yr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uždaro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resursai atlaisvinami kiti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dangi susijungimai sudarom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epatikimoj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erpėj, susijungimai pradedami rankų paspaudimu, naudojant eilės numerius – siekiama išvengti klaidingų inicializacij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1505-C495-4FD2-9C66-7079E49CB7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Unicode MS"/>
              </a:rPr>
              <a:t>P</a:t>
            </a:r>
            <a:r>
              <a:rPr b="0" lang="lt-LT" sz="4400" spc="-1" strike="noStrike">
                <a:solidFill>
                  <a:srgbClr val="000000"/>
                </a:solidFill>
                <a:latin typeface="Arial Unicode MS"/>
              </a:rPr>
              <a:t>irmumas ir Saug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vartotojai opcijomis gali nurodyti saugą ir pirmumą susijusį su komunikaci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Kai šios reikšmės nenurodomos, naudojamos reikšmės pagal nutylėji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EBCE-C996-4B18-BA56-E505767DBE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Veiksmų model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roces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erduoda duomeni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viesda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CP ir perduodami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duomenų bufer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aip argumen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pakuoja duomenis iš šių buferių į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egment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ir kvieči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nterne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modulį perdavimui kiekvieno segmento gavėjo TC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Gavėj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talpina duomenis iš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egmen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į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artotoj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buferį ir informuoja vartotoj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į segmentus įtrauki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ontrolin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nformaciją, kuri naudojam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tikimam, eiliška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persiuntimui užtikrin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modulis užtikrina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CP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sąsają su lokaliu tinkl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AEC3-5C31-4D3D-A98E-F723ED779A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Veiksmai ho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t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operacin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istemos modul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rtotojai kreipiasi į jį kaip į failų siste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kviest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ki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operacinės sistemos funkcijas, pavyzdžiui kurios valdo duomenų struktū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Faktiškai sąsają su tinklu kontroliuoj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įrenginio draiveri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modul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esiogiai nesikreipia į įrenginio draiverį, jis kviečia internet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datagram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rotokolą, kuris kviečia įrenginio draiver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4CA3-AB26-4E97-8A7C-CE09C3FDB4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 Unicode MS"/>
              </a:rPr>
              <a:t>Patikima komunik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erdavimai tampa patikimais naudojant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eil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umer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be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tvirtinim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nseptualiai kiekvienas baitas turi savo eilės numer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irmojo baito segmente eilės numeris yra perduodamas kartu su segmentu ir yra vadina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egmen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eil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umeri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i turi ir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tvirtinimo numer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kurie rodo eilės numerį sekančio laukiamo duomenų baito atbulinėje perdavimo krypty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DFA4-3FCC-44CA-AB0C-DD81DC2DE6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kartotinas persiunt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Kai 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CP </a:t>
            </a:r>
            <a:r>
              <a:rPr b="1" i="1" lang="lt-LT" sz="2800" spc="-1" strike="noStrike">
                <a:solidFill>
                  <a:srgbClr val="000000"/>
                </a:solidFill>
                <a:latin typeface="Arial Unicode MS"/>
              </a:rPr>
              <a:t>perduoda segmentą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, kartu jo kopija įrašoma į </a:t>
            </a:r>
            <a:r>
              <a:rPr b="1" lang="lt-LT" sz="2800" spc="-1" strike="noStrike">
                <a:solidFill>
                  <a:srgbClr val="000000"/>
                </a:solidFill>
                <a:latin typeface="Arial Unicode MS"/>
              </a:rPr>
              <a:t>pakartotino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 perdavimo eilę ir startuojamas laikrod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Gavus šio persiuntimo patvirtinimą, segmentas yra išmeta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Jei patvirtinimas </a:t>
            </a:r>
            <a:r>
              <a:rPr b="1" lang="lt-LT" sz="2800" spc="-1" strike="noStrike">
                <a:solidFill>
                  <a:srgbClr val="000000"/>
                </a:solidFill>
                <a:latin typeface="Arial Unicode MS"/>
              </a:rPr>
              <a:t>negaunamas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 ir praeina užduotas laiko intervalas, segmento siuntimas pakartoja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397D-7F36-4381-A918-A535B4E567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 Unicode MS"/>
              </a:rPr>
              <a:t>Susijungi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oketų por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vienareikšmiškai apibūdina susijungimą tarp dviejų galinių tašk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Lokal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oketas gali dalyvau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augelyj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usijungimų su skirtingais išoriniais soket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sijungimas gali būti naudojamas duomenų perdavimu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biem krypti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CP gali surišti procesą su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bet kuriu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oketu. Tačiau “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gerai-žinom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” soketus TCP susieja tik su atitinkamais procesais(šie “valdo” tam tikrus portu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erai-žinomi soketai yra įprastas mechanizmas išankstiniam susiejimui soketo adreso su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tandartini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ervis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E139-B69F-4C03-9137-EC929F656F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sijungimo var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sijungimas inicijuojamas kreipiniu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PE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 argumentais: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lokalus portas, išorinis soke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CP grąžin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rump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lokalų susijungim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ard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kuriuo vartotojas gali naudotis sekančiuose veiksmu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formacija apie susijungimą(tam tikra duomenų struktūra) laikom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CB blok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nsmission Control Block 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okaliu susijungimo vardu gali būti naudojam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uorod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į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C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sijusi su šiuo susijungim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E5D7-74F6-4C70-839E-01720C2672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syvus OP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OPEN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kreipinys apsprendžia ar susijungimas bus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aktyvus ar pasyvu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Pasyvi OPEN užklausa – procesas nori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priimti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ateinančias susijungimo užklausas, o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ne inicijuoti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susijungimą (žada teikti servisą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Procesas, prašantis pasyvaus OPEN priims susijungimo užklausas iš kito h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Šiuo atveju išorinis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soketa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nurodomas visais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nuliai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, kas rodo nenusakytą soket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Nenusakyti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išoriniai soketai yra leidžiami tik pasyviems OP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D8BE-F707-4835-88D2-8B3830FDA3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iks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TCP 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protokolas skiriamas užtikrinti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patikimą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bendravimą tarp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host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ų komunikaciniuose tinklu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TCP yra į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susijungimu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orientuotas protokolas, suprojektuotas taikymui </a:t>
            </a:r>
            <a:r>
              <a:rPr b="1" i="1" lang="lt-LT" sz="2400" spc="-1" strike="noStrike">
                <a:solidFill>
                  <a:srgbClr val="000000"/>
                </a:solidFill>
                <a:latin typeface="Arial Unicode MS"/>
              </a:rPr>
              <a:t>sluoksninėje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protokolų hierarchijoje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tarptinklinių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aplikacijų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palaikymui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TCP užtikrina tarp-procesinį bendravimą tarp </a:t>
            </a:r>
            <a:r>
              <a:rPr b="1" i="1" lang="lt-LT" sz="2400" spc="-1" strike="noStrike">
                <a:solidFill>
                  <a:srgbClr val="000000"/>
                </a:solidFill>
                <a:latin typeface="Arial Unicode MS"/>
              </a:rPr>
              <a:t>poros procesų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, besisukančių tam tikruose hostuose, kurie yra skirtingi, bet komunikaciniais tinklais surišti kompiuteri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9C6B-9B1F-4C15-9743-5F5F6CD472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sijung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cesai gali išduoti pasyvų OPEN ir laukti atitinkamų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ktyvių OPEN,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teinančių iš kitų procesų, jiems atsiradus TCP informuoja juos apie susijungim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usidary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u procesai, kurie išdavė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ktyvius OPE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viens kitam tuo pačiu metu, bus teisingai sujung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irmu atveju susijungimas galimas su bet kuriuo išoriniu soketu, kuris yra nurodęs šį lokalų soketą, antru atveju susijungimas gali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ik su tam tikru soket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12C8-8A58-4C23-A7E5-2D87538467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sijungimo procedū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sijungimo procedūroje naudojam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YN vėliavėl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r jos metu vyksta apsikeitimas trimis pranešim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–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rijų pus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rankų paspaudimo procedū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sijungimas inicijuoja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teinanči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egmento su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Y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vėliavėle su laukiančiu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CB įėjim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ateinančio segment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oketas sutampa su laukiam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nusakytas tiksliai arba bet koks), susijungi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nicijuoja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sijungimas sukuriamas po to k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eilės numeriai yra susinchronizuojami abiem krypt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36BA-6BA9-4060-875F-312C3C49E1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 Unicode MS"/>
              </a:rPr>
              <a:t>Duomenų perd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Duomenys perduodami susijungimu – tai </a:t>
            </a: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baitų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seka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Jei siunčiamus duomenis reika tuoj pat perduoti gavėjui, tai </a:t>
            </a: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SEND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 f-joje naudojama </a:t>
            </a: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 vėliavėlė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Siunčiantis TCP gali </a:t>
            </a: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rinkti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 iš vartotojo ateinančius duomenis,(iš buferio, esančio vartotojo/TCP sąsajoj),  dalinti juos segmentais ir siųsti juos savo nuožiūra, arba atėjus </a:t>
            </a: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 vėliavėlei. Push nesiriša si segmento riba, push tik skelbia , kad reikia išsiųsti visus neišsiųstus duomeni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AF67-7763-427A-8D1E-9E4D9C9153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Unicode MS"/>
              </a:rPr>
              <a:t>P</a:t>
            </a:r>
            <a:r>
              <a:rPr b="0" lang="lt-LT" sz="4400" spc="-1" strike="noStrike">
                <a:solidFill>
                  <a:srgbClr val="000000"/>
                </a:solidFill>
                <a:latin typeface="Arial Unicode MS"/>
              </a:rPr>
              <a:t>irmumas ir saug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TCP naudoja interneto protokolo serviso tipas lauką bei saugos opcijas nusakydamas pirmenybę bei saugą atžvilgiu susijungi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Ne visi TCP moduliai funkcionuoja saugioje daugelio lygių aplinkoje (galimas ir vienas saugos lygi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TCP moduliai, kurie operuoja daugelio lygių saugos aplinkoje, turi tiksliai atžymėti išeinančius segmentus pirmumo, saugos indikatori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Tokie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TCP modul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iai turi teikti aukštesnio lygio protokolams nusakyti norimą saugos lygį, pirmumo lygį susijungimo atžvilgi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D2F1-2B48-4119-97A1-59376F48FA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CP galvut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ės lauk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mma38" descr="Artwork for comma38"/>
          <p:cNvPicPr/>
          <p:nvPr/>
        </p:nvPicPr>
        <p:blipFill>
          <a:blip r:embed="rId1"/>
          <a:stretch/>
        </p:blipFill>
        <p:spPr>
          <a:xfrm>
            <a:off x="838080" y="1670040"/>
            <a:ext cx="7239240" cy="459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9B0C-81FB-4788-8AD3-A41D44D535B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Eilės numer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32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i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i pirmo duomenų baito šiame segmente  numer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0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ei segmente įjungt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YN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ėliavėlė, tai eilės numeris rodo pradinę eilės numerio reikšmę.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itial sequence numbe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r pirmas duomenų baitas turės eilės NR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N+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atvirtinimo numer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32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i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ei įjungt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CK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ontrolės bitai šis laukas rodo, koks laukiamas sekantis eilės NR iš siuntėjo pusė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i susijungimas sudarytas, jis visad yra siunči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uomenų poslink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4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i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2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 žodžių sudar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C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lvutę. Rodo duomenų pradži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ezervuot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6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i. Rezervuota vėlesnėm reikmėm. Turi būti nuli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1B93-8E8F-44A8-961B-977B4272F1B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ontrolės bitai (6 bita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URG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Nuoroda į svarbius duomen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ACK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Patvirtinimo vėliavėlė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PSH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Push f-jos vėliavėlė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RST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Perkrauti(reset) jungtį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SYN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Sinchronizuoti eilės numerius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FIN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nebėra duomenų iš siuntė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0D09-B894-44BC-8198-4B997FD079B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Langas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16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okį baitų kiekį pradedant nuo rodomu patvirtinimo eilės Nr šio segmento siuntėjas nusiteikęs priim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ontrolinė sum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16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i galvutės bei duomenų kontrolinė sum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ei segmente gaunasi nelyginis baitų kiekis , jis papildomas nuliais iki lyginio kiekio kontrolinės sumos skaičiavimui, šis papildinys nėra perduodamas, o kontrolinės sumos laukas skaičiuojant yra keičiamas nuli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Nuoroda į svarbius duomen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16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. Tai poslinkio reikšmė, atskaitant nuo segmento eilės NR, rodanti į svarbius duomenis. Būtina URG vėliavėlė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Opcij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gali užimti erdvę TCP galvutės gale. Visos opcijos įtraukiamos į kontrolinę sumą. Jos užima keletą baitų, baigiasi  nulių lauku – “header padd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5334-1818-427B-90B3-41791387B5C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Eilės numer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iekvienas TCP persiunčiamas baitas turi eilės N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iekvienas baitas turi būti patvirtin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X baito patvirtinimas žymi, kad yra patvirtintas visų baitų įskaitant ir X gavi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aukas skirtas eilės numeriams yra baigtinis.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**32 - 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. Visa aritmetika susijusi su eilės numeriais vykdom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**3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CE7D-FE1D-4DE8-B4F7-59A5CEFE0B9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Tikrinimai, susiję su eilės numeria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statoma, ar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tvirtinim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umeris yra surištas su išsiųstų bet dar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epatvirtin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baitų eilės numeri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statoma, ar jau patvirtin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isų segmento bai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eilės numeriai – segmentas šalinamas iš pakartotino perdavimo eilė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statoma, ar įeinantis segmentas turi eilės numerius, kurie yr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lauktin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 ar segmentas tilps į priėmimo langą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priėmimo langas lygus 0, gali priimti tik ACK segmentus ir siųsti duomenis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ors ir 0 langas, tačiau turi apdoroti ateinanči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RST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ei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G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egment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5652-8010-486E-98E7-9F4A43298D6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egz-darbas-protokolai_html_m7dde9bf8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305560" cy="5229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66680" y="60199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O/OSI modelis ir TCP/IP protokolų pake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87BB-7C5E-472D-A93F-CC135E9CDA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SN parink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kuriant naują susijungimą yra panaudojamas ISN generatorius, kuris generuoja naują ISN numer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eneratorius yra surištas su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2 bi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ų laikrodžiu, kurio reikšmė kinta k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s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un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N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ciklas kartojasi k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.55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l. Max segmento gyvavimo laikas paprastai būna &lt;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55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l. Skaitoma, kad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N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us unikalū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iekvienas susijungimas turi siuntimo eilės NR ir priėmimo eilės NR. Siuntim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 yra parenkamas, o priėmimo pradinis eilės Nr sužinomas užmezgant ryš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4A3D-CA35-4836-BBD6-E05CB97E4B3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SN sinchroniz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usijungimo sukūrimui ir jo inicializacijai du TCP turi susinchronizuoti savus IS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 atliekama pasikeičiant susijungimo įkūrimo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segmenta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, kurie perduodami su sinchronizacijos bitu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r atitinkamais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gi reikalingas mechanizmas ISN parinkimui bei ISN reikšmių apsikeitimui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9748-AA55-4F7E-9E50-5CAFD512FB0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inchronizacijos žingsn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nchronizacija reikalauja, kad kiekviena pusė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siųs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avo ISN  ir gautų j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tvirtini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š kitos pusės.  Kiekviena pusė privalo gauti kitos pusės ISN ir patvirtinti jo gavi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A --&gt; B  SYN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ano eilės  numeris yr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A &lt;-- B  ACK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ūsų eilės numeris yr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A &lt;-- B  SYN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ano eilės  numeris yr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A --&gt; B  ACK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ūsų eilės numeris yr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rijų pusių rankų paspaudimas yra būtinas, kadangi ISN nėra surišti su globaliniu laikrodžiu ir kiekvienas TCP gali rinkt ISN pagal savo sche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C549-5258-4E57-87C8-746D905BCE0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tylaus(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et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) laiko koncepcij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Hostai, kurie nusimuša ir nelieka informacijos apie paskutinius perduotus eilės numerius kiekviena aktyvia jungtimi, turi palaukti tam tikrą laiko intervalą neišduodami jokių TCP segmentų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Segment Lifetime (MSL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pie2 min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turi užtikrinti tai, kad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esukurs segmento su tokiu eilės numeriu kaip ir esančio tink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et time”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žtikrina tai, kad kažkurie seni duomenys nebūtų priimami kaip nauji ir nauji nebūtų priimami kaip senų dublika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21E7-A951-4E5F-9853-D4A1E3B2A48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jungimo sudary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rijų pusių rankų paspaudimo procedūra yra naudojama sujungimo sudarymu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ormaliai ją inicijuoja vienas TCP ir atsako kitas TC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rocedūra taip pat veikia ir jei du TCP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vienu metu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inicijuoja šią procedūr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bu TCP gauna SYN be ACK (jis praneštų apie SYN gavimą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85AB-4F87-456F-B425-FC83648B7DB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Bazinė susijungimo sinchroniz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A                                                TCP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                      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LI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SENT    --&gt; &lt;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=1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             --&gt; SYN-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 &lt;-- &lt;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=3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=101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&lt;-- SYN-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ESTABLISHED --&gt; &lt;SEQ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ACK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1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     --&gt;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 --&gt; &lt;SEQ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ACK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1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DATA&gt; --&gt;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6DE6-C250-402A-A29C-1E7292AC9E4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Vienalaikė sinchroniz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A                                            TCP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                                           CL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-50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SENT     --&gt; &lt;SEQ=100&gt;&lt;CTL=SYN&gt;             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-501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RECEIVED &lt;-- &lt;SEQ=300&gt;&lt;CTL=SYN&gt;              &lt;-- SYN-S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            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&lt;SEQ=100&gt;&lt;CTL=SYN&gt;              --&gt; SYN-RECEI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RECEIVED --&gt; &lt;SEQ=100&gt;&lt;ACK=301&gt;&lt;CTL=SYN,ACK&gt;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  &lt;-- &lt;SEQ=300&gt;&lt;ACK=101&gt;&lt;CTL=SYN,ACK&gt; &lt;--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             ... &lt;SEQ=101&gt;&lt;ACK=301&gt;&lt;CTL=ACK&gt;     --&gt;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9EF1-213D-477A-A5F1-FE02934588F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Atstatymas po dubliuojančio SY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A                                                TCP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CLOSED                                               LI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SENT    --&gt; &lt;SEQ=100&gt;&lt;CTL=SYN&gt;      ...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uplicate) ... &lt;SEQ=90&gt;&lt;CTL=SYN&gt;               --&gt;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SENT    &lt;-- &lt;SEQ=300&gt;&lt;ACK=91&gt;&lt;CTL=SYN,ACK&gt;  &lt;-- SYN-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SENT    --&gt; &lt;SEQ=91&gt;&lt;CTL=RST&gt;               --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LI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D368-4F59-4ECE-AC94-AEEA4720EF6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   ... &lt;SEQ=100&gt;&lt;CTL=SYN&gt;               --&gt; SYN-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SYN-SENT    &lt;-- &lt;SEQ=400&gt;&lt;ACK=101&gt;&lt;CTL=SYN,ACK&gt;  &lt;--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 ESTABLISHED --&gt;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EQ=101&gt;&lt;ACK=401&gt;&lt;CTL=ACK&gt;      --&gt;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0A1B-B028-437D-982B-84334CE0FB5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usiau atviri susijungi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sijungimas vadina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usiau atvir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jei vienas iš TCP uždarė ar nutraukė susijungimą savam gale be pranešimo kitam TCP arba jei abu tampa desinchronizuoti dėl atminties problem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okie susijungimai yra priverčiami restartuoti jei tik bandoma persiųsti duomenis kažkuria kryptimi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usiau atviri susijungimai skaitomi retais ir atstatymo procedura yra lengvai įtraukia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C0FD-98F0-476D-8FC3-641374D2D8C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P protoko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TCP protokolas informaciją siunčia bei priima įvairaus dydžio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segmentai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IP protokolas TCP protokolui užtikrina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būdą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segmentų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 Unicode MS"/>
              </a:rPr>
              <a:t>išsiuntimui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bei </a:t>
            </a:r>
            <a:r>
              <a:rPr b="1" i="1" lang="lt-LT" sz="2400" spc="-1" strike="noStrike">
                <a:solidFill>
                  <a:srgbClr val="000000"/>
                </a:solidFill>
                <a:latin typeface="Arial Unicode MS"/>
              </a:rPr>
              <a:t>gavimui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, virš TCP galvutės įdėdamas IP datagramos galvut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IP galvutėje nurodomas šaltinio bei paskirties punkto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IP adresa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. IP rūpinasi paketų fragmentacija, jų perdavimu komunikaciniais tinkl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0E03-E514-46A1-ADCC-0F2CEA584E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(CRASH)                    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 300,receive 100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CLOSED                                 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ABLIS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SYN-SENT --&gt; &lt;SEQ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0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            --&gt;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?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(!!)     &lt;-- &lt;SEQ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ACK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   &lt;--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ABLIS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SYN-SENT --&gt; &lt;SEQ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T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            --&gt;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bort!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SYN-SENT                            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CL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SYN-SENT --&gt; &lt;SEQ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0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            -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usiau atviras susijungi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6A94-D24E-4AC7-8361-6B2CD91165A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A                                           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(CRASH)                                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end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receive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(??)    &lt;-- &lt;SEQ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ACK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DATA=10&gt;&lt;CTL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&lt;--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      --&gt; &lt;SEQ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                 --&gt; (ABORT!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ktyvi pusė iššaukia pusiau atviro susijungimo nutrauki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5586-5F23-4F26-A91A-BC5BC1DE073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jungimo uždary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mi trys atvej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artotoj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nicijuoja susijungimo nutraukimą perduodam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strukcij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icijuoj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utolę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iųsdam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ntrolės signal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b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vartotojai vienu metu vykd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6076-1226-4FEF-972F-FFAAFC14991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tv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: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Lokalus vartotojas inicijuoja uždarym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uo atveju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men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yra sukonstruojamas ir įdedamas į išeinančių segmentų eil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š vartotojo nebepriimamos funkcij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j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kuris įeina į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-WAIT-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ūvį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iėmimai yra leidžiami šiame būvyje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isi prieš tai einantys segmentai ir segmentas su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us išsiųsti pakol bus sulauktas patvirtini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i kit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tvirtin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gavimą(FIN-WAIT-2) ir atsiųs savo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irmasi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lės patvirtinti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 šį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gavę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tvirtins jo gavimą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et nesiųs savo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kol jo vartotojas irgi neuždarys  susijungimo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4506-E11B-4D44-AB1B-45E850C2C53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Atv.</a:t>
            </a:r>
            <a:r>
              <a:rPr b="1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:  TCP </a:t>
            </a: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gauna</a:t>
            </a:r>
            <a:r>
              <a:rPr b="1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 </a:t>
            </a: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iš tink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eina iš tinkl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jį gavę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patvirtinti (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 jį ir pranešti vartotojui, kad susijungimas yra uždaro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rtotojas turi atsakyt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nstruk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gal kurią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unči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ita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o likusių duomenų persiunti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o 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laukia sav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tvirtinimo ir naikina susijungi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esulaukiama, tai po laiko 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ou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susijungimas nutraukiamas ir informuojamas vartotoj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07F9-3695-4D37-94D8-B7CB228D570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Atv.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:  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Abu vartotojai vienu metu uždaro jungtį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ienalaikė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OS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nstrukcija abiejuose susijungimo galuose iššaukia pasikeiti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gmen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i visi segmentai (susikaupę prieš FIN) yra išsiunčiami ir patvirtinami, kiekvien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gali patvirtinti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 susijungimo nutraukimą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, kurį jis yra gav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bu TCP, gavę patvirtinančiu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K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traukia susijungimą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DC17-5643-4526-A7E8-8B65FD20B4A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ose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e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A                          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TCP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ESTABLISHED                     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ESTABLIS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(Clo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-WAIT-1  --&gt; &lt;SEQ=100&gt;&lt;ACK=300&gt;&lt;CTL=FIN,ACK&gt;  --&gt; CLOSE-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FIN-WAIT-2  &lt;-- &lt;SEQ=300&gt;&lt;ACK=101&gt;&lt;CTL=ACK&gt;      &lt;-- CLOSE-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                                                     (Clo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-WAIT   &lt;-- &lt;SEQ=300&gt;&lt;ACK=101&gt;&lt;CTL=FIN,ACK&gt;  &lt;-- LAST-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TIME-WAIT   --&gt; &lt;SEQ=101&gt;&lt;ACK=301&gt;&lt;CTL=ACK&gt;      --&gt; CL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(2 MS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87C1-DF77-4B0A-BAA7-D2E052DF2AB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Vienalaikė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ose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e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A                          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TCP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ESTABLISHED                    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ESTABLIS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(Close)                                              (Clo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-WAIT-1  --&gt; &lt;SEQ=100&gt;&lt;ACK=300&gt;&lt;CTL=FIN,ACK&gt;  ... FIN-WAIT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-- &lt;SEQ=300&gt;&lt;ACK=100&gt;&lt;CTL=FIN,ACK&gt;  &lt;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&lt;SEQ=100&gt;&lt;ACK=300&gt;&lt;CTL=FIN,ACK&gt;  -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CLOSING     --&gt; &lt;SEQ=101&gt;&lt;ACK=301&gt;&lt;CTL=ACK&gt;      ... CLO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-- &lt;SEQ=301&gt;&lt;ACK=101&gt;&lt;CTL=ACK&gt;      &lt;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&lt;SEQ=101&gt;&lt;ACK=301&gt;&lt;CTL=ACK&gt;      -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TIME-WAIT                                            TIME-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 MSL)                                              (2 MS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                                               CL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259F-90B7-4877-9983-689549F5A0C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Lango valdy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yra surišta su tuo momentu laisva buferio sritimi naudojama šiam susijungim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gaunama daugiau duomenų nei gali būti priimta, duomenys naikina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us reikalingi pakartotini persiuntimai, apkraunamas TC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rodant per mažus lango dydžius gaunamas per ilgas duomenų persiuntima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0EB8-4743-45F3-9923-6109EBCE817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Lausi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/1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ftp://ftp.isi.edu/in-notes/rfc2616.t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121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tokolo paskirtis, naudojama terminologi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unikacija (klientas, proxy, gateway, tunnel origin), pagrindinės taisyklė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121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tokolo parametrai: versija, resursų identifikatorius, datos, laiko formatai, simbolių rinkinys, turinio kodavimas, persiuntimo kodavimas.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rotokolo parametrai:(Media Types,Product Tokens, Quality Values, Language Tags,    Entity Tags, Range Uni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F015-873C-40F3-BC65-3A0367EAE54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 Unicode MS"/>
              </a:rPr>
              <a:t>Sąsaj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š vienos pusės tur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ąsają su vartotoj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r aplikaciniu procesu, iš kitos pusės su žemesnio lygio protokolu – IP protokol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ąsaja tarp aplikacijų ir TCP užtikrinam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reipini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panašiais į tuos , kuriuos operacinė sistema teikia aplikaciniams procesams manipuliavimu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su fail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(Jungties atidarymas, uždarymas, duomenų siuntimas, priėmim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ąsaja tarp TCP ir žemesnio sluoksnio: skaitoma, kad yr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mechaniz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kuriuo remdamiesi šie du sluoksniai gal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perdu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nformaciją viens kit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3D3A-7EE0-4CF2-B8CB-BB2492FEC4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 pranešimas 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essage Types, Message Headers, Message Body, Message Length, General Header Fields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klausa ir atsaky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Request, Request-Line, Method, Request-URI, The Resource Identified by a Request,Request Header Fields, Response, Status-Line, Status Code and Reason Phrase, Response Header Fiel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ai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ethod Definitions, OPTIONS, GET, HEAD, POST, PUT, DELETE TRACE, CONN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ūvio koda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 Status Code Definitions, Informational 1xx, Successful 2xx Redirection 3xx), Server Error 5xx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HTTP cach’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Caching in HTTP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19F6-AE6B-4C75-80E0-B1F149F1E7D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ikslas yra užtikrin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tiki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login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ujungim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grandin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arp poros komunikuojančių proces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o serviso palaikymo užtikrinimui mažiau patikimoje Interneto komunikacijų terpėj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ikalingi šie mechaniz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uomenų perdav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tikimum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rauto kontrolė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tankinimo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ltiplexing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sijung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rmumo ir saugo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2592-0E23-4A9F-85C6-7A286BDBA7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uomenų perd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gali perduo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raut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(oktetų)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bie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ryptim, suskirstydamas srautą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egment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rtotojai kartais nori būti tikri,  kad visi TCP perduoti duomenys buvo perduoti. Tam naudojama 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f-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Įsitikinimui, kad duomenys, kurie yra perduoti TCP iš tikrųjų yra perduoti gavėjui, vartotojas nurodo veiksmą “push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0807-235B-47B2-A022-7B8BA28DC8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tikimu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uomeny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li bū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ugadin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rarasti, dubliuoti ar nusiųsti ne ta tvark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m persiunčiamam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bait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yra suteikiam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eilė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numer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r iš gavėjo reikalaujamas patvirtinimas (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ei ACK nėra gaunamas “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timeou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” laiko intervale, duomenų persiuntim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akartojam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tvirtinimas dar negarantuoja kad duomenys pristatyti galiniam vartotojui, o tik tai, kad priimantis TCP apsiima šią atsakomyb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vėjo taške eilės numeriai naudojami priėmim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eiliškum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palaikyti, nes duomenys gali būti gaunami ne ta tvarka, be to gali atsiras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ublikat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uomenų sugadinimui išvengti naudojam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ontrolinė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um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Jos tikrinamos priėmus segmentą ir sugadinti segmentai yra naikinami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D2F9-931F-4418-A094-199941A8ED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rauto kontrolė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uri priemonę kuria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gavėj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gali valdyt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siuntėj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asiųstą informacijos kiek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 kiekvienu ACK yra grąžinamas 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lang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dydis(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"window“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ango dydis indikuoja tą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eilės numerių interval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kuris gali būti priimtas po paskutinio priėmi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ango dydis rod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iek bai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nformacijos siuntėjas gali pasiųsti prieš gaudamas sekantį leidi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0399-F4DF-4941-8791-3B356329A2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10:10:04Z</dcterms:created>
  <dc:creator>Kristina</dc:creator>
  <dc:description/>
  <dc:language>en-US</dc:language>
  <cp:lastModifiedBy>Kristina</cp:lastModifiedBy>
  <dcterms:modified xsi:type="dcterms:W3CDTF">2004-10-06T08:15:24Z</dcterms:modified>
  <cp:revision>58</cp:revision>
  <dc:subject/>
  <dc:title>TCP</dc:title>
</cp:coreProperties>
</file>