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77C-F470-4AAD-91A4-B5D7E357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78A-C13E-49FE-8770-C825CED4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5A3-3382-406B-A2D9-B49CD44F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38A-548C-4550-A503-CC1DDDC9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1F4-AA1A-4699-85E6-9BBCAFFC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3BE-E139-4E71-8A54-DE4349EE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2CE-51F4-4160-8834-5A96367D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3F6-C2A6-482C-984C-E3DD4104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521-8FF3-4DFE-A0A0-11A0603C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141-B43C-4053-B758-845190F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D2D-C325-4C90-B7EE-509C52CE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309-8672-4FD0-BD4F-590877C9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A9AD-A298-4072-9F12-F5DBD155C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nsstuff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inpoc.delfi.lv/1618.html" TargetMode="External"/><Relationship Id="rId2" Type="http://schemas.openxmlformats.org/officeDocument/2006/relationships/hyperlink" Target="http://inpoc.delfi.lv/1618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00440" y="44953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004-10-12_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809880" cy="37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59B-E261-478F-AA9D-488C6AE9CD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Trac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qu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pl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ą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ų tras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vykdy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t  target.m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ing route to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ver a maximum of 30 hops (šuoli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129 ms   126 ms   130 ms   router.my.com [1.2.3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229 ms   124 ms   118 ms  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A55-989D-42BD-BE61-4E74BB177F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28600"/>
            <a:ext cx="662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cert to pagonis.pit.ktu.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by </a:t>
            </a:r>
            <a:r>
              <a:rPr b="0" lang="lt-LT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www.DNSstuff.com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5:17:28 GMT on 12 Oct 2004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143000"/>
            <a:ext cx="9042480" cy="4602240"/>
            <a:chOff x="0" y="1143000"/>
            <a:chExt cx="9042480" cy="4602240"/>
          </a:xfrm>
        </p:grpSpPr>
        <p:grpSp>
          <p:nvGrpSpPr>
            <p:cNvPr id="63" name=""/>
            <p:cNvGrpSpPr/>
            <p:nvPr/>
          </p:nvGrpSpPr>
          <p:grpSpPr>
            <a:xfrm>
              <a:off x="4320" y="1147680"/>
              <a:ext cx="9033120" cy="4592520"/>
              <a:chOff x="4320" y="1147680"/>
              <a:chExt cx="9033120" cy="459252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320" y="1147680"/>
                <a:ext cx="449640" cy="639720"/>
                <a:chOff x="4320" y="1147680"/>
                <a:chExt cx="44964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2960" y="11570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320" y="1147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53960" y="1147680"/>
                <a:ext cx="612000" cy="639720"/>
                <a:chOff x="453960" y="1147680"/>
                <a:chExt cx="61200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6260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396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066320" y="1147680"/>
                <a:ext cx="612360" cy="639720"/>
                <a:chOff x="1066320" y="1147680"/>
                <a:chExt cx="61236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075320" y="11570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066320" y="1147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679040" y="1147680"/>
                <a:ext cx="612000" cy="639720"/>
                <a:chOff x="1679040" y="1147680"/>
                <a:chExt cx="61200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68768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7904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291040" y="1147680"/>
                <a:ext cx="1077120" cy="639720"/>
                <a:chOff x="2291040" y="1147680"/>
                <a:chExt cx="107712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00040" y="11570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91040" y="1147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368520" y="1147680"/>
                <a:ext cx="2220480" cy="639720"/>
                <a:chOff x="3368520" y="1147680"/>
                <a:chExt cx="222048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377160" y="11570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st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68520" y="1147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589000" y="1147680"/>
                <a:ext cx="942120" cy="639720"/>
                <a:chOff x="5589000" y="1147680"/>
                <a:chExt cx="94212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97640" y="11570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turn TT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589000" y="1147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531480" y="1147680"/>
                <a:ext cx="1273320" cy="639720"/>
                <a:chOff x="6531480" y="1147680"/>
                <a:chExt cx="127332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540120" y="11570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un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31480" y="1147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7805160" y="1147680"/>
                <a:ext cx="1232280" cy="639720"/>
                <a:chOff x="7805160" y="1147680"/>
                <a:chExt cx="123228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814160" y="11570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805160" y="1147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320" y="1806480"/>
                <a:ext cx="449640" cy="639720"/>
                <a:chOff x="4320" y="1806480"/>
                <a:chExt cx="449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2960" y="18158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320" y="1806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53960" y="1806480"/>
                <a:ext cx="612000" cy="639720"/>
                <a:chOff x="453960" y="1806480"/>
                <a:chExt cx="61200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6260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5396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066320" y="1806480"/>
                <a:ext cx="612360" cy="639720"/>
                <a:chOff x="1066320" y="1806480"/>
                <a:chExt cx="612360" cy="639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75320" y="18158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320" y="1806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679040" y="1806480"/>
                <a:ext cx="612000" cy="639720"/>
                <a:chOff x="1679040" y="1806480"/>
                <a:chExt cx="612000" cy="63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68768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7904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291040" y="1806480"/>
                <a:ext cx="1077120" cy="639720"/>
                <a:chOff x="2291040" y="1806480"/>
                <a:chExt cx="107712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00040" y="18158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34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291040" y="1806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368520" y="1806480"/>
                <a:ext cx="2220480" cy="639720"/>
                <a:chOff x="3368520" y="1806480"/>
                <a:chExt cx="222048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377160" y="18158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[www.DNSstuff.com 1st hop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68520" y="1806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589000" y="1806480"/>
                <a:ext cx="942120" cy="639720"/>
                <a:chOff x="5589000" y="1806480"/>
                <a:chExt cx="94212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597640" y="18158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589000" y="1806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531480" y="1806480"/>
                <a:ext cx="1273320" cy="639720"/>
                <a:chOff x="6531480" y="1806480"/>
                <a:chExt cx="127332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540120" y="18158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31480" y="1806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805160" y="1806480"/>
                <a:ext cx="1232280" cy="639720"/>
                <a:chOff x="7805160" y="1806480"/>
                <a:chExt cx="1232280" cy="639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814160" y="18158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805160" y="1806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320" y="2465280"/>
                <a:ext cx="449640" cy="639720"/>
                <a:chOff x="4320" y="2465280"/>
                <a:chExt cx="449640" cy="639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60" y="24750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320" y="24652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53960" y="2465280"/>
                <a:ext cx="612000" cy="639720"/>
                <a:chOff x="453960" y="2465280"/>
                <a:chExt cx="612000" cy="639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6260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5396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066320" y="2465280"/>
                <a:ext cx="612360" cy="639720"/>
                <a:chOff x="1066320" y="2465280"/>
                <a:chExt cx="612360" cy="63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75320" y="24750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66320" y="24652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79040" y="2465280"/>
                <a:ext cx="612000" cy="639720"/>
                <a:chOff x="1679040" y="2465280"/>
                <a:chExt cx="6120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8768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7904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291040" y="2465280"/>
                <a:ext cx="1077120" cy="639720"/>
                <a:chOff x="2291040" y="2465280"/>
                <a:chExt cx="107712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300040" y="24750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9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91040" y="24652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368520" y="2465280"/>
                <a:ext cx="2220480" cy="639720"/>
                <a:chOff x="3368520" y="2465280"/>
                <a:chExt cx="222048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377160" y="24750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ore-rtr01.ge-1-3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368520" y="24652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589000" y="2465280"/>
                <a:ext cx="942120" cy="639720"/>
                <a:chOff x="5589000" y="2465280"/>
                <a:chExt cx="94212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597640" y="24750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89000" y="24652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31480" y="2465280"/>
                <a:ext cx="1273320" cy="639720"/>
                <a:chOff x="6531480" y="2465280"/>
                <a:chExt cx="127332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540120" y="24750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31480" y="24652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805160" y="2465280"/>
                <a:ext cx="1232280" cy="639720"/>
                <a:chOff x="7805160" y="2465280"/>
                <a:chExt cx="123228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814160" y="24750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05160" y="24652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20" y="3124080"/>
                <a:ext cx="449640" cy="639720"/>
                <a:chOff x="4320" y="3124080"/>
                <a:chExt cx="44964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960" y="31338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20" y="31240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53960" y="3124080"/>
                <a:ext cx="612000" cy="639720"/>
                <a:chOff x="453960" y="3124080"/>
                <a:chExt cx="61200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260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396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066320" y="3124080"/>
                <a:ext cx="612360" cy="639720"/>
                <a:chOff x="1066320" y="3124080"/>
                <a:chExt cx="61236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075320" y="31338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66320" y="31240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679040" y="3124080"/>
                <a:ext cx="612000" cy="639720"/>
                <a:chOff x="1679040" y="3124080"/>
                <a:chExt cx="61200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68768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67904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291040" y="3124080"/>
                <a:ext cx="1077120" cy="639720"/>
                <a:chOff x="2291040" y="3124080"/>
                <a:chExt cx="107712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300040" y="31338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8.2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91040" y="31240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368520" y="3124080"/>
                <a:ext cx="2220480" cy="639720"/>
                <a:chOff x="3368520" y="3124080"/>
                <a:chExt cx="22204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377160" y="31338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edge-rtr02.ge-0-2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68520" y="31240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589000" y="3124080"/>
                <a:ext cx="942120" cy="639720"/>
                <a:chOff x="5589000" y="3124080"/>
                <a:chExt cx="94212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597640" y="31338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89000" y="31240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31480" y="3124080"/>
                <a:ext cx="1273320" cy="639720"/>
                <a:chOff x="6531480" y="3124080"/>
                <a:chExt cx="127332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40120" y="31338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31480" y="31240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805160" y="3124080"/>
                <a:ext cx="1232280" cy="639720"/>
                <a:chOff x="7805160" y="3124080"/>
                <a:chExt cx="123228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814160" y="31338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805160" y="31240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320" y="3782880"/>
                <a:ext cx="449640" cy="639720"/>
                <a:chOff x="4320" y="3782880"/>
                <a:chExt cx="44964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2960" y="37926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20" y="37828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53960" y="3782880"/>
                <a:ext cx="612000" cy="639720"/>
                <a:chOff x="453960" y="3782880"/>
                <a:chExt cx="6120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6260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396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066320" y="3782880"/>
                <a:ext cx="612360" cy="639720"/>
                <a:chOff x="1066320" y="3782880"/>
                <a:chExt cx="61236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75320" y="37926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066320" y="37828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79040" y="3782880"/>
                <a:ext cx="612000" cy="639720"/>
                <a:chOff x="1679040" y="3782880"/>
                <a:chExt cx="61200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8768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7904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91040" y="3782880"/>
                <a:ext cx="1077120" cy="639720"/>
                <a:chOff x="2291040" y="3782880"/>
                <a:chExt cx="107712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300040" y="37926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.117.168.1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91040" y="37828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368520" y="3782880"/>
                <a:ext cx="2220480" cy="639720"/>
                <a:chOff x="3368520" y="3782880"/>
                <a:chExt cx="222048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77160" y="37926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edge-09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68520" y="37828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89000" y="3782880"/>
                <a:ext cx="942120" cy="639720"/>
                <a:chOff x="5589000" y="3782880"/>
                <a:chExt cx="94212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97640" y="37926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89000" y="37828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531480" y="3782880"/>
                <a:ext cx="1273320" cy="639720"/>
                <a:chOff x="6531480" y="3782880"/>
                <a:chExt cx="1273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540120" y="37926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531480" y="37828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805160" y="3782880"/>
                <a:ext cx="1232280" cy="639720"/>
                <a:chOff x="7805160" y="3782880"/>
                <a:chExt cx="12322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814160" y="37926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805160" y="37828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320" y="4441680"/>
                <a:ext cx="449640" cy="639720"/>
                <a:chOff x="4320" y="4441680"/>
                <a:chExt cx="44964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2960" y="44514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320" y="4441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3960" y="4441680"/>
                <a:ext cx="612000" cy="639720"/>
                <a:chOff x="453960" y="4441680"/>
                <a:chExt cx="61200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260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396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66320" y="4441680"/>
                <a:ext cx="612360" cy="639720"/>
                <a:chOff x="1066320" y="4441680"/>
                <a:chExt cx="61236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75320" y="44514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66320" y="4441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679040" y="4441680"/>
                <a:ext cx="612000" cy="639720"/>
                <a:chOff x="1679040" y="4441680"/>
                <a:chExt cx="61200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68768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7904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291040" y="4441680"/>
                <a:ext cx="1077120" cy="639720"/>
                <a:chOff x="2291040" y="4441680"/>
                <a:chExt cx="1077120" cy="639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300040" y="44514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91040" y="4441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68520" y="4441680"/>
                <a:ext cx="2220480" cy="639720"/>
                <a:chOff x="3368520" y="4441680"/>
                <a:chExt cx="2220480" cy="639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377160" y="44514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3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68520" y="4441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89000" y="4441680"/>
                <a:ext cx="942120" cy="639720"/>
                <a:chOff x="5589000" y="4441680"/>
                <a:chExt cx="942120" cy="639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97640" y="44514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9000" y="4441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531480" y="4441680"/>
                <a:ext cx="1273320" cy="639720"/>
                <a:chOff x="6531480" y="4441680"/>
                <a:chExt cx="1273320" cy="6397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40120" y="44514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31480" y="4441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805160" y="4441680"/>
                <a:ext cx="1232280" cy="639720"/>
                <a:chOff x="7805160" y="4441680"/>
                <a:chExt cx="1232280" cy="639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14160" y="44514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805160" y="4441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320" y="5100480"/>
                <a:ext cx="449640" cy="639720"/>
                <a:chOff x="4320" y="5100480"/>
                <a:chExt cx="449640" cy="639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2960" y="51102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320" y="5100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53960" y="5100480"/>
                <a:ext cx="612000" cy="639720"/>
                <a:chOff x="453960" y="5100480"/>
                <a:chExt cx="612000" cy="639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260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396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066320" y="5100480"/>
                <a:ext cx="612360" cy="639720"/>
                <a:chOff x="1066320" y="5100480"/>
                <a:chExt cx="612360" cy="639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075320" y="51102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66320" y="5100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79040" y="5100480"/>
                <a:ext cx="612000" cy="639720"/>
                <a:chOff x="1679040" y="5100480"/>
                <a:chExt cx="612000" cy="639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8768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7904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291040" y="5100480"/>
                <a:ext cx="1077120" cy="639720"/>
                <a:chOff x="2291040" y="5100480"/>
                <a:chExt cx="1077120" cy="639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300040" y="51102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91040" y="5100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368520" y="5100480"/>
                <a:ext cx="2220480" cy="639720"/>
                <a:chOff x="3368520" y="5100480"/>
                <a:chExt cx="2220480" cy="639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377160" y="51102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2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68520" y="5100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89000" y="5100480"/>
                <a:ext cx="942120" cy="639720"/>
                <a:chOff x="5589000" y="5100480"/>
                <a:chExt cx="942120" cy="6397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97640" y="51102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89000" y="5100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531480" y="5100480"/>
                <a:ext cx="1273320" cy="639720"/>
                <a:chOff x="6531480" y="5100480"/>
                <a:chExt cx="1273320" cy="6397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540120" y="51102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31480" y="5100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05160" y="5100480"/>
                <a:ext cx="1232280" cy="639720"/>
                <a:chOff x="7805160" y="5100480"/>
                <a:chExt cx="1232280" cy="639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14160" y="51102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805160" y="5100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0" y="1143000"/>
              <a:ext cx="904248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1E0-B584-4852-B1DC-4CF92A183C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55680" y="0"/>
            <a:ext cx="8788320" cy="4602240"/>
            <a:chOff x="355680" y="0"/>
            <a:chExt cx="8788320" cy="4602240"/>
          </a:xfrm>
        </p:grpSpPr>
        <p:grpSp>
          <p:nvGrpSpPr>
            <p:cNvPr id="255" name=""/>
            <p:cNvGrpSpPr/>
            <p:nvPr/>
          </p:nvGrpSpPr>
          <p:grpSpPr>
            <a:xfrm>
              <a:off x="360360" y="4680"/>
              <a:ext cx="8778960" cy="4592520"/>
              <a:chOff x="360360" y="4680"/>
              <a:chExt cx="8778960" cy="45925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60360" y="4680"/>
                <a:ext cx="355680" cy="639720"/>
                <a:chOff x="360360" y="4680"/>
                <a:chExt cx="355680" cy="639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69720" y="140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60360" y="4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16040" y="4680"/>
                <a:ext cx="647640" cy="639720"/>
                <a:chOff x="716040" y="4680"/>
                <a:chExt cx="647640" cy="639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2540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04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363680" y="4680"/>
                <a:ext cx="647640" cy="639720"/>
                <a:chOff x="1363680" y="4680"/>
                <a:chExt cx="647640" cy="639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373040" y="140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36368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011320" y="4680"/>
                <a:ext cx="647640" cy="639720"/>
                <a:chOff x="2011320" y="4680"/>
                <a:chExt cx="647640" cy="63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02104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1132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658960" y="4680"/>
                <a:ext cx="1231920" cy="639720"/>
                <a:chOff x="2658960" y="4680"/>
                <a:chExt cx="1231920" cy="639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668680" y="140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5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658960" y="4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890880" y="4680"/>
                <a:ext cx="2127240" cy="639720"/>
                <a:chOff x="3890880" y="4680"/>
                <a:chExt cx="2127240" cy="639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900600" y="140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er-core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90880" y="4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018120" y="4680"/>
                <a:ext cx="432000" cy="639720"/>
                <a:chOff x="6018120" y="4680"/>
                <a:chExt cx="432000" cy="639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27840" y="140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18120" y="4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450120" y="4680"/>
                <a:ext cx="1366560" cy="639720"/>
                <a:chOff x="6450120" y="4680"/>
                <a:chExt cx="1366560" cy="639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459480" y="140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450120" y="4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16680" y="4680"/>
                <a:ext cx="1322640" cy="639720"/>
                <a:chOff x="7816680" y="4680"/>
                <a:chExt cx="1322640" cy="639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826400" y="140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16680" y="4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60360" y="663480"/>
                <a:ext cx="355680" cy="639720"/>
                <a:chOff x="360360" y="663480"/>
                <a:chExt cx="355680" cy="639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69720" y="6728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60360" y="663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16040" y="663480"/>
                <a:ext cx="647640" cy="639720"/>
                <a:chOff x="716040" y="663480"/>
                <a:chExt cx="647640" cy="6397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2540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604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363680" y="663480"/>
                <a:ext cx="647640" cy="639720"/>
                <a:chOff x="1363680" y="663480"/>
                <a:chExt cx="64764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373040" y="6728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36368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011320" y="663480"/>
                <a:ext cx="647640" cy="639720"/>
                <a:chOff x="2011320" y="663480"/>
                <a:chExt cx="64764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02104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1132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658960" y="663480"/>
                <a:ext cx="1231920" cy="639720"/>
                <a:chOff x="2658960" y="663480"/>
                <a:chExt cx="123192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668680" y="6728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139.14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58960" y="663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890880" y="663480"/>
                <a:ext cx="2127240" cy="639720"/>
                <a:chOff x="3890880" y="663480"/>
                <a:chExt cx="212724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900600" y="6728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p-brdr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90880" y="663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18120" y="663480"/>
                <a:ext cx="432000" cy="639720"/>
                <a:chOff x="6018120" y="663480"/>
                <a:chExt cx="43200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27840" y="6728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8120" y="663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450120" y="663480"/>
                <a:ext cx="1366560" cy="639720"/>
                <a:chOff x="6450120" y="663480"/>
                <a:chExt cx="136656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459480" y="6728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50120" y="663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816680" y="663480"/>
                <a:ext cx="1322640" cy="639720"/>
                <a:chOff x="7816680" y="663480"/>
                <a:chExt cx="1322640" cy="6397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826400" y="6728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816680" y="663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" y="1322280"/>
                <a:ext cx="355680" cy="639720"/>
                <a:chOff x="360360" y="1322280"/>
                <a:chExt cx="355680" cy="639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69720" y="13320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0360" y="13222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16040" y="1322280"/>
                <a:ext cx="647640" cy="639720"/>
                <a:chOff x="716040" y="1322280"/>
                <a:chExt cx="64764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2540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604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63680" y="1322280"/>
                <a:ext cx="647640" cy="639720"/>
                <a:chOff x="1363680" y="1322280"/>
                <a:chExt cx="647640" cy="639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373040" y="13320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6368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011320" y="1322280"/>
                <a:ext cx="647640" cy="639720"/>
                <a:chOff x="2011320" y="1322280"/>
                <a:chExt cx="647640" cy="639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02104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01132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658960" y="1322280"/>
                <a:ext cx="1231920" cy="639720"/>
                <a:chOff x="2658960" y="1322280"/>
                <a:chExt cx="1231920" cy="6397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668680" y="13320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4.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58960" y="13222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90880" y="1322280"/>
                <a:ext cx="2127240" cy="639720"/>
                <a:chOff x="3890880" y="1322280"/>
                <a:chExt cx="2127240" cy="639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900600" y="13320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bb1-geth0-2-1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90880" y="13222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018120" y="1322280"/>
                <a:ext cx="432000" cy="639720"/>
                <a:chOff x="6018120" y="1322280"/>
                <a:chExt cx="432000" cy="6397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027840" y="13320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8120" y="13222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450120" y="1322280"/>
                <a:ext cx="1366560" cy="639720"/>
                <a:chOff x="6450120" y="1322280"/>
                <a:chExt cx="1366560" cy="6397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459480" y="13320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50120" y="13222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816680" y="1322280"/>
                <a:ext cx="1322640" cy="639720"/>
                <a:chOff x="7816680" y="1322280"/>
                <a:chExt cx="1322640" cy="6397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26400" y="13320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7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816680" y="13222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60360" y="1981080"/>
                <a:ext cx="355680" cy="639720"/>
                <a:chOff x="360360" y="1981080"/>
                <a:chExt cx="355680" cy="6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9720" y="19908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60360" y="19810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16040" y="1981080"/>
                <a:ext cx="647640" cy="639720"/>
                <a:chOff x="716040" y="1981080"/>
                <a:chExt cx="647640" cy="6397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2540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604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363680" y="1981080"/>
                <a:ext cx="647640" cy="639720"/>
                <a:chOff x="1363680" y="1981080"/>
                <a:chExt cx="647640" cy="639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373040" y="19908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6368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011320" y="1981080"/>
                <a:ext cx="647640" cy="639720"/>
                <a:chOff x="2011320" y="1981080"/>
                <a:chExt cx="647640" cy="639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02104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1132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658960" y="1981080"/>
                <a:ext cx="1231920" cy="639720"/>
                <a:chOff x="2658960" y="1981080"/>
                <a:chExt cx="1231920" cy="639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668680" y="19908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0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8960" y="19810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890880" y="1981080"/>
                <a:ext cx="2127240" cy="639720"/>
                <a:chOff x="3890880" y="1981080"/>
                <a:chExt cx="2127240" cy="639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900600" y="19908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nyk-bb2-pos7-1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90880" y="19810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018120" y="1981080"/>
                <a:ext cx="432000" cy="639720"/>
                <a:chOff x="6018120" y="1981080"/>
                <a:chExt cx="432000" cy="63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027840" y="19908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18120" y="19810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450120" y="1981080"/>
                <a:ext cx="1366560" cy="639720"/>
                <a:chOff x="6450120" y="1981080"/>
                <a:chExt cx="1366560" cy="63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459480" y="19908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50120" y="19810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16680" y="1981080"/>
                <a:ext cx="1322640" cy="639720"/>
                <a:chOff x="7816680" y="1981080"/>
                <a:chExt cx="1322640" cy="63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26400" y="19908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8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16680" y="19810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60360" y="2639880"/>
                <a:ext cx="355680" cy="639720"/>
                <a:chOff x="360360" y="2639880"/>
                <a:chExt cx="355680" cy="63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69720" y="26496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0360" y="26398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6040" y="2639880"/>
                <a:ext cx="647640" cy="639720"/>
                <a:chOff x="716040" y="2639880"/>
                <a:chExt cx="647640" cy="6397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2540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604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363680" y="2639880"/>
                <a:ext cx="647640" cy="639720"/>
                <a:chOff x="1363680" y="2639880"/>
                <a:chExt cx="647640" cy="6397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373040" y="26496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36368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011320" y="2639880"/>
                <a:ext cx="647640" cy="639720"/>
                <a:chOff x="2011320" y="2639880"/>
                <a:chExt cx="647640" cy="639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202104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01132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658960" y="2639880"/>
                <a:ext cx="1231920" cy="639720"/>
                <a:chOff x="2658960" y="2639880"/>
                <a:chExt cx="123192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668680" y="26496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5.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58960" y="26398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890880" y="2639880"/>
                <a:ext cx="2127240" cy="639720"/>
                <a:chOff x="3890880" y="2639880"/>
                <a:chExt cx="21272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900600" y="26496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b2-pos6-0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90880" y="26398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18120" y="2639880"/>
                <a:ext cx="432000" cy="639720"/>
                <a:chOff x="6018120" y="2639880"/>
                <a:chExt cx="43200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027840" y="26496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18120" y="26398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50120" y="2639880"/>
                <a:ext cx="1366560" cy="639720"/>
                <a:chOff x="6450120" y="2639880"/>
                <a:chExt cx="13665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459480" y="26496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50120" y="26398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816680" y="2639880"/>
                <a:ext cx="1322640" cy="639720"/>
                <a:chOff x="7816680" y="2639880"/>
                <a:chExt cx="13226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26400" y="26496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816680" y="26398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60360" y="3298680"/>
                <a:ext cx="355680" cy="639720"/>
                <a:chOff x="360360" y="3298680"/>
                <a:chExt cx="35568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69720" y="33084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60360" y="3298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6040" y="3298680"/>
                <a:ext cx="647640" cy="639720"/>
                <a:chOff x="716040" y="3298680"/>
                <a:chExt cx="64764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2540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604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363680" y="3298680"/>
                <a:ext cx="647640" cy="639720"/>
                <a:chOff x="1363680" y="3298680"/>
                <a:chExt cx="6476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373040" y="33084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6368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011320" y="3298680"/>
                <a:ext cx="647640" cy="639720"/>
                <a:chOff x="2011320" y="3298680"/>
                <a:chExt cx="6476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2104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1132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658960" y="3298680"/>
                <a:ext cx="1231920" cy="639720"/>
                <a:chOff x="2658960" y="3298680"/>
                <a:chExt cx="123192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68680" y="33084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4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58960" y="3298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890880" y="3298680"/>
                <a:ext cx="2127240" cy="639720"/>
                <a:chOff x="3890880" y="3298680"/>
                <a:chExt cx="21272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900600" y="33084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2-pos12-3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90880" y="3298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018120" y="3298680"/>
                <a:ext cx="432000" cy="639720"/>
                <a:chOff x="6018120" y="3298680"/>
                <a:chExt cx="43200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027840" y="33084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18120" y="3298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450120" y="3298680"/>
                <a:ext cx="1366560" cy="639720"/>
                <a:chOff x="6450120" y="3298680"/>
                <a:chExt cx="1366560" cy="63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459480" y="33084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50120" y="3298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816680" y="3298680"/>
                <a:ext cx="1322640" cy="639720"/>
                <a:chOff x="7816680" y="3298680"/>
                <a:chExt cx="1322640" cy="639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826400" y="33084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680" y="3298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60360" y="3957480"/>
                <a:ext cx="355680" cy="639720"/>
                <a:chOff x="360360" y="3957480"/>
                <a:chExt cx="355680" cy="639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69720" y="39672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0360" y="3957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16040" y="3957480"/>
                <a:ext cx="647640" cy="639720"/>
                <a:chOff x="716040" y="3957480"/>
                <a:chExt cx="647640" cy="639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2540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604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363680" y="3957480"/>
                <a:ext cx="647640" cy="639720"/>
                <a:chOff x="1363680" y="3957480"/>
                <a:chExt cx="647640" cy="63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373040" y="39672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36368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011320" y="3957480"/>
                <a:ext cx="647640" cy="639720"/>
                <a:chOff x="2011320" y="3957480"/>
                <a:chExt cx="64764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02104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1132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58960" y="3957480"/>
                <a:ext cx="1231920" cy="639720"/>
                <a:chOff x="2658960" y="3957480"/>
                <a:chExt cx="123192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68680" y="39672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75.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58960" y="3957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890880" y="3957480"/>
                <a:ext cx="2127240" cy="639720"/>
                <a:chOff x="3890880" y="3957480"/>
                <a:chExt cx="212724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900600" y="39672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dante-01233-ldn-b2.c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90880" y="3957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018120" y="3957480"/>
                <a:ext cx="432000" cy="639720"/>
                <a:chOff x="6018120" y="3957480"/>
                <a:chExt cx="43200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027840" y="39672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18120" y="3957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450120" y="3957480"/>
                <a:ext cx="1366560" cy="639720"/>
                <a:chOff x="6450120" y="3957480"/>
                <a:chExt cx="136656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459480" y="39672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450120" y="3957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816680" y="3957480"/>
                <a:ext cx="1322640" cy="639720"/>
                <a:chOff x="7816680" y="3957480"/>
                <a:chExt cx="132264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26400" y="39672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2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16680" y="3957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>
              <a:off x="355680" y="0"/>
              <a:ext cx="878832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86200" y="4572000"/>
            <a:ext cx="2133720" cy="1066320"/>
            <a:chOff x="3886200" y="4572000"/>
            <a:chExt cx="2133720" cy="1066320"/>
          </a:xfrm>
        </p:grpSpPr>
        <p:grpSp>
          <p:nvGrpSpPr>
            <p:cNvPr id="447" name=""/>
            <p:cNvGrpSpPr/>
            <p:nvPr/>
          </p:nvGrpSpPr>
          <p:grpSpPr>
            <a:xfrm>
              <a:off x="3888360" y="4577760"/>
              <a:ext cx="2129400" cy="1054080"/>
              <a:chOff x="3888360" y="4577760"/>
              <a:chExt cx="2129400" cy="1054080"/>
            </a:xfrm>
          </p:grpSpPr>
          <p:sp>
            <p:nvSpPr>
              <p:cNvPr id="448" name=""/>
              <p:cNvSpPr/>
              <p:nvPr/>
            </p:nvSpPr>
            <p:spPr>
              <a:xfrm>
                <a:off x="3892680" y="4589640"/>
                <a:ext cx="212076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br>
                  <a:rPr sz="1200"/>
                </a:b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[4 hops with no response; assuming we hit a firewall that blocks pings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88360" y="4577760"/>
                <a:ext cx="2129400" cy="1054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886200" y="4572000"/>
              <a:ext cx="2133720" cy="1066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1CD-9E3C-4E9D-8261-5357371F98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rt TCPdumpa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DF1-D7A1-4AA7-8E61-5FD4A870C6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Bender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DĖTINGES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k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884312222:1884312222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 &gt; 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com.35955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113925437:3113925437 (0)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188431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.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21 &gt; ftp.client.com.35955: P 1:24(23) ac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5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ftp.server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3E6-DDB3-402B-94DE-EE55485862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9907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surenka komandą d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558632705:3558632705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01007864: 1901007864(0) ack –3558632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kiriasi nuo kitų TCP servisų tuo, kad jis komunikuoja naudodamas du por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kuris yra standartiniu FTP komandos portu. Antrasis yra 20 ir jis naudojams duomenims perduo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866-009A-4BC8-B1CD-F9980CED5A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ormal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sukinėjantys (apeinantys) stimulai, atsakymo stok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26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4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1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1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2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0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jungta vėliavėlė FIN, portai arba neatsako arba siunčia RST/ACK, priklausomai nuo to , ar juose yra klausomasi. Tai “nedrąsus” sken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6CF-63BF-4352-A047-CFEFD6ADAF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lingi stimulai. Fatališki-pražūtingi atsaky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ource quench”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 arba “redirect” praneši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42.241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69.12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50.4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84.212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53.173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65.2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74.8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84.8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3.10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Vykdoma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tipo ata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intencija sužlugdyti hosto sugebėjimus teikti atsakym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“source quench” pranešimas yra būdas kaip hostas ar routeris gali informuoti šaltinį, kad šis siunčia per daug informacijos ir turi sumažinti perdavimo intensyvum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rect” kontrolinis pranešimas  leidžiantis routeriui pasakyti hostui perduoti paketus skirtingam routeriui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2EB-8214-4D0F-9783-9AD61EB1FC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imulus, all respon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0.7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8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1.67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6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9.1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.25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5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43.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15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.16 host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naudoti kaip šaltinio adresai, vykdant “spoof” tipo ataką, jei nesimato išeinančių sraut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E94-4A2B-41AE-B370-FD64E94C30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ktyvios TCP vėliavėlė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ų vėliavėlių nustatymu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 matyti vykdant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Pdump su –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j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usdinim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ešioliktainėje sistemoj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rmalus TCPdump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do šių dviejų bitų reikšm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er.com.44388 &gt; target.com.domain : S 403915838:403915838(0) win 4096 &lt;wscale  10,nop,mss 256,timestamp 1061109567  0,eol &gt;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d 0102 0304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4 0035 1813 443e 0000 0000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4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42 – rodo įjungtą rezervuotą vėliavė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905120" y="1523880"/>
            <a:ext cx="5736960" cy="990720"/>
            <a:chOff x="1905120" y="1523880"/>
            <a:chExt cx="5736960" cy="990720"/>
          </a:xfrm>
        </p:grpSpPr>
        <p:grpSp>
          <p:nvGrpSpPr>
            <p:cNvPr id="466" name=""/>
            <p:cNvGrpSpPr/>
            <p:nvPr/>
          </p:nvGrpSpPr>
          <p:grpSpPr>
            <a:xfrm>
              <a:off x="1908720" y="1527120"/>
              <a:ext cx="5728680" cy="983520"/>
              <a:chOff x="1908720" y="1527120"/>
              <a:chExt cx="5728680" cy="98352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1908720" y="1527120"/>
                <a:ext cx="798480" cy="491760"/>
                <a:chOff x="1908720" y="1527120"/>
                <a:chExt cx="798480" cy="4917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964880" y="1527120"/>
                  <a:ext cx="6854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908720" y="1527120"/>
                  <a:ext cx="79848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707200" y="1527120"/>
                <a:ext cx="704160" cy="491760"/>
                <a:chOff x="2707200" y="1527120"/>
                <a:chExt cx="704160" cy="491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763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70720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411360" y="1527120"/>
                <a:ext cx="704520" cy="491760"/>
                <a:chOff x="3411360" y="1527120"/>
                <a:chExt cx="704520" cy="491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46752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136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115880" y="1527120"/>
                <a:ext cx="704160" cy="491760"/>
                <a:chOff x="4115880" y="1527120"/>
                <a:chExt cx="704160" cy="4917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171680" y="152712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11588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820040" y="1527120"/>
                <a:ext cx="704520" cy="491760"/>
                <a:chOff x="4820040" y="1527120"/>
                <a:chExt cx="704520" cy="491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87620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2004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524560" y="1527120"/>
                <a:ext cx="704160" cy="491760"/>
                <a:chOff x="5524560" y="1527120"/>
                <a:chExt cx="704160" cy="4917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580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2456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228720" y="1527120"/>
                <a:ext cx="704520" cy="491760"/>
                <a:chOff x="6228720" y="1527120"/>
                <a:chExt cx="704520" cy="491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28488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2872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933240" y="1527120"/>
                <a:ext cx="704160" cy="491760"/>
                <a:chOff x="6933240" y="1527120"/>
                <a:chExt cx="704160" cy="491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98904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93324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908720" y="2018880"/>
                <a:ext cx="1502640" cy="491760"/>
                <a:chOff x="1908720" y="2018880"/>
                <a:chExt cx="1502640" cy="4917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964880" y="2018880"/>
                  <a:ext cx="138996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zervuo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08720" y="2018880"/>
                  <a:ext cx="150264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411360" y="2018880"/>
                <a:ext cx="704520" cy="491760"/>
                <a:chOff x="3411360" y="2018880"/>
                <a:chExt cx="704520" cy="491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46752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R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41136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4115880" y="2018880"/>
                <a:ext cx="704160" cy="491760"/>
                <a:chOff x="4115880" y="2018880"/>
                <a:chExt cx="704160" cy="491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171680" y="201888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11588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820040" y="2018880"/>
                <a:ext cx="704520" cy="491760"/>
                <a:chOff x="4820040" y="2018880"/>
                <a:chExt cx="704520" cy="4917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87620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82004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524560" y="2018880"/>
                <a:ext cx="704160" cy="491760"/>
                <a:chOff x="5524560" y="2018880"/>
                <a:chExt cx="704160" cy="4917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58036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52456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228720" y="2018880"/>
                <a:ext cx="704520" cy="491760"/>
                <a:chOff x="6228720" y="2018880"/>
                <a:chExt cx="704520" cy="491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28488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2872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933240" y="2018880"/>
                <a:ext cx="704160" cy="491760"/>
                <a:chOff x="6933240" y="2018880"/>
                <a:chExt cx="704160" cy="4917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98904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324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>
              <a:off x="1905120" y="1523880"/>
              <a:ext cx="5736960" cy="99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25C-CE42-4504-9EA3-0E72E3782B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os – atsakym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C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os, susijusios su TCP bei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939-E9A1-4BAD-B4E0-8CF398705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target.com  į  scaner.co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nop,nop,timestamp 16912287 1061109567 , nop,wscale 0,mss 265&gt; (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e04e 4000 ff06 e6af 83da d684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3da d683] 0035 ad64 f7a7 ea5b 1813 443f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2297 fd3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101 080a 0102 0f9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f3f       3f3f      0103     0300       0204      0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umestas fiktyv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a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Leidžia daryti spėjimą apie operacinę siste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operacinė sistema gal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į fiktyvų bi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977-83AB-4A35-8399-5EBCE36C1A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e TCP vėliavėli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: . win 4096 &lt;wscale 10,nop,mss 265, timestamp 1061109567 0,eol &gt;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c 0102 0304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5 0035 1813 443e 0000 0000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8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a vėliavėlių baite matome 00. Tai reikštų kad vėliavėlės nėra įjung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ai TCP vėliavėlių baite būna įjungtas bent vienas bi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target.com visai neatsak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kį nulinį TCP segmentą. Atsakymo nebuvimas irgi yra tam tikra informacija apie operacinę sistemą. Kita operacinė sistema gali identifikuoti save atsakydama su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DDA-FBEB-47C0-843F-9E36CB21D4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op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 : S 403915838:403915838(0) ,win 4096  &lt;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scale   10,nop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ss 256,timestamp 1061109567  0,eo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p,nop,timestamp 16912287 1061109567 , nop,wscale 0,mss 265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būdų, band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tatyt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inę sistemą yra siunčiant jam daug skirtingų TCP opcij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operacinės sistemos nepalaiko visų šių opcijų ir atsakyme kai kurias iš jų num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kurios operacinės sistemos nustato skirtingas reikšmes kai kurioms opcij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os operacinės sistemos gražins opcijas jas išdėstant skirtinga tvarka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tai padeda identifikaci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11F-619A-4DBB-A7D7-EA0CCF65BD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teor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data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liaujant tinklu j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en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eiti į tinklą su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žes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a (mažesniu maximum transmision unit MTU), ir tas MTU dydis yra mažesnis už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d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imali MTU reikšmė Ethernet tinkle yra 1500 bait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uoti turi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D18-BCDF-4155-979A-BEC45FBDA2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a informacija yra reikalinga fragment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riš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 kitais fragmentai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ndr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fragmentų identifikacinį numerį. Jis yra “cloned”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vutės  lauko , žinomo kaip IP identifikacinis numeris arba Fragmento 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informuoti koks yra to fragmen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riginaliame nefragmentuotame pak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pranešti, kok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is neša frag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kvienas fragmentas turi žinoti, ar už jo dar bus daugiau fragmentų – tai atžymima vėliavėle – daugiau fragmentų –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ore fragment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DC3-E078-45ED-9EF5-543AA870B7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1371600" y="1219320"/>
            <a:ext cx="6171840" cy="4571640"/>
            <a:chOff x="1371600" y="1219320"/>
            <a:chExt cx="6171840" cy="4571640"/>
          </a:xfrm>
        </p:grpSpPr>
        <p:sp>
          <p:nvSpPr>
            <p:cNvPr id="524" name=""/>
            <p:cNvSpPr/>
            <p:nvPr/>
          </p:nvSpPr>
          <p:spPr>
            <a:xfrm>
              <a:off x="3175560" y="1956960"/>
              <a:ext cx="1505160" cy="7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1600" y="1956960"/>
              <a:ext cx="1655640" cy="72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5320" y="195696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27240" y="195696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7240" y="267912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3372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3960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7256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580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79040" y="1219320"/>
              <a:ext cx="316116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0baitų ICMP duomen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2903760"/>
              <a:ext cx="90324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74840" y="338472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80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36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9236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79040" y="4828680"/>
              <a:ext cx="1053720" cy="7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5040" y="482868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1520" y="4828680"/>
              <a:ext cx="60192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68 bait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26280" y="26629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60948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ICMP echo užklausos datagra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838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u MTU reikšmė 1500 bai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FC5-DE94-4613-B6D1-F9235B1E5D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 ID numeris/ IP Identifikacinis numeris</a:t>
            </a:r>
            <a:r>
              <a:rPr b="1" i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dentif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ų lau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is IP galvut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ai datagrama tampa fragmentuota visi iš šios datagramos sukurti fragmentai turi tą patį šį IP identifikacinį numerį arba fragmento I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676520" y="3429000"/>
            <a:ext cx="5790960" cy="1980720"/>
            <a:chOff x="1676520" y="3429000"/>
            <a:chExt cx="5790960" cy="1980720"/>
          </a:xfrm>
        </p:grpSpPr>
        <p:sp>
          <p:nvSpPr>
            <p:cNvPr id="548" name=""/>
            <p:cNvSpPr/>
            <p:nvPr/>
          </p:nvSpPr>
          <p:spPr>
            <a:xfrm>
              <a:off x="3368880" y="3849840"/>
              <a:ext cx="1412280" cy="4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3852720"/>
              <a:ext cx="1553760" cy="4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65080" y="385272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30280" y="385272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30280" y="426456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2516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744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8760" y="3429000"/>
              <a:ext cx="423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06200" y="3429000"/>
              <a:ext cx="423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4000" y="3429000"/>
              <a:ext cx="127116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72 baitų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393800"/>
              <a:ext cx="847440" cy="55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23960" y="4718520"/>
              <a:ext cx="127116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galvut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CMP echo užklau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36240" y="4393800"/>
              <a:ext cx="282240" cy="414720"/>
            </a:xfrm>
            <a:prstGeom prst="downArrow">
              <a:avLst>
                <a:gd name="adj1" fmla="val 50000"/>
                <a:gd name="adj2" fmla="val 367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5160" y="4580280"/>
              <a:ext cx="2118600" cy="82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linkis 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47680" y="4255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D5C-1269-406D-8002-7FD5D6444A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rusion detection systems) be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etų filtravimo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 nepastebi bei neblokuoja to aktyvumo, kurio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eikl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išdalinta į daugybę datagramų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varbu yr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yti ar tai yra normali fragmentacija ar fragmentacija naudojama kitais tikslais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318-9725-4C9B-89DB-BDB0A45E48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irma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įprastų laukų, kurie būna IP galvutėje, tokių kaip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nkto IP numeriai bei protokolas (šiuo atveju ICMP), čia yra laukai specialiai skir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ragm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vėliavėlės lauk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os datagramos duomen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žvilgiu;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majam fragmentui šis poslink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nešamų duomenų dydis yra saugomas lauke fragmento ilgis ir jis yra 148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28E-3901-4FDF-BADC-3D6BAB20D9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nti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905120"/>
            <a:ext cx="6134040" cy="3565080"/>
            <a:chOff x="1295280" y="1905120"/>
            <a:chExt cx="6134040" cy="3565080"/>
          </a:xfrm>
        </p:grpSpPr>
        <p:sp>
          <p:nvSpPr>
            <p:cNvPr id="569" name=""/>
            <p:cNvSpPr/>
            <p:nvPr/>
          </p:nvSpPr>
          <p:spPr>
            <a:xfrm>
              <a:off x="1295280" y="2261520"/>
              <a:ext cx="7009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96200" y="2261520"/>
              <a:ext cx="5259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22160" y="2261520"/>
              <a:ext cx="175248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4640" y="2261520"/>
              <a:ext cx="21031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77760" y="2261520"/>
              <a:ext cx="10515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75920" y="1905120"/>
              <a:ext cx="10515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51240" y="2796120"/>
              <a:ext cx="350280" cy="534960"/>
            </a:xfrm>
            <a:prstGeom prst="downArrow">
              <a:avLst>
                <a:gd name="adj1" fmla="val 50000"/>
                <a:gd name="adj2" fmla="val 38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24360" y="3509280"/>
              <a:ext cx="87588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3509280"/>
              <a:ext cx="227844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99320" y="3152880"/>
              <a:ext cx="5259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76840" y="3152880"/>
              <a:ext cx="122652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25280" y="4400640"/>
              <a:ext cx="2103120" cy="10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link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37E-9DDD-4DE3-97DE-A18910CD8B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tyrimo reikaling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įsilaužimą aptinkančių sistemų turi aukštą klaidingų pranešimų laipsnį (false positive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itikas turi atskirti klaidin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praneš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p atrodo normalus ir nenormalus srau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590-1CD8-42D3-9666-AABCB386BA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peržiūra naudojant TCP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žiūrėkime į sekančias TCPdump išvestas eil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icmp : echo request (frag 21223: 14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480@148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048@2960+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953-F052-4F23-8293-B530B9791C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ir Paketus filtruojantys įrengin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kyla kai šie įrenginiai bando filtruoti – blokuoti fragmentuotą sraut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pirmas fragmentas fragmentų sekoje turės protokolo TCP, UDP ar ICMP galvut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ėtų būti blokuoti ir kiti fragmentai, kurių fragmentų ID yra tokie patys kaip ir blokuoto frag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as fragmentas, turintis informaciją su protokolo galvute gali būti praras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172-5957-45C2-A020-DA960DAE5A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ragment vėliavėlė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acija su šia datagrama nebus atlieka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šrutizatoriui nustačius šį faktą, jis numet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gramą ir siunčia ICMP klaidos pranešim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e hostai tyčia, sąmoningai siunčia pirminę datagramą per tinklą su įjungta DF vėliavėle, tikslu sužinoti kokia bus MT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tagramą siunči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paskirties punk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gal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š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fekty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94B-509A-4B48-A3A7-A608053832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ktavališka fragment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sukuria plačias prielaidas hakerių atak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Pavyzdžiu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tis TCPdump išvedimas buvo gautas naudojant komand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map  -f  -sS  –p  53   targe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siunčia fragmentuotą SYN sujungimą (connection-ryšys) į target.com  53 por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25096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25096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4265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4265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34927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34927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ikėtina, kad ID sistemos gali nepagauti tokio pobūdžio paslėpto skanav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170-1809-49BE-9426-CF588248E4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as už paketų-filtravimo įrengini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2.1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6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7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1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2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42.3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</a:rPr>
              <a:t>Trūksta pirmų ir paskutinių fragment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47B-F100-412A-9B9D-2BF6CC6A61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-SYN 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YN Flooding ataka yra organizuojama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eš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usiteikusio vartotojo, kuris naudodamas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ekia įvykdy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S tipo ataką prieš server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ų kiekis aukos siste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 visus por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susijungimas susijęs su tam tikr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surs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šskyr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s sistemai atsak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klausantys portai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uždari portai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kos sistema laukia ACK iš siuntėjo ir nesulaukia – resursai lieka užimtame būv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Atakuotojas pakartotinai siunčia susijungimo užklau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a yra panaši į TCP-SYN ataką, tik siuntėjo adresu irgi nurodomas aukos adresas. Gaunasi fatalus cikl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664-18BD-4ED0-B26B-25A437886A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nč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ofe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urce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( padirbtais adresai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 negali nusiųsti RST paketų , nes adresai yra padib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ski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u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i užklau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aigtinis kiekis pusia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tvir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 yra palaik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 užklaus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gzistuo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OUT perio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, jam pasibaigus ateina naujos užklau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ai resursai išsemiami, kitos užklausos atmetamos- nors jos ir yra teisi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800600" cy="2730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9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connection 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0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n Flooding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741-6074-4170-AA78-315F1F92F1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čia kele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ais užtenk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por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elnet daem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turi būti tikras, kad IP-adresas, kuris nurodo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žymėtų tuo me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priein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ho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ųs savo atsaky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dre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IP (IC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iemonėm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fo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y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pasieki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tys kad šios klaidos yra laik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aliks jas IP išsprend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rou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-adr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 būti nepasiekiamas, 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nori, 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s nor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einančių iš 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s iššau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to hosto. Tai sutrukdytų ata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897-59A0-48D3-BF5D-6127294B48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ūra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Maž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ime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i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did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lg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snio jungčių kiekio palaikymui  - tačiau atakuotojas gali pasiųsti papildomus pak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acijos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išoriniame interfeis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blokuojam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aketai su šaltinio adresu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dini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nklo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vidiniame interfeise blokuojami paketai į išorę, kurių šaltinio adresu nurodytas šaltinis iš išor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daug SYN ateina į tą patį portą – juos patyrinėti firewall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9FA-D14E-4947-8C2F-3CA77EEB62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perjung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ako Paskirties punkto var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ui įvyk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s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q #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ku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ą su Paskirties pun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paketas patiria vėlin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FBB-08E3-480E-9DD3-F6E6706FA6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ėtina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u pademonstruoti visus normalaus srauto aspek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alumą lengviau yra nusakyti kaip tai kas nėra nenorma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comment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dokument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3 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Transmition Control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68 skirtas UD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1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IP Interne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792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Internet Control Messag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8FC-EE35-4726-BC39-3D40EA7004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usiau-skai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alsifikuo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lt-LT" sz="2000" spc="-1" strike="noStrike" baseline="30000">
                <a:solidFill>
                  <a:srgbClr val="000000"/>
                </a:solidFill>
                <a:latin typeface="Times New Roman"/>
              </a:rPr>
              <a:t>i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rankų paspaudim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ck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– paskirties punk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i ištraukia sujungimą iš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cklog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aisvi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s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y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“rea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bus atsiųs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bus tikras susijungimas pakartotin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gn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otas ka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bliuoj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lis skaičius atvirų jungčių jei sistema yra atakuo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ia labai rūpestingai parinkt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ou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i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EBA-264C-4626-850B-8E076CF777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3816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962520" cy="3860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838080" y="5257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a su pusiau-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us susijungimas 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usi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D15-4F6D-47BA-9431-6D3ABF3932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762120"/>
            <a:ext cx="8458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 tam tikr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s patiria SYN-Floo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tebimi keisti reiškini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rmiausiai yra sugadinam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dary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rod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1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e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ke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_RCV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minu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3 minute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 Daug 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-s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ndes kie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urė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b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atsitiktinio laiko interval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meta šiuos soketus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 ji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siliek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o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y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neatsaky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rsi jis vis dar būtų užtvindy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SE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ket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išardom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as por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šlaisvin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kančioms užklausoms vė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4648320"/>
            <a:ext cx="8305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os liūdnos pasekm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s variantas, kad  TCP serveris visai negalės atsakyti į užklaus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visi TCP serveriai yra užtvindomi, nebelieka nei vieno, kuris galėtų priimti susijungimo užklausą ir išvesti iš CLOSE būvio so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ver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FA0-0F97-4645-BA87-04B32463636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fl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UDP datagramų kiekis aukos sistemai stengiant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aurinti pralaidu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Siunčiam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lsifik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ketai iš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charg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UDP serviso į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ch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ervisą kitame ho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asi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raudžia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stemos diagnoz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kir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ų atėjimą į vidinį tinklą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išor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raggle ti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os gaunasi pasiuntus UDP paket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u(paketai nukeliauja į aibę tinklų –ir visi tų tinklų hostai atsako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mur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a – Echo – į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ą). Siuntėjo adresas gali būti pake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9FC-1840-43D3-B5E5-CC01199501F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adreso pakeitimas (spoof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YN Flooding, UDP Flooding atakos yra paremtos tuo, kad kaip šaltinio adresai yra nurodom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dirbti adresai, kurie gali būti atsitiktinai sugeneruoti, bet turėti tikrų adresų įvaizdį, tačiau paimti iš nenaudojamo diapaz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imti iš visai kito, svetimos organizacijos tinklo (aukos tinklo adminai gali pradėt blokuoti paketus, ateinančius iš šio adreso – organizacijos tinklas nekaltai  atsiduria DoS pozicijo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atsaka verčia siųsti atsakymus SYN/ACK, o jie gali keliauti padirbtais adresais, tuo pačiu užtvindant ir šiuos hos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E06-0B6A-4712-BFD1-CAF4BAD7F13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ource unreach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ost &lt;----- router &lt;--- Internet &lt;----- router &lt;-- 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92.168.0.4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0.0.0.13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72.16.0.2/32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urodyti adresai skirti privatiems tinklams, jų nėra maršrutizacijos lentelė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848-2EEB-40F9-A183-92AB403AB4A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valid source ad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os hostui siunčiamas srautas TCP SYN paketų, nurodant teisingą, tačiau suklastotą adre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a siunčia srautą SYN/ACK kaip atsaky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žeidžiami du hostai. Jų funkcionalumas krinta arba visai sustabd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ndoma kovoti tobulinant pačias operacines sistemas, kad esant dideliam susijungimo aktyvumui iš vieno taško, tai interpretuot kaip atak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998-1FBC-4CF4-B22F-B0C9DEDB32F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ketai su neteisingu šaltinio adresu nepraleidž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1371600"/>
            <a:ext cx="51055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1.0.0.0/8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1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SP &lt;----- ISP &lt;---- ISP &lt;--- ISP &lt;-- router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&lt;-- attac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A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B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C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3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.0.0.0/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2286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ai, priimdami paketus praleidžia tik tuos, kurių šaltinio adresu nurodomas teisingas ad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24D-550A-4B28-A1F9-8C63A72FDE8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pakeitimas-spoo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ofing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šk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e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, dar tikslia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o IP adre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žmonių yra suinteresuoti šia klastote, nes mano, kad spoofingas leidžia įsilaužti į mašiną ir li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šk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nim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pilnai nepaslepia atakuoto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oblema yra tame, kad visi atsakymai grįž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igi jei jūs suklastojote siuntėją, tai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maty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aky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enaudingas normaliai veikl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auding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iose situacijose, kur atsakymo pamatymas nėra būti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853-EE41-4016-BD9D-107E3CED233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klast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aklas arba ne a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Aklo spoofingo atveju jūs nesužinote atsako, o ne aklo spoofingo atveju hakeris sėdi kažkur šalia ir gaudo (sniffing) pa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naudojamas maršrutizatoriaus adresu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kei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statant adresinę atitikimybę tarp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P bei 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ų yra naudojamo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užklausos. Jų skaičiui sumažinti sužinota informacija yra laiko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cho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ntelėse. Jei hakeris pasiųs gretimoms mašinoms ARP užklausą, kurioje bus nurodyta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šrutizatoriaus I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,kuriam atitinkanti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bus jo mašinos MAC adresas, tai šį atitikimą mašinos įsirašys į savas ARP lenteles ir ims tikėti, kad maršrutizatoriumi yra hakerio mašina ir siųs srautą į šią maši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gali sukelti hostui DoS tipo ataką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hakeris panaudos tos maši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ą ir savo MAC adresą,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gausis , kad aukos mašina kaip ir išjungta iš tinklo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2D5-943A-4A39-AE0E-45C3087AA74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tsakoma į Telnet susijungimo bandym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klauso reikalaujamam por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o vykdyti telnet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į myhost.c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yma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60000:200960000(0) ack 3774957991 win 1024 &lt;mss 1460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924-F94C-44E6-A537-EC3ADC8078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us susijungimo sudar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2590920"/>
            <a:ext cx="50292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2590920"/>
            <a:ext cx="5029200" cy="282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/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996-A37D-403A-A748-FE7EE84AB5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ia atspėti eilės numerį kurį naudos mašina, su kuria norima susijung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ėra neįman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ijuoja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lus susijungimas ir tada įsiterpiama spėjant pradinį sekos eilės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simetama ki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4114800"/>
            <a:ext cx="457200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4114800"/>
            <a:ext cx="4572000" cy="24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s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3BA-367F-45F5-B863-3543EB3A41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(X)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----------S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3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aktiškai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X apsimetaT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pėt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spėtas ISN bus neteisingas, susijungimas nepavy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taba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2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&gt; 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keliauja iki T, kuris gali atmesti jungtį. T yra pažeidžiamas SYN Floodingu, kad nebepriimtų jokių pake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367-A97B-4248-BDDE-76101851367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neįmanoma panaudoti spoofingą TCP jungties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 yra dėl tos priežasties, kad abi TCP jungties pusės renkas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ISN-Initial Sequence Numbers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d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ekos num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tai pil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itikti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čius, kurio neįmanoma atspė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ktiškai jis kartais yra lengvai atspėjamas. Mitnikas naudojo šią techniką atakuodamas Shimomur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089-7591-4783-A7E0-2067324347D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nal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jekte ISN tarnavo kaip priemonė perdavimo problemų išsprendimui, o ne kaip kovos prieš hakerius priemon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e operacinėse sistemose šių reikšmių generavimas vykdomas pagal paprastesnius algorit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 šie meto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a, 64K taisykl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ų skaičių generator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EA4-D4EC-4EEB-86F7-50B57894EDB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4K taisykl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as kiekvieną sekundę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padidinama pastovia konsta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inicijuojamas naujas susijungim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didinama kita konstan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 žinant ISN vienam susijungimui, galima atspėti sekančio susijungimo IS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1 sekundė – pakankamai ilgas laiko tarpas kompiuteriniame pasaul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64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syk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F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O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8AF-8545-46DA-B10E-67BD10783FC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puliarus ir paprastas gene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tsitiktinius skaiči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liz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ijos užkrovimo me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kas kiekvien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x time_units‘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laiko interva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 vis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time_units'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lygaus dydžio, jų ilgis priklauso nuo to kaip jie matuojami, kokia kompiuterio apkrova  i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nesniu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randuoliuos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vienetu kas kiekvieną micro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BBA-5B2A-4549-AC94-0221A6ED97D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iunčiama eilė SYN paketų iš realaus IP tikslu gauti atsakymus ir juos studij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spėjama, kad yra taikoma “64K” taisyklė, tai nagrinėjami skirtumai tarp dviejų, viens po kito einančių SYN paketų, jis turi dalytis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naudojamas koks nors ryšys susijęs su laiku, spėjimo schema grindžiam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Trip Ti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RT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laikas nuo paketo išsiuntimo iki atsakymo gav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masi tokia seka f-j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ransmit_TCP(fd_send, NULL, 0,0,0, SOURCE, port, TARGET, TARGET_P, STARTSEQ+i,0, SYN);    stat=wait_packet(fd_receive,&amp;pinfo,TARGET,TARGET_P,SOURCE,port,SYN,20);  gettimeofday(&amp;(time_list[i]),NULL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eilės SYN persiuntimų bandoma matematiškai apskaičiuoti, kaip keičiamas ISN skaičius aukos ho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23F-A041-487C-A44B-59F6F0429F5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429000" y="4191120"/>
            <a:ext cx="2857320" cy="793800"/>
            <a:chOff x="3429000" y="4191120"/>
            <a:chExt cx="2857320" cy="793800"/>
          </a:xfrm>
        </p:grpSpPr>
        <p:sp>
          <p:nvSpPr>
            <p:cNvPr id="651" name=""/>
            <p:cNvSpPr/>
            <p:nvPr/>
          </p:nvSpPr>
          <p:spPr>
            <a:xfrm>
              <a:off x="3429000" y="4191120"/>
              <a:ext cx="2857320" cy="7938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429000" y="4191120"/>
              <a:ext cx="2856960" cy="793800"/>
              <a:chOff x="3429000" y="4191120"/>
              <a:chExt cx="2856960" cy="793800"/>
            </a:xfrm>
          </p:grpSpPr>
          <p:sp>
            <p:nvSpPr>
              <p:cNvPr id="653" name=""/>
              <p:cNvSpPr/>
              <p:nvPr/>
            </p:nvSpPr>
            <p:spPr>
              <a:xfrm>
                <a:off x="3429000" y="4191120"/>
                <a:ext cx="2856960" cy="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29000" y="4191120"/>
                <a:ext cx="2856960" cy="7938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GB" sz="4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lt-LT" sz="4600" spc="-1" strike="noStrike">
                    <a:solidFill>
                      <a:srgbClr val="000000"/>
                    </a:solidFill>
                    <a:latin typeface="Verdana"/>
                  </a:rPr>
                  <a:t>Pabaiga</a:t>
                </a:r>
                <a:r>
                  <a:rPr b="0" lang="en-GB" sz="7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5" name="SKATEBOARDER" descr="Skateboard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51460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4E4-879B-4CB2-A61C-B5F15484130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siklauso užklausiamame por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0(0)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774957991 win 0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egzist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 - admin prohibited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0C9-E583-46DD-ADE8-75CADD78AD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, routeris neatsak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lėti ir neteikti unreachable pranešim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nform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_client.com  kad kažkas yra negerai, ta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_client.co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tin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jungimo bandym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j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interva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o metu šie pakartojimai yra siunčiami priklauso nuo operacinės sistemos to hosto, kuris siunč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596-0299-4B35-965D-0877200ED4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saky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užklausa yra panaudota parodymui kaip UDP atsako į skirt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klauso reikalaujamam por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+ rodo kad rekursija yra leis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vykdo domeno servisą ir atsak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domain &gt; nslookup.com.45070  51007 1/0/0 (193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51007 – užklausos id , 1- atsakymų įrašas, 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ame server records an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uthority record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– įrašo ilgis be galvučių 193 ba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0E0-35E4-48CF-BA4E-690041371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nesiklauso reikalaujamam port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nevykdo domeno ser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tsa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 &gt; nslookup.com :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nslookup.com udp port domain un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D9F-BDA7-406B-9569-8413B5FE39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7:11:56Z</dcterms:created>
  <dc:creator>Kristina</dc:creator>
  <dc:description/>
  <dc:language>en-US</dc:language>
  <cp:lastModifiedBy>Kristina</cp:lastModifiedBy>
  <dcterms:modified xsi:type="dcterms:W3CDTF">2004-10-13T09:28:45Z</dcterms:modified>
  <cp:revision>23</cp:revision>
  <dc:subject/>
  <dc:title>Temos</dc:title>
</cp:coreProperties>
</file>