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3.jpeg" ContentType="image/jpeg"/>
  <Override PartName="/ppt/media/image2.jpeg" ContentType="image/jpeg"/>
  <Override PartName="/ppt/media/image4.wmf" ContentType="image/x-wmf"/>
  <Override PartName="/ppt/media/image27.wmf" ContentType="image/x-wmf"/>
  <Override PartName="/ppt/media/image1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6.png" ContentType="image/png"/>
  <Override PartName="/ppt/media/image23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EAF-12BC-4845-AA29-AAF0CCAA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9F7-E0FC-4951-890C-B79D5E8B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35F-C253-498E-B8DF-DDD62B59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BB2-076B-44CD-8DDF-D7982A2A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1B4-2E5D-49CB-A0E2-88D6666D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06D-C465-48DD-A362-7416A4D2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6B3-85EA-4255-AAAA-66D7661D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439-F34A-4149-9C19-9D39A4B0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186-5C5C-4E14-830F-07A71127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D71-2022-455C-ADF6-3B642C8A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82C-A658-49A0-A431-8058286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620-4C2E-4E94-AC14-76BE8E67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A052-AA3E-4C03-B9B1-D7FD34C2C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ngimas kompiuterinėmis technologijomi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Kurso “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eklamos elektroninė leidyba” da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anka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531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3520" y="22096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inė įr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onito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rafinė plok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ene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ešimo 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otoapar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spausdintinė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V_61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220968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AV_62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176544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AV_63" descr=""/>
          <p:cNvPicPr/>
          <p:nvPr/>
        </p:nvPicPr>
        <p:blipFill>
          <a:blip r:embed="rId4"/>
          <a:stretch/>
        </p:blipFill>
        <p:spPr>
          <a:xfrm>
            <a:off x="6019920" y="2743200"/>
            <a:ext cx="1828800" cy="14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anka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1305000" cy="175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5640" y="1752480"/>
            <a:ext cx="278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terneto funkcij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 bū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augyk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mercijos r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3048120"/>
            <a:ext cx="397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ditorijos ma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ybė pasirinkti auditorij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eraktyvu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fektyvi preky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inam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24280" y="3047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nklal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lektroninis sky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0800" y="22320"/>
            <a:ext cx="5481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AV_92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480060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PAV_91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3429000" cy="544320"/>
          </a:xfrm>
          <a:prstGeom prst="rect">
            <a:avLst/>
          </a:prstGeom>
          <a:ln w="0">
            <a:noFill/>
          </a:ln>
        </p:spPr>
      </p:pic>
      <p:pic>
        <p:nvPicPr>
          <p:cNvPr id="119" name="PAV_93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6705360" cy="82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2133720"/>
            <a:ext cx="289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skusijų kl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š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bpzenklas" descr=""/>
          <p:cNvPicPr/>
          <p:nvPr/>
        </p:nvPicPr>
        <p:blipFill>
          <a:blip r:embed="rId6"/>
          <a:stretch/>
        </p:blipFill>
        <p:spPr>
          <a:xfrm>
            <a:off x="6477120" y="175248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4240" y="1371600"/>
            <a:ext cx="3858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kumentų kūr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alavimai (W3-Consort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ršyklė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nklapių kūrimo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362320"/>
            <a:ext cx="683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Tekstiniai redaktoriai (Windows Notepad, CofeeCup HTML Editor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Vizualiniai redaktoriai ( Microsoft FrontPage, Altaire HomeS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Macromedia Dreamwea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808080"/>
                </a:solidFill>
                <a:latin typeface="Times New Roman"/>
              </a:rPr>
              <a:t>Tarpiniai (HotMetal Pro 6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uojančios programos (MS Word, Adobe Photoshop 5.5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afik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ofesionalios programos (CorelDraw, Adobe Photosh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avimo programos (Windows Paint +Irfan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pecialios programos (DeBabelizer Pro 4.5.1, Flash 4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85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Įsimen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erskai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iš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 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pristat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48520" y="2819520"/>
          <a:ext cx="144756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819520"/>
                    <a:ext cx="1447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d05515_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156060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pe07677_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3733920"/>
            <a:ext cx="3809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S Pow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otus Freelance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Harvard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Ranka" descr=""/>
          <p:cNvPicPr/>
          <p:nvPr/>
        </p:nvPicPr>
        <p:blipFill>
          <a:blip r:embed="rId1"/>
          <a:stretch/>
        </p:blipFill>
        <p:spPr>
          <a:xfrm>
            <a:off x="4118040" y="2819520"/>
            <a:ext cx="90792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1600"/>
            </a:b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odulio</a:t>
            </a: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 struk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90840" y="1855800"/>
          <a:ext cx="6265800" cy="33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1855800"/>
                    <a:ext cx="62658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502080" y="11034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Trukmė – 2 val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br>
              <a:rPr sz="2000"/>
            </a:br>
            <a:br>
              <a:rPr sz="2000"/>
            </a:b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amp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V_1" descr=""/>
          <p:cNvPicPr/>
          <p:nvPr/>
        </p:nvPicPr>
        <p:blipFill>
          <a:blip r:embed="rId3"/>
          <a:stretch/>
        </p:blipFill>
        <p:spPr>
          <a:xfrm>
            <a:off x="1523880" y="1752480"/>
            <a:ext cx="3886200" cy="218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4114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4d4d4d"/>
                </a:solidFill>
                <a:latin typeface="Times New Roman"/>
              </a:rPr>
              <a:t>Senovinė reklama (1477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1676520"/>
            <a:ext cx="2361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aidmen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rketing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konom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cial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6934320" cy="70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A, tai sąmoningas, kryptingas ir planingas poveikis  vartotojams, siekiant tam tikrų tiks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209680"/>
            <a:ext cx="28958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Ginčytini klausima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Išpūsta”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koni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os estet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Flirto motyva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nka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130464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2514600"/>
            <a:ext cx="335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tereotipai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 vaik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inčytinų prekių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, veikianti į pasąmon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05740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alyvi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ykdytoj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os priemonė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avimo bū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inis praneš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liustr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ntra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ek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Šūk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kū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0880" y="1828800"/>
            <a:ext cx="3181320" cy="4008240"/>
            <a:chOff x="380880" y="1828800"/>
            <a:chExt cx="3181320" cy="4008240"/>
          </a:xfrm>
        </p:grpSpPr>
        <p:pic>
          <p:nvPicPr>
            <p:cNvPr id="72" name="PAV21" descr=""/>
            <p:cNvPicPr/>
            <p:nvPr/>
          </p:nvPicPr>
          <p:blipFill>
            <a:blip r:embed="rId3"/>
            <a:stretch/>
          </p:blipFill>
          <p:spPr>
            <a:xfrm>
              <a:off x="2057040" y="2637000"/>
              <a:ext cx="121932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AV22" descr=""/>
            <p:cNvPicPr/>
            <p:nvPr/>
          </p:nvPicPr>
          <p:blipFill>
            <a:blip r:embed="rId4"/>
            <a:stretch/>
          </p:blipFill>
          <p:spPr>
            <a:xfrm>
              <a:off x="1904760" y="1828800"/>
              <a:ext cx="1417680" cy="48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MP_LOGO" descr=""/>
            <p:cNvPicPr/>
            <p:nvPr/>
          </p:nvPicPr>
          <p:blipFill>
            <a:blip r:embed="rId5"/>
            <a:stretch/>
          </p:blipFill>
          <p:spPr>
            <a:xfrm>
              <a:off x="380880" y="1990080"/>
              <a:ext cx="1388880" cy="17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VIZIT4" descr=""/>
            <p:cNvPicPr/>
            <p:nvPr/>
          </p:nvPicPr>
          <p:blipFill>
            <a:blip r:embed="rId6"/>
            <a:stretch/>
          </p:blipFill>
          <p:spPr>
            <a:xfrm>
              <a:off x="380880" y="3929400"/>
              <a:ext cx="3181320" cy="19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mosonasd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AV_2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172080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REK4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349236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AV_3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79252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AV_4" descr=""/>
          <p:cNvPicPr/>
          <p:nvPr/>
        </p:nvPicPr>
        <p:blipFill>
          <a:blip r:embed="rId3"/>
          <a:stretch/>
        </p:blipFill>
        <p:spPr>
          <a:xfrm>
            <a:off x="0" y="609480"/>
            <a:ext cx="2297160" cy="624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ki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emosonasd" descr=""/>
          <p:cNvPicPr/>
          <p:nvPr/>
        </p:nvPicPr>
        <p:blipFill>
          <a:blip r:embed="rId4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lektron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kompas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2133360" cy="1854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2160" y="34286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ausdintin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eiklos pristat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klama Intern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spausdint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638680" y="1828800"/>
            <a:ext cx="2210040" cy="3657600"/>
            <a:chOff x="5638680" y="1828800"/>
            <a:chExt cx="2210040" cy="3657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848920" y="1828800"/>
              <a:ext cx="1387800" cy="28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638680" y="4833360"/>
              <a:ext cx="2210040" cy="65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Spalvų sistemos 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B ir CMY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76520" y="2133720"/>
            <a:ext cx="3429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rafikos Progr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dobe Photo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icrosoft PhotoDraw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Grafx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4T21:32:43Z</dcterms:created>
  <dc:creator>mes</dc:creator>
  <dc:description/>
  <dc:language>en-US</dc:language>
  <cp:lastModifiedBy>mes</cp:lastModifiedBy>
  <cp:lastPrinted>2000-05-15T04:45:18Z</cp:lastPrinted>
  <dcterms:modified xsi:type="dcterms:W3CDTF">2000-05-25T23:25:48Z</dcterms:modified>
  <cp:revision>63</cp:revision>
  <dc:subject/>
  <dc:title>Reklamos rengimas kompiuterinėmis technologijomis</dc:title>
</cp:coreProperties>
</file>