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8702A-E6C7-4DDB-A65D-D54CDC3FB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5F941-52D4-497B-92FC-CA475DB17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3A09-981B-429C-80AC-0960E29403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4469F-2217-46CB-8689-CD44503D6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E3BF0-2ABC-4B2E-B735-387E7D2203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E4317-8AA7-413A-89B5-3C1E95A8A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BC037-F98B-4A71-91BB-6038E2AB6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5B36F-31AC-4557-92BB-CF5ABDCBF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E0AAB-D214-4DA5-8606-2611CC3AD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A5C7A-9811-4B1A-AC37-FE71077C1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6FFA0-5067-447E-A713-CBC0482BED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DC56E-AD7B-4F11-80F0-958C663F0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6FD0-212D-40FE-B9B9-93E26D92DF87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Operatorių perkrovima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Laikini grąžinami kintamiej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Skirtumas tarp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(left.i + right.i);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nteger tmp(left.i + right.i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tmp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peratorių apibrėž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Visi unarinia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kaip klasės metod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( ) [ ] –&gt; –&gt;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Privalo būti klasės metod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= –= /= *= ^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amp;= |= %= &gt;&gt;= &lt;&lt;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Kaip klasės metod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Visi kiti binarinia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aip 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riend 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kcijo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12 skyri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peratorių perkrov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askirtis – palengvinti kodo skaitomum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peratorių perkrov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askirtis – palengvinti kodo skaitomum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Ne kas kita, kaip globali funkci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krauti operatorius galima tik vartotojo apibrėžtiems tip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ų skaičiu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Jei apibrėžiamas kaip globali funkcija, ta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Unariniai operatoriai – vienas parametra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Binariniai operatoriai – du parametr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Jei apibrėžiamas kaip klasės metodas, ta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Unariniai operatoriai – be parametrų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Binariniai operatoriai – vienas paramet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Sintaksė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Arial Unicode MS"/>
              </a:rPr>
              <a:t>//: C12:OperatorOverloadingSyntax.cp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#include &lt;iostrea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using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namespace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std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Integer(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i) : i(ii) {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+(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&amp; rv)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Arial Unicode MS"/>
              </a:rPr>
              <a:t>"operator+"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&lt;&lt; endl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(i + rv.i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Integer&amp;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+=(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&amp; rv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Arial Unicode MS"/>
              </a:rPr>
              <a:t>"operator+="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&lt;&lt; endl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i += rv.i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*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Integer ii(1), jj(2), kk(3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kk += ii + jj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ariantas – globali funkcij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refix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frien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&amp;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Integer&amp; a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ostfix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frien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Integer&amp; a,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refix; return incremented value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&amp;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Integer&amp; a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Verdana"/>
              </a:rPr>
              <a:t>"++Integer\n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a.i++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a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ostfix; return the value before increment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Integer&amp; a,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Verdana"/>
              </a:rPr>
              <a:t>"Integer++\n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nteger before(a.i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a.i++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efore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ariantas – metod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unsigne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ha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refix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&amp;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Verdana"/>
              </a:rPr>
              <a:t>"++Byte\n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++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*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ostfix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Verdana"/>
              </a:rPr>
              <a:t>"Byte++\n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yte before(b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++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efore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perator=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yte&amp;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=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&amp; right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Handle self-assignment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f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== &amp;right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*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 = right.b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*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Kaip šiame pavyzdyje būtų su priskyrimu a=b=c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Kaip šiame pavyzdyje būtų su priskyrimu (a=b).funk();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O kaip būtų su (++a).funk();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Binarinis operatoriu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&gt;=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&amp; right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 &gt;= right.b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4-01T03:13:52Z</dcterms:modified>
  <cp:revision>43</cp:revision>
  <dc:subject/>
  <dc:title>PowerPoint Presentation</dc:title>
</cp:coreProperties>
</file>