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8D71-C1BD-4AD5-ADC6-6F3E88FAA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9473B-82A3-4A54-B93D-7B8B4D960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1C1DE-E40B-474F-BECF-442CAFD8E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2C26E-40A6-4739-9054-E1FC1C519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4CDF-E326-4A1F-BD4B-95E6A79967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7B68-09FF-468B-844F-B23BBF7EA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D3EA-D401-4997-A1EE-34573E8E0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19F6-0A13-426D-A1C7-BCE62C3B28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D74BF-57E7-41EC-9B5C-3F10C6BFEA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4424-73B8-4CA9-9D4A-9018E45BA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3B87-F4B1-41FD-A580-70B8F4C26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7FC0-1075-4DA0-BB64-124A8A56F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FECE-F9D6-4266-9F58-C9B5A0D9DC16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Dinaminis objektų kūr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ų perda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1341360"/>
          <a:ext cx="253656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25365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84360" y="1989000"/>
          <a:ext cx="2319120" cy="108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989000"/>
                    <a:ext cx="231912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84360" y="3284640"/>
          <a:ext cx="5337000" cy="28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3284640"/>
                    <a:ext cx="533700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443640" y="5013360"/>
          <a:ext cx="2403360" cy="15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43640" y="5013360"/>
                    <a:ext cx="240336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ų perdavimas į konstruktorių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orint išvengti konstruktoriuje kopijavimo pabičiui, reikia apibrėžti konstruktorių su byref paramet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55640" y="0"/>
          <a:ext cx="5484960" cy="701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0"/>
                    <a:ext cx="5484960" cy="701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1341360"/>
          <a:ext cx="5413320" cy="16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413320" cy="16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84360" y="5157720"/>
          <a:ext cx="4152600" cy="93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5157720"/>
                    <a:ext cx="415260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1 skyri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ų objektų masyv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4360" y="1989000"/>
          <a:ext cx="8459640" cy="25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84596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o masyvo plėt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4360" y="1341360"/>
          <a:ext cx="803880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803880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Nuorodos ir kopijavimo konstruktoriu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uorod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1341360"/>
          <a:ext cx="5873760" cy="371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873760" cy="37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uorodos funkcijų parametruos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4360" y="1341360"/>
          <a:ext cx="5599080" cy="45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59908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nstantinės nuorod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1341360"/>
          <a:ext cx="252540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252540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uorodos į rodyklę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ai norime keisti ne objektą, o pačios rodyklės reikšmę funkcijoj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42920" y="2349360"/>
          <a:ext cx="1760760" cy="2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349360"/>
                    <a:ext cx="176076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71640" y="2708280"/>
          <a:ext cx="169056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2708280"/>
                    <a:ext cx="1690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971640" y="3789360"/>
          <a:ext cx="4205160" cy="250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3789360"/>
                    <a:ext cx="420516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Kopijavimo konstruktoriu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3-04T14:09:33Z</dcterms:modified>
  <cp:revision>37</cp:revision>
  <dc:subject/>
  <dc:title>PowerPoint Presentation</dc:title>
</cp:coreProperties>
</file>