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11.wmf" ContentType="image/x-wmf"/>
  <Override PartName="/ppt/media/image6.wmf" ContentType="image/x-wmf"/>
  <Override PartName="/ppt/media/image21.wmf" ContentType="image/x-wmf"/>
  <Override PartName="/ppt/media/image19.wmf" ContentType="image/x-wmf"/>
  <Override PartName="/ppt/media/image1.wmf" ContentType="image/x-wmf"/>
  <Override PartName="/ppt/media/image2.wmf" ContentType="image/x-wmf"/>
  <Override PartName="/ppt/media/image20.png" ContentType="image/png"/>
  <Override PartName="/ppt/media/image18.png" ContentType="image/png"/>
  <Override PartName="/ppt/media/image17.wmf" ContentType="image/x-wmf"/>
  <Override PartName="/ppt/media/image16.wmf" ContentType="image/x-wmf"/>
  <Override PartName="/ppt/media/image15.png" ContentType="image/png"/>
  <Override PartName="/ppt/media/image14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Verdana"/>
              </a:rPr>
              <a:t>Click to move the slide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95A08-35BD-4431-BB02-0C24C60DD71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00000"/>
                </a:solidFill>
                <a:latin typeface="Times New Roman"/>
              </a:rPr>
              <a:t>Tačiau daug griežtesnis tipų tikrinimas nei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00000"/>
                </a:solidFill>
                <a:latin typeface="Times New Roman"/>
              </a:rPr>
              <a:t>C++ enum nėra sutapatinamas su int, todė negalima rašyti shape++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00000"/>
                </a:solidFill>
                <a:latin typeface="Times New Roman"/>
              </a:rPr>
              <a:t>Masyvo pirmo elemento adresas yra tas pats kaip masyvo adresa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00000"/>
                </a:solidFill>
                <a:latin typeface="Times New Roman"/>
              </a:rPr>
              <a:t>Negalima perduoti masyvo pagal reikšmę – visada perduodamas pirmo elemento adres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00000"/>
                </a:solidFill>
                <a:latin typeface="Times New Roman"/>
              </a:rPr>
              <a:t>Galima lygiai taip pat naudoti 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00000"/>
                </a:solidFill>
                <a:latin typeface="Times New Roman"/>
              </a:rPr>
              <a:t>Tačiau + ir – operatoriai leidžia prie rodyklės pridėti tik sveiką skaičių (ir neleidžia kitos rodyklė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0181F6-EB4A-4EBB-9B1B-428CDEA342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24640"/>
            <a:ext cx="77724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7680AB-8D81-4687-9FF5-84BFCA88DE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2464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2464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CCE86A-11E3-40A1-BE95-F5E5BAFAEF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34100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34100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2464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2464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2464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097B8F-1655-454F-879D-4D19CFC492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4360" y="29160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82464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A93FF4-394E-4AB2-AF99-26A0027E31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382464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824640"/>
            <a:ext cx="77724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824640"/>
            <a:ext cx="77724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82464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382464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34100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34100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82464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382464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382464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8B4E52-2794-4B4B-9302-9437E6837B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0399AD-A5A2-41F4-987C-C67759A10B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3DEAAC-B3C9-4F6C-BE17-D9EEAACE3B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4360" y="29160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E6EC55-57AE-4EEF-9EA9-222A6EC3E5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2464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62F2A6-D416-4F49-A314-966397CFAE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2464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E353BD-A457-4222-AA57-35F736E2B7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24640"/>
            <a:ext cx="77724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09E8F4-53FA-4461-BD8E-C4CA3D89F4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lnSpc>
                <a:spcPct val="110000"/>
              </a:lnSpc>
              <a:spcBef>
                <a:spcPts val="18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lnSpc>
                <a:spcPct val="110000"/>
              </a:lnSpc>
              <a:spcBef>
                <a:spcPts val="18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-3240" y="6200640"/>
            <a:ext cx="9144000" cy="0"/>
          </a:xfrm>
          <a:prstGeom prst="line">
            <a:avLst/>
          </a:prstGeom>
          <a:ln w="6480">
            <a:solidFill>
              <a:srgbClr val="c8c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-3240" y="6218280"/>
            <a:ext cx="9144000" cy="0"/>
          </a:xfrm>
          <a:prstGeom prst="line">
            <a:avLst/>
          </a:prstGeom>
          <a:ln w="6480">
            <a:solidFill>
              <a:srgbClr val="c8c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-3240" y="6235560"/>
            <a:ext cx="9144000" cy="0"/>
          </a:xfrm>
          <a:prstGeom prst="line">
            <a:avLst/>
          </a:prstGeom>
          <a:ln w="6480">
            <a:solidFill>
              <a:srgbClr val="c8c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-3240" y="6254640"/>
            <a:ext cx="9144000" cy="0"/>
          </a:xfrm>
          <a:prstGeom prst="line">
            <a:avLst/>
          </a:prstGeom>
          <a:ln w="6480">
            <a:solidFill>
              <a:srgbClr val="c8c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1066680"/>
            <a:ext cx="9144000" cy="228600"/>
          </a:xfrm>
          <a:prstGeom prst="rect">
            <a:avLst/>
          </a:prstGeom>
          <a:solidFill>
            <a:srgbClr val="d7d7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00" rIns="72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8457840" y="6248160"/>
            <a:ext cx="685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7d7ce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8C9C3-2B79-4106-8BBB-A1029ECA599E}" type="slidenum">
              <a:rPr b="0" lang="en-US" sz="1400" spc="-1" strike="noStrike">
                <a:solidFill>
                  <a:srgbClr val="d7d7ce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45" name=""/>
          <p:cNvSpPr/>
          <p:nvPr/>
        </p:nvSpPr>
        <p:spPr>
          <a:xfrm>
            <a:off x="-3240" y="6200640"/>
            <a:ext cx="9144000" cy="0"/>
          </a:xfrm>
          <a:prstGeom prst="line">
            <a:avLst/>
          </a:prstGeom>
          <a:ln w="6480">
            <a:solidFill>
              <a:srgbClr val="c8c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-3240" y="6218280"/>
            <a:ext cx="9144000" cy="0"/>
          </a:xfrm>
          <a:prstGeom prst="line">
            <a:avLst/>
          </a:prstGeom>
          <a:ln w="6480">
            <a:solidFill>
              <a:srgbClr val="c8c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-3240" y="6235560"/>
            <a:ext cx="9144000" cy="0"/>
          </a:xfrm>
          <a:prstGeom prst="line">
            <a:avLst/>
          </a:prstGeom>
          <a:ln w="6480">
            <a:solidFill>
              <a:srgbClr val="c8c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-3240" y="6254640"/>
            <a:ext cx="9144000" cy="0"/>
          </a:xfrm>
          <a:prstGeom prst="line">
            <a:avLst/>
          </a:prstGeom>
          <a:ln w="6480">
            <a:solidFill>
              <a:srgbClr val="c8c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1523880"/>
            <a:ext cx="9144000" cy="228600"/>
          </a:xfrm>
          <a:prstGeom prst="rect">
            <a:avLst/>
          </a:prstGeom>
          <a:solidFill>
            <a:srgbClr val="d7d7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  <a:p>
            <a:pPr lvl="1" marL="457200" indent="0" algn="ctr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lnSpc>
                <a:spcPct val="110000"/>
              </a:lnSpc>
              <a:spcBef>
                <a:spcPts val="1001"/>
              </a:spcBef>
              <a:buClr>
                <a:srgbClr val="c00000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lnSpc>
                <a:spcPct val="110000"/>
              </a:lnSpc>
              <a:spcBef>
                <a:spcPts val="400"/>
              </a:spcBef>
              <a:buClr>
                <a:srgbClr val="c00000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lnSpc>
                <a:spcPct val="110000"/>
              </a:lnSpc>
              <a:spcBef>
                <a:spcPts val="400"/>
              </a:spcBef>
              <a:buClr>
                <a:srgbClr val="c00000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png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Objektinis programavimas C++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404040"/>
                </a:solidFill>
                <a:latin typeface="Verdana"/>
              </a:rPr>
              <a:t>C++ pagrindai</a:t>
            </a: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Funkcijų masyvas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684360" y="1341360"/>
            <a:ext cx="3919320" cy="57168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684360" y="1989000"/>
            <a:ext cx="4609800" cy="420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Objektinis programavimas C++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404040"/>
                </a:solidFill>
                <a:latin typeface="Verdana"/>
              </a:rPr>
              <a:t>Klasės ir objektai</a:t>
            </a: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(turinys)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Verdana"/>
              </a:rPr>
              <a:t>Klasės Point apibrėžimo pavyzdys (struct ir clas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Verdana"/>
              </a:rPr>
              <a:t>Matomumas su private, public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Verdana"/>
              </a:rPr>
              <a:t>Konstruktorius, destruktoriu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Verdana"/>
              </a:rPr>
              <a:t>Suskaidymas į hpp ir cpp failus, #ifdef apskliaudim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Namų darbai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Verdana"/>
              </a:rPr>
              <a:t>Perskaityti TICPP iki 6 skyriaus (imtinai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enum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684360" y="1341360"/>
            <a:ext cx="5472000" cy="41497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684360" y="5805360"/>
            <a:ext cx="3671640" cy="3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union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684360" y="1341360"/>
            <a:ext cx="4530600" cy="205416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700200" y="3381480"/>
            <a:ext cx="4440240" cy="25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Masyvai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684360" y="1341360"/>
            <a:ext cx="4479840" cy="20512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684360" y="4076640"/>
            <a:ext cx="4740120" cy="20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Masyvai ir adresai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684360" y="1341360"/>
            <a:ext cx="2925720" cy="24274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684360" y="3700440"/>
            <a:ext cx="4095720" cy="29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Adresų aritmetika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4360" y="1341360"/>
            <a:ext cx="3530520" cy="29797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684360" y="5229360"/>
            <a:ext cx="1284120" cy="7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Adresų aritmetika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684360" y="1341360"/>
            <a:ext cx="3530520" cy="16844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684360" y="3860640"/>
            <a:ext cx="2234880" cy="6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Funkcijų adresai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84360" y="2349360"/>
            <a:ext cx="1803240" cy="2383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684360" y="1557360"/>
            <a:ext cx="1672920" cy="280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4" name=""/>
          <p:cNvGraphicFramePr/>
          <p:nvPr/>
        </p:nvGraphicFramePr>
        <p:xfrm>
          <a:off x="684360" y="2781360"/>
          <a:ext cx="1342800" cy="199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4360" y="2781360"/>
                    <a:ext cx="134280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Sudėtingos išraiškos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c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Verdana"/>
              </a:rPr>
              <a:t>fp1 yra rodyklė į funkciją, kuri turi vieną int parametrą ir grąžina rodyklę į 10 void* masyvą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684360" y="1341360"/>
            <a:ext cx="3325680" cy="2588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684360" y="2565360"/>
            <a:ext cx="4476600" cy="28728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611280" y="4076640"/>
            <a:ext cx="4592520" cy="51768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4"/>
          <a:stretch/>
        </p:blipFill>
        <p:spPr>
          <a:xfrm>
            <a:off x="684360" y="5661000"/>
            <a:ext cx="2749320" cy="27324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684360" y="2924280"/>
            <a:ext cx="7772400" cy="100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c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Verdana"/>
              </a:rPr>
              <a:t>fp2 yra rodyklė į funkciją, kuri turi 3 parametrus ir grąžina rodyklę į funkciją, kuri turi int parametrą ir grąžina flo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87240" y="4508640"/>
            <a:ext cx="7772400" cy="100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c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Verdana"/>
              </a:rPr>
              <a:t>fp3 yra rodyklė į funkciją, kuri neturi parametrų ir grąžina rodyklę į 10 elementų masyvą rodyklių į funkcijas be parametrų ir grąžinančių dou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84360" y="5877000"/>
            <a:ext cx="77724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c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Verdana"/>
              </a:rPr>
              <a:t>f4 yra funkcija, kuri grąžina rodyklę į 10 elementų masyvą rodyklių į funkcijų, grąžinančių 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0T20:44:31Z</dcterms:created>
  <dc:creator>Andrius Adamonis</dc:creator>
  <dc:description/>
  <dc:language>en-US</dc:language>
  <cp:lastModifiedBy>Andrius Adamonis</cp:lastModifiedBy>
  <dcterms:modified xsi:type="dcterms:W3CDTF">2005-02-21T11:40:50Z</dcterms:modified>
  <cp:revision>33</cp:revision>
  <dc:subject/>
  <dc:title>PowerPoint Presentation</dc:title>
</cp:coreProperties>
</file>