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00F-E49B-4B9E-880F-6E24E53A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5FE-48FE-4D18-8C09-94931259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0B5-51A5-481E-B300-DD1F25F8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DDB-1961-4739-912D-A09EE609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270F-C42A-4F54-B067-E4213ADF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B03F-1891-4106-B9FB-8AA34A84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5DB3-DFF6-46D8-AD02-7179D063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9B37-8F3E-49DC-BB01-2F584A12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4BB2-2F8A-4730-B139-87F0D245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1668-1B4E-41A5-B07A-9BBB11DA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9361-976C-42C1-80E0-0167F81F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648-3269-44C7-A161-28EB066A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DF7E-388B-4B95-B185-BC5A9D0A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5E7D-A989-475C-94EB-57F02DC5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927F-8F83-457A-96F3-4B7F42A3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AA94-5947-4F4F-8CD6-4AFE1F79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079F-31F1-4B50-8942-E9D857D4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E79-82A4-4B88-A37C-D0E972B8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27A-8445-44BE-A2E8-1280B6BE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3C0-D8EB-4C42-9EE2-DC94B7E9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ACE-7873-4748-995E-C6A6A85F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208-7CAC-4D21-9B56-322EF166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5BF-9C90-40CE-ACE0-FF46A095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C1F-2F6E-4E3B-B069-E3BE7500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FE04-75C7-4772-9036-E36F8F74D63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40F4-ED6A-4B0A-BA8B-7754152CE1C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aikoma, kad graikų filosofas Dioskoridas I a.pr.Kr. panaudojo terminą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pibu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oformą pirmą kartą buvo panaudojo H.Coot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Intraveninė a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ė anestezija gimė 18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4-01-08T07:45:01Z</dcterms:modified>
  <cp:revision>1</cp:revision>
  <dc:subject/>
  <dc:title>Aneteziologija iki eterio</dc:title>
</cp:coreProperties>
</file>