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0666-D5BA-4FC4-B85C-06AFD191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7921-CD9D-4CB5-9F0B-D444B1EB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2168-8BA4-4386-BC60-729CA116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BDD7-4178-4567-9EB4-233A78DB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992D-91B0-4B3A-9646-442CEE8B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E625-AF9A-4A54-8DBF-E5663A62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1BFE-9FD5-4294-873E-C83E5370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B3B6-39BA-4C0C-9663-5C732C31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1B18-06D5-4445-A477-EE315913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AEB2-AC0E-4779-BD69-4B74D752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F8E4-6C70-4DF0-AF28-176C475B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D15F-8B16-4B3B-A697-F7B1AAED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4E6C-85FB-4344-A45E-9943135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336E-B8EC-4077-B68C-B8A01F3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592A-C1FE-46C4-8ABE-E7476989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9416-EB14-41D0-85D4-505FA787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0CB7-966F-4C26-A8FD-7502C1B6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2D0B-8FBB-4DCB-9C37-904D736F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BB04-7D03-4A15-8660-4D56F5E6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708F-19C5-4460-A75E-1B9FE95E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89F3-FD6B-4352-9526-09622768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AD16-FAD1-4EB1-BBF6-0353F5CF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A01D-7AE2-470B-9697-6F8662B0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9111-65B2-40FC-A4F5-086715CC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2723-A3EC-48AA-880C-A2055345EC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90D2-A870-4897-9821-1AF3817635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ffffff"/>
                </a:solidFill>
                <a:latin typeface="Times New Roman"/>
              </a:rPr>
              <a:t>Verslas. Verslumas. Verslininkystė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disponuojantis kapitalu ir siekiantis jį padidinti, ieškantis naujų pelningų veiklos sričių, pasitelkiantis dalykines žinias ir žmogiškąsias savyb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asmuo, kuris susiejęs lėšas, darbą, mežiagas ir pan., padidina jų visuminę ver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sicholog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žmogus, kurį veikti skatina tam tikri motyvai: troškimas ką nors gyvenime pasiekti, įgyti savarankiškumą ir p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923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tų verslininkų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pavojingas varžovas arba, priešingai, partneris, tiekėjas, pirkėjas ir 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kro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žmogus, didinantis ne vien savo, bet ir nacionalinį turtą, atskleidžiantis geresnį išteklių naudojimo, nuostolių mažinimo būdus, kuriantis naujas darbo vie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ko nors nauja, turinčio vertę kūrimas, jėgų ir laiko reikalaujantis, asmeninę, finansinę, moralinę ir socialinę atsakomybę numatantis procesas, kuris galų gale teikia pinigų ir pasitenkinimą pasiektais rezultata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6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– tai ne vien veiklos forma, gyvenimo būdas, mokslas ir menas kartu paėmus; tai dar poezija ir kūrybinis polėkis, sportas, ekonominės rizikos sritis; jis aprėpia savus rašytinius ir nerašytinius dėsnius, principus, tarpusavio bendravimo etiką, slaptus sveikatos poveikio mechanizm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Nauji, dinamiški, nedideli, bet lankstūs verslai atlieka daug svarbių funkcijų visuomenėje ir nacionalinėje ekonomik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amina prekes, teikia paslaugas, kuria pridėtinę vertę ir didina nacionalines paja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pildo ribotas geografines, gamybines, paslaugų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moka mokesč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kuria naujas darbo vietas, kurios valstybei nieko nekainuo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ininkai apmoko ir įdarbina daug nekvalifikuotų darbinink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perskirsto išteklius, skatina konkuruo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eriau tenkina net itin specifinius bei pavienius vartotojų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veikia kaip ekonominio šoko slopintuvai, nustatantys ekonominio pakilimo ir depresijų rib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dekoncentruoja ekonomines jėgas ir sprendimų pasirink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tikrina individualias galimybes ir socialinį mobilu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ai tenkina asmeninius poreikius bei siekius tų asmenų, kurie juos turi ir val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, ypač nauji, yra tarsi laboratorijos, kuriose galima pigiai išbandyti idėjas, produktus, paslaugas, naujas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ūtent verslai buvo, yra ir bus tarptautinių korporacijų lopš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Išor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92360" y="3860640"/>
            <a:ext cx="2303640" cy="505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5640" y="2421000"/>
            <a:ext cx="230364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458136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katina konkuruo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27640" y="242100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Teikia paslau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156360" y="4653000"/>
            <a:ext cx="2232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kuria tu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43280" y="6021360"/>
            <a:ext cx="3600360" cy="576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teikia naujų darbo viet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2626920" y="2923920"/>
            <a:ext cx="86508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2987640" y="4365720"/>
            <a:ext cx="504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796000" y="2923920"/>
            <a:ext cx="86364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96000" y="436572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43280" y="43657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Vid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87640" y="3645000"/>
            <a:ext cx="2736720" cy="504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2205000"/>
            <a:ext cx="2519280" cy="719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inansinės apska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12000" y="2276640"/>
            <a:ext cx="244764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ersonalo valdy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8360" y="5229360"/>
            <a:ext cx="273528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Rinkodaros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40360" y="5229360"/>
            <a:ext cx="266400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Tiekimo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19280" y="292428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164360" y="299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7640" y="256536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3640" y="5589720"/>
            <a:ext cx="273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87640" y="2924280"/>
            <a:ext cx="720720" cy="72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003280" y="2997360"/>
            <a:ext cx="1008360" cy="6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203640" y="4149360"/>
            <a:ext cx="57636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5076360" y="4149360"/>
            <a:ext cx="86364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3280" y="2997360"/>
            <a:ext cx="3600360" cy="29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2924280"/>
            <a:ext cx="4105080" cy="302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Verslą sudar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 etapa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ujos idėjos paieška ir jos įvertini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erslo plano sudary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teklių paiešk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įsteigtos įmonės valdym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Išskiriamos šios verslininkystės rūš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gamyb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omerc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inansin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as. Verslumas.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Tiksla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siaiškinti pagrindines verslo sąvok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uformuluoti verslo sampratos apibrėžimą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analizuoti verslo funkcij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rūši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įtaką šalies ekonominei sistema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Gamybinė 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apima prekių gamybą ir vartoj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Komercinės verslininkystė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agrindas yra komerciniai sandoriai, t.y. prekių ir paslaugų perpardav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Finansinėje verslininkystėje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irkimo ir pardavimo objektas yra pinigai, valiuta, vertybiniai popieri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ir XXI a. sandūroje pasaulis yra globalizacijos, naujos informacijos valdymo ir pramonės revoliucijos eros pradžio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ežastys, kurios skatina kurtis mažas ir vidutines įmones ir didina jų reikšmę pasauliui, yra sekanč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žagabaritinės technikos suklestėj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šių kanalų, informatikos suklestėjimas paprastina priėjimą prie duomenų bazių, lengvina kontaktą su klientais ir tiekėjais užmezg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emografiniai pokyči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eimos verslo privalum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laugų plėtr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totojų poreikių skalės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chologinis darbuotojų poreikių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olatinis rinkos poreikių kit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ug verslo įmonių kuriasi buvusio Rytų bloko šalyse, tarp jų ir Lietuvoje, kadang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ažai mažų ir vidutinių įmonių atsirado privatizuojant buvusių valstybinių įmonių padaliniu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aikinus iš centro planuojamas ekonomines sistemas buvo suteikta laisvė privačiai iniciatyvai, kurios viena svarbiausių išraiškų – verslininkystės atgimim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ujai bsikuriančios įmonės dažniausiai gali būti tik mažos, nes jas kuriantys verslininkai nėra sukaupę didelio pradinio kapita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ame pasaulyje verslo įmonės yra valstybės remiamos, o Lietuvoje turėtų būti remiamos, nes j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tykinai mažomis išlaidomis sukuria darbo vietų, ypač paslaugų srityje, kuri nuolat plečias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deda spręsti užimtumo problemas nepramoniniuose ar šiaip atokiuose nuo pagrindinių šalies centrų regionuose, kur stambios įmonės paprastai nelinkusios plėtoti veikl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arbios kaip subrangovės, vykdančios stambių įmonių užsakymus abipusiškai naudingomis sąlygomi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idina gyventojų investicinį aktyvumą, naudodamos savininkų, jų giminaičių ir draugų asmenines santaupas verslui plės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ų daugėjant, mažėja kapitalo ir gamybos priemonių susitelkimas įvairiose verslo šakose, todėl sudaroma sveikesnė konkurenci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tina diegti inovacijas, nes sugeba lanksčiau prisitaikyti prie kintančių rinkos poreikių nei didelės įmonės ir kartu verčia pastarąsias neatsilik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enkina psichologinius žmonių atsakomybės, nuosavybės, sprendimo laisvės, individo saviraiškos ir kitus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žose šalyse naudoja įvairių vietų negausius vietinius gamtos ištekl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atsižvelgiant į produkto naujumą arba technologijas, kiekviena naujovė patenka į rinką šiais kanala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alstybės sektori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idinę verslininkystę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apskritai verslininkys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alstyb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gali remti mokslinius atradimus, tik ne visi jie įgyvendinam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idaus verslininkyst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tokia verslininkystė, kuri susiklostė verslo struktūrose ir užtikrina ryšį tarp mokslinių tyrimų ir gamyb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dar vienas kelias, įgalinantis mokslines idėjas paversti gaminiais, t.y. įgyvendinant naują idėją, įsteigiama ir pradeda veikti nauja įmon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 esmės veikia vietinę ekonomiką, nes ji stiprina materialinę ir techninę bazę, todėl daugėja naujų darbo viet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VV, nors ir stokoja finansinių išteklių, mokslinio potencialo, techninių galimybių, įgyvendina nepaprastai daug naujų idėj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a. inovacijų raida išryškino SVV reikšmę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mulkiojo ir vidutiniojo verslo subjektų gausa, aktyvi investicijų ir eksporto veikla, didelis užimtumas bei produktyvios naujos darbo vietos duoda realią naudą nacionalinės ekonomikos plėtr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agrindinis tuometinių verslininkų tiksla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buvo kuo labiau apgauti pirkėją gaunant ku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augiau naudos s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rslininkystės samprata kūrėsi stebint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asdienę žmonių ūkinę veikl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intanti socialinė aplinka sudarė sąlyg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urtis verslininkų bendrij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ieji bandymai teoriškai įprasminti reiškinį 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” įvyko tik XVII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dfdef6"/>
                </a:solidFill>
                <a:latin typeface="Times New Roman"/>
              </a:rPr>
              <a:t>Dėkoju už dėmesį </a:t>
            </a:r>
            <a:r>
              <a:rPr b="1" i="1" lang="en-US" sz="5400" spc="-1" strike="noStrike">
                <a:solidFill>
                  <a:srgbClr val="dfdef6"/>
                </a:solidFill>
                <a:latin typeface="Times New Roman"/>
                <a:ea typeface="Arial"/>
              </a:rPr>
              <a:t>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iduramžiais sąvoka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“verslininkas”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artojama dvejopa prasme: verslininkai buvo parodų ir muzikos renginių organizatoriai bei didelių galimybių arba statybinių projektų vadov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VII a. jau atsižvelgiama į rizikos veiksn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sudaręs su valstybe sutartį, kurios įgyvendinimo vertė iš anksto apta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ž. Lokas Prancūzijoje įkūrė Karališkąjį banką ir Misisipės bendrov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cij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dokumentas (vertybinis popierius), liudijantis nuosavybės ir balsavimo teisę akcinėje bendrovė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tyvai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konkrečiam  asmeniui priklausantis fizinis turtas (pinigai, akcijos, obligacijos) bei turtinės teisės, turinčios ekonominę vertę (patentai, autorių teisė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asis verslininkystės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teoreti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XVIII a. pr. Anglijos ekonomistas R.Kantilj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asak R.Kantiljono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žmogus, kuris tam tikra kaina perka gamybos priemones, kad pagamintų atitinkamai produkcijos, siekdamas gauti pajamų, tačiau nežino, kokiomis kainomis pardu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raktuojamas kaip žmogus, veikiantis rizikos sąlygo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.Sėjaus nuomone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tai žmogus, organizuojantis žmones gamybiniame viene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XVIII a. atskiriamos sąvokos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kapitalo savininkas”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ir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verslininkas”,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.y. atskiriamos kapitalo teikimo ir verslininkystės funk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Kapital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finansiniai ir materialiniai ištekliai prekėms gaminti ir paslaugoms teikti; į mokslą investuotos savininko lėš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Vartojamos sąvokos: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smulkusis verslas”, “vidutinis versla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SVV apibrėžti labiausiai tinka tokie ES priimti kriterij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inės įplaukos už realizuotą produkcij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lanso sum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dra įmonei priklausančio turto suma, įskaičius grynuosius pinigus, žaliavų ir prekių atsargas, žemę, įrenginius ir kitus ištekliu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buotojų skaič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BM bendrovės atstovas Tomas Dž. Votsonas jaunesnysis poetiškai teigia, kad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didžiausias žaidimas pasaulyje, jeigu žinote, kaip jį žaisti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stų požiūriu verslas y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onominė veikla, kuria siekiama peln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žsiėmimas, darbas, smulkioji gamyba, amat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giau trunkanti profesinė ir neprofesinė veikla, susijusi su pareigomis ir teisėmis siekiant uždarb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mybos, pirkimo, pardavimo ar tiekimo veikla, atliekama už pinigus ir t.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um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gamybos veiksnys, kurio turinys – žmogaus gebėjimas susieti kapitalą, darbą ir gamtinius išteklius, organizuoti verslą, įgyvendinti inovacijas, rizikuoti savo turtu ir gerove siekiant pel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nuosavybė, savarankiškumas, atsakomybė prieš visuomenę, dirbančiuosius, už save ir artimųjų gyvenim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8:09:29Z</dcterms:created>
  <dc:creator>a</dc:creator>
  <dc:description/>
  <dc:language>en-US</dc:language>
  <cp:lastModifiedBy>SK_06</cp:lastModifiedBy>
  <dcterms:modified xsi:type="dcterms:W3CDTF">2007-10-16T11:46:44Z</dcterms:modified>
  <cp:revision>32</cp:revision>
  <dc:subject/>
  <dc:title>Verslas. Verslumas. Verslininkystė</dc:title>
</cp:coreProperties>
</file>