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03B-B840-4D5F-8A11-12A640BA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481-9AB0-4B17-AB9B-1711CFA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59D-FC25-4E64-9794-43AE2581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0D9-10FA-48D2-8EA8-3670C845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335-8FDB-4F98-B832-FDAEC724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6526-C80F-4577-B7F0-E2846A65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B972-59CE-4011-924B-0C1AD1B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57F4-04D9-46A5-A927-EDAE7BFB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DC6E-1858-4CC7-B25D-10467FD8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A599-A7C6-45A5-B458-50699B3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5249-68C6-488D-BDEC-A037FD8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92B-772B-45AC-990E-FE8F82AA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673D-3A61-4DC7-BEE9-15D99E0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B2E9-1E79-4BAC-9CD2-C714B2F4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3F56-E53D-4112-BC0C-0E981AA7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B40-CAB3-485D-A361-384B454C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9577-78C1-4C00-8DC0-B44E7A26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0DD-BD2F-4B67-98FD-A1100F21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D5F-B1C9-46D2-9C4D-9BC13E8B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7AB-4C04-4066-83FF-522636B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117-7755-4513-A8A5-46EE1E95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5E0-C53B-4F17-9477-7E9F85B4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BAC-7A72-47E0-AFCC-86E9D8A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AD2-6439-4939-97A0-BD9CDC3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7A24-D186-494F-B005-A654BC5EE8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2E68-B396-4AD6-B356-D3614230C0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Verdana"/>
              </a:rPr>
              <a:t>Vadybos teori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C35C-17B1-4ECF-BB51-D17D08AEC82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Teorija „Z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technikos: sprendimų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Dinamiškų santykių požiūris į vadybos moksl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otinės kokybės vadybos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4AD-D21A-46C7-B757-9BF95B851C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okyčių ir inovacijų valdy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Naujos sąlygos valdymui: vadybos mokslo ateit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0CF-CAFD-4F35-B866-556972B804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EGZAMINAS (13-26 temo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gzamin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kartotinas atsiskaitymas skiriamas pagal numatytą egzaminų perlaikymo savaitės tvarkaraštį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5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052-BA68-4715-8701-98C51F9FA0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</a:rPr>
              <a:t>Individualūs užduočių pristatym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liekami pasirinktomis temomis, suderintomis su dalyko dėstyto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PowerPoint formate, pateikiant pristatymo skaidres, atspausdintas po dvi A4 formato lapuos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auditorijoje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o trukmė 10-15 m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įtaka galutiniam pažymiui - 10 pro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724-98DB-442D-A31F-4253416C64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ų darbas (grupinė užduoti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omas pasirinktinai pagal dėstytojo pateiktas temas, suderinus jas su dėstytoj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tinio pobūdžio studija, kurioje turi dominuoti analitinis stilius, išreiškiantis autorių nuomonę į tyrinėjamą tematiką bei kitų autorių atliktus pastebėjimus ir tyrim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grupėse po 3-4 student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mas raštu iki 14 studijų savaitės (iki gegužės 07d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savaitę vyks namų darbų pristatymai, parengti PowerPoint formate. Pristatymo trukmė 10-15m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atliekamas tokiu būdu: (50 proc. darbas pateiktas raštu ir 50 proc. – pristatymas. Konsultacijos teikiamos pratybų met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544-9A8B-49C3-AADE-B5F4D14374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Atsiskaity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057400"/>
            <a:ext cx="8762760" cy="3987720"/>
            <a:chOff x="228600" y="2057400"/>
            <a:chExt cx="8762760" cy="3987720"/>
          </a:xfrm>
        </p:grpSpPr>
        <p:grpSp>
          <p:nvGrpSpPr>
            <p:cNvPr id="114" name=""/>
            <p:cNvGrpSpPr/>
            <p:nvPr/>
          </p:nvGrpSpPr>
          <p:grpSpPr>
            <a:xfrm>
              <a:off x="236520" y="2062080"/>
              <a:ext cx="8745840" cy="3978360"/>
              <a:chOff x="236520" y="2062080"/>
              <a:chExt cx="8745840" cy="3978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36520" y="2062080"/>
                <a:ext cx="4754880" cy="914400"/>
                <a:chOff x="236520" y="2062080"/>
                <a:chExt cx="4754880" cy="914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52440" y="2062080"/>
                  <a:ext cx="4523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siskaitymo (užduoties) tip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6520" y="2062080"/>
                  <a:ext cx="47548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760" y="2062080"/>
                <a:ext cx="1242720" cy="914400"/>
                <a:chOff x="4991760" y="2062080"/>
                <a:chExt cx="1242720" cy="91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107680" y="2062080"/>
                  <a:ext cx="1011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760" y="2062080"/>
                  <a:ext cx="12427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34840" y="2062080"/>
                <a:ext cx="1189080" cy="914400"/>
                <a:chOff x="6234840" y="2062080"/>
                <a:chExt cx="1189080" cy="914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50760" y="2062080"/>
                  <a:ext cx="957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 valandų, val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34840" y="2062080"/>
                  <a:ext cx="1189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24280" y="2062080"/>
                <a:ext cx="1558080" cy="914400"/>
                <a:chOff x="7424280" y="2062080"/>
                <a:chExt cx="1558080" cy="914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39840" y="2062080"/>
                  <a:ext cx="1326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Įtaka pažymiui, proc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4280" y="2062080"/>
                  <a:ext cx="1558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6520" y="2976480"/>
                <a:ext cx="4754880" cy="609480"/>
                <a:chOff x="236520" y="2976480"/>
                <a:chExt cx="475488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2440" y="29764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ividualūs užduočių pristatym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6520" y="29764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991760" y="2976480"/>
                <a:ext cx="1242720" cy="609480"/>
                <a:chOff x="4991760" y="2976480"/>
                <a:chExt cx="124272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107680" y="29764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991760" y="29764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234840" y="2976480"/>
                <a:ext cx="1189080" cy="609480"/>
                <a:chOff x="6234840" y="2976480"/>
                <a:chExt cx="1189080" cy="609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50760" y="29764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4840" y="29764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424280" y="2976480"/>
                <a:ext cx="1558080" cy="609480"/>
                <a:chOff x="7424280" y="2976480"/>
                <a:chExt cx="1558080" cy="609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39840" y="29764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24280" y="29764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6520" y="3585960"/>
                <a:ext cx="4754880" cy="609840"/>
                <a:chOff x="236520" y="3585960"/>
                <a:chExt cx="4754880" cy="609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2440" y="3585960"/>
                  <a:ext cx="45230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ų darbai (grupinės užduoty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520" y="3585960"/>
                  <a:ext cx="4754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991760" y="3585960"/>
                <a:ext cx="1242720" cy="609840"/>
                <a:chOff x="4991760" y="3585960"/>
                <a:chExt cx="1242720" cy="609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7680" y="3585960"/>
                  <a:ext cx="1011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91760" y="3585960"/>
                  <a:ext cx="12427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234840" y="3585960"/>
                <a:ext cx="1189080" cy="609840"/>
                <a:chOff x="6234840" y="3585960"/>
                <a:chExt cx="1189080" cy="609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50760" y="3585960"/>
                  <a:ext cx="957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4840" y="3585960"/>
                  <a:ext cx="1189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424280" y="3585960"/>
                <a:ext cx="1558080" cy="609840"/>
                <a:chOff x="7424280" y="3585960"/>
                <a:chExt cx="1558080" cy="609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39840" y="3585960"/>
                  <a:ext cx="1326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24280" y="3585960"/>
                  <a:ext cx="1558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36520" y="4195800"/>
                <a:ext cx="4754880" cy="609480"/>
                <a:chOff x="236520" y="4195800"/>
                <a:chExt cx="4754880" cy="609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2440" y="419580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rpinis egzam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6520" y="419580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91760" y="4195800"/>
                <a:ext cx="1242720" cy="609480"/>
                <a:chOff x="4991760" y="4195800"/>
                <a:chExt cx="124272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7680" y="419580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91760" y="419580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234840" y="4195800"/>
                <a:ext cx="1189080" cy="609480"/>
                <a:chOff x="6234840" y="4195800"/>
                <a:chExt cx="118908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50760" y="419580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4840" y="419580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424280" y="4195800"/>
                <a:ext cx="1558080" cy="609480"/>
                <a:chOff x="7424280" y="4195800"/>
                <a:chExt cx="155808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39840" y="419580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24280" y="419580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520" y="4805280"/>
                <a:ext cx="4754880" cy="609480"/>
                <a:chOff x="236520" y="4805280"/>
                <a:chExt cx="475488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52440" y="48052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lutinis egzaminas</a:t>
                  </a:r>
                  <a:r>
                    <a:rPr b="0" lang="lt-LT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520" y="48052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91760" y="4805280"/>
                <a:ext cx="1242720" cy="609480"/>
                <a:chOff x="4991760" y="4805280"/>
                <a:chExt cx="12427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107680" y="48052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1760" y="48052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234840" y="4805280"/>
                <a:ext cx="1189080" cy="609480"/>
                <a:chOff x="6234840" y="4805280"/>
                <a:chExt cx="11890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50760" y="48052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4840" y="48052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24280" y="4805280"/>
                <a:ext cx="1558080" cy="609480"/>
                <a:chOff x="7424280" y="4805280"/>
                <a:chExt cx="15580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539840" y="48052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24280" y="48052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6520" y="5414760"/>
                <a:ext cx="4754880" cy="625680"/>
                <a:chOff x="236520" y="5414760"/>
                <a:chExt cx="4754880" cy="625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2440" y="5414760"/>
                  <a:ext cx="45230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6520" y="5414760"/>
                  <a:ext cx="47548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91760" y="5414760"/>
                <a:ext cx="1242720" cy="625680"/>
                <a:chOff x="4991760" y="5414760"/>
                <a:chExt cx="1242720" cy="625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7680" y="5414760"/>
                  <a:ext cx="1011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91760" y="5414760"/>
                  <a:ext cx="1242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34840" y="5414760"/>
                <a:ext cx="1189080" cy="625680"/>
                <a:chOff x="6234840" y="5414760"/>
                <a:chExt cx="1189080" cy="6256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50760" y="5414760"/>
                  <a:ext cx="9576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234840" y="5414760"/>
                  <a:ext cx="1189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424280" y="5414760"/>
                <a:ext cx="1558080" cy="625680"/>
                <a:chOff x="7424280" y="5414760"/>
                <a:chExt cx="1558080" cy="625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539840" y="5414760"/>
                  <a:ext cx="1326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24280" y="5414760"/>
                  <a:ext cx="1558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28600" y="2057400"/>
              <a:ext cx="8762760" cy="3987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D42-9C8A-40C9-B072-2A3CE8EAA2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grindinė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es A.F. Stoner, R.Edward Freman, Daniel R. Gilbert, Jr. Vadyba. Kaunas, Poligrafija ir informatika, 1999. 660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vilas Zakarevičius, Vadyba: genezė, dabartis, tendencijos. Kaunas, Vytauto Didžiojo universiteta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. 225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im Turban, Jack Meredith, Fundamentals of management science. Irwin, 1991. 1010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ius Neverauskas, Jonas Rastenis, Vadybos pagrindai. Kaunas, Technologija, 2001. 143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A. Wren, The Evolution of Management Thought, John Wiley &amp; Sons, Inc. 1994. 466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6EB-D1AA-454D-A2C3-75940CF821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pildom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Ramon J. Aldag,Timothy M. Stearns, Management. Cincinati, South-Western Publishing, 1991. 800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G.A. Cole, Management: Theory and Practice. London, Letts, 1996. 462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Fabijonas Saulius Butkus. Organizacijos ir vadyba. Vilnius, Alma Litera, 1996. 158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 Kvedaravičius. Graičiūno vieta ir reikšmė vadybos raidoje. Kn.: Organizacijų vadyba: sisteminiai tyrimai, Nr.8. Kaunas, VDU. 199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ichael H. Mescon, Michale Albert, Franklin Khedouri. Management. New York, Harper and Row Publishers, 1992. 700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31D-5B4F-4D60-804E-80E23A856A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2111040"/>
            <a:ext cx="785160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pažindinti su vadybos moks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teikti teorines žinias apie vadybos mokslo raid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ugdyti įgūdžius, įgalinančius analizuoti vadybos mokslo raidos tendenci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176-33DE-4BAF-B47B-95A08518F5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ažinti ir vertinti vadybos įtaką organizacijų ir pasaulio ekonomikos plėt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ritaikant vadybos mokslinės minties istorinę patirtį, formuoti vadybos mokslo principų vieningą suvokim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778-2345-4A17-A083-65500E75B8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ištakos: ankstyvieji strateg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ų 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mokykla: F. Taylor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teorijos raida ir reikšmė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5F1-FE3F-440A-83E6-449FCF2C69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os teorijos mokykla: H. Fayol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as Lietuvoje: V. Graičiūno indėlis į klasikinės organizacijos teorijos raid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. Weber idealaus biurokrat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sociopsichologinė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D31-B5B3-468E-A632-DEB44AB75B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Žmogiškųjų santykių teorija: Hawthorne eksperiment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Bihevioristinė mokykla: veiklos ir elgsenos motyv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Lyderi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Grupių elgsen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B8C-6647-42F3-BE99-DB816234C9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Tarpinis egzaminas (1-12 tem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,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siskaitym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3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045-CF52-447C-A548-B8846AFF2D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isuotinis dalyvavimas valdyme: partisipatyvinė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mokykla: kiekybinės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Integratyvaus valdymo mokyk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rofesionalaus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9CC-E1CF-4FEA-95A6-7DCDAE7B91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derniosios vadyb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stem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tuatyv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trateginio valdymo teorij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AED-2762-434E-A470-1E5CAEC8B1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4:06Z</dcterms:modified>
  <cp:revision>17</cp:revision>
  <dc:subject/>
  <dc:title>Introduction to Management</dc:title>
</cp:coreProperties>
</file>