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433-C3B0-4F54-80CC-EAD419D2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06E9-2F5F-4D9D-A052-FACADB01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E3E-7B29-4B0A-8032-CB7DA276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CDE-2DFA-4D0B-9E20-CE1934B5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E2B1-9FDF-4277-938D-332362B2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43BD-72C7-41C4-B9BE-29DDE26F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1253-2EF4-45E2-9DF4-A4C5766A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240B-6F95-4DC6-A621-9FA23D0C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2DFF-C25B-4E6B-A973-06D8F4C8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5FC2-8CFB-4277-AA3C-84699079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D705-1994-4E63-A12B-062CC38F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9F5-0CAB-4C23-AED4-E88FC72D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9A43-BC8F-4DB3-BB08-64924D13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876A-7E27-454F-928E-15151FF7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627F-F758-4657-AEB7-75E5561B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715E-7636-48E5-A5C5-9E270A46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16C5-8372-4142-88DD-61B10734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C5B-868E-4977-A064-720AF0D0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8E7-21AC-47E2-9C8C-A55F42F1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586-CE51-41FE-9BC0-02F22DFF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79A-A720-4EDB-8677-F78AF75F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B0F-ADE8-4EBA-A3F9-51BE3CE8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E2ED-390B-4DF0-A750-04D6A0D9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48A-EBEE-437B-A1DE-CA5271B0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8A60-EC81-4A7C-B38F-226E7EB983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C12A-3873-4C71-B499-5E14E21F3F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samprata ir kategorij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337F-D932-4CDB-B2F3-8D536DFB7BC6}" type="slidenum">
              <a:t>1</a:t>
            </a:fld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rezultat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100" spc="-1" strike="noStrike">
                <a:solidFill>
                  <a:srgbClr val="000000"/>
                </a:solidFill>
                <a:latin typeface="Tahoma"/>
              </a:rPr>
              <a:t>VALDYMO PRINCIPAI IR METODAI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700" spc="-1" strike="noStrike">
                <a:solidFill>
                  <a:srgbClr val="000000"/>
                </a:solidFill>
                <a:latin typeface="Tahoma"/>
              </a:rPr>
              <a:t>socialinėje organizacijoj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DF5-7147-4777-95ED-EAE8FFF500A9}" type="slidenum">
              <a:t>10</a:t>
            </a:fld>
          </a:p>
        </p:txBody>
      </p:sp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OS PRINCIP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rindinės taisyklės, elgesio normos, teiginiai, kuriais(iomis) remiantis reiktų atlikti valdymo veiklą organizacijose (efektyviai ir efektingai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115-0F3A-4255-959E-DF9B4FF064F3}" type="slidenum">
              <a:t>11</a:t>
            </a:fld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OS PRINCIPŲ KLASIFIKAVI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al formuluojamų taisyklių pobūdį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rašomieji (rekomendacin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rodomieji (normatyvin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al apimamų (vadybos) sričių platumą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ndrie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nkretū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F9F-4FD9-42BB-B5F7-AC6AF2573A2E}" type="slidenum">
              <a:t>12</a:t>
            </a:fld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0FC-C7F1-4F68-9755-1862D20346FD}" type="slidenum">
              <a:t>13</a:t>
            </a:fld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pecifinė darbinės veiklos rūš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Procesas, apimantis konkrečias stadij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Tikslinė veikl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eikla, pagrįsta išteklia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eikla, orientuota į rezultat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Cikliška veikl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C3E-4E8D-40EF-A712-4179DFF673B9}" type="slidenum">
              <a:t>14</a:t>
            </a:fld>
          </a:p>
        </p:txBody>
      </p:sp>
    </p:spTree>
  </p:cSld>
  <p:transition>
    <p:split dir="out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OCIALINĖ ORGANIZACI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truktūrizuota žmonių grupė, siekianti bendrų tiksl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prielaida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Atvira sistema: vidinė ir išorinė aplink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usideda iš valdymo ir valdomosios posistemi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904-26B7-4F2C-B3EC-C98D23F7AD04}" type="slidenum">
              <a:t>15</a:t>
            </a:fld>
          </a:p>
        </p:txBody>
      </p:sp>
    </p:spTree>
  </p:cSld>
  <p:transition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OCIALINĖS ORGANIZACIJOS APLINK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ahoma"/>
              </a:rPr>
              <a:t>TIESIOGINIO POVEIK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idiniai veiksni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Išoriniai veiksni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ahoma"/>
              </a:rPr>
              <a:t>NETIESIOGINIO POVEIK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68D-1BD5-4753-8C4C-08163E3E91B1}" type="slidenum">
              <a:t>16</a:t>
            </a:fld>
          </a:p>
        </p:txBody>
      </p:sp>
    </p:spTree>
  </p:cSld>
  <p:transition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FUNKCIJ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veiklos turiny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Darbo pasidalijimo valdyme rezulta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avarankiškos valdymo veiklos daly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Objektyvios, specializuotos valdymo veiklo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veiklų atlikimas valdymo srityse sudaro valdymo veiklos turinį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E7B-96FF-4DE4-98A2-5FF132CF34EC}" type="slidenum">
              <a:t>17</a:t>
            </a:fld>
          </a:p>
        </p:txBody>
      </p:sp>
    </p:spTree>
  </p:cSld>
  <p:transition>
    <p:split dir="out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VALDYMO PERSONAL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Valdymo veiklos subjekta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Žmonės, atliekantys valdymo veikl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7DD-3C38-4E54-8460-9AE580A4DA98}" type="slidenum">
              <a:t>18</a:t>
            </a:fld>
          </a:p>
        </p:txBody>
      </p:sp>
    </p:spTree>
  </p:cSld>
  <p:transition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PERSONAL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DOVAI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PECIALIST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APTARNAUJANTIS PERSONALA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86F-C6D7-4B50-8F10-3E3B73D14DBC}" type="slidenum">
              <a:t>19</a:t>
            </a:fld>
          </a:p>
        </p:txBody>
      </p:sp>
    </p:spTree>
  </p:cSld>
  <p:transition>
    <p:split dir="out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3880" y="2363400"/>
            <a:ext cx="7629480" cy="374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siaiškinti vadybos sampratą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siaiškinti vadybos mokslo tikslus, objektą ir rezul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rėžti vadybos mokslo terminij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B8D-3FE9-4580-9FEF-9C67F17804FB}" type="slidenum">
              <a:t>2</a:t>
            </a:fld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METOD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veiklos</a:t>
            </a: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 atlikimo būd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Konkretizuoja valdymo veiklą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Pagrįsti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funkcij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sr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dov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dovavimo stilia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dybos mokslo rezulta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613-B165-4FEA-ABCC-C37213936E4E}" type="slidenum">
              <a:t>20</a:t>
            </a:fld>
          </a:p>
        </p:txBody>
      </p:sp>
    </p:spTree>
  </p:cSld>
  <p:transition>
    <p:split dir="out" orient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ORGANIZACINĖ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DYMO </a:t>
            </a: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STRUKTŪRA (OV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veiklos</a:t>
            </a: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 atlikimo for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Konkretizuoja valdymo veiklą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Charakteristika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Santykinai savarankiški elementa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funkcijų pasidalijim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Formalių ryšių visum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grandžių ir lygių visu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Organizacijos veiklų koordinavim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BA9-55B3-4DF9-AEE1-704DDE7B0E75}" type="slidenum">
              <a:t>21</a:t>
            </a:fld>
          </a:p>
        </p:txBody>
      </p:sp>
    </p:spTree>
  </p:cSld>
  <p:transition>
    <p:split dir="out" orient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Klausimai diskusij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4760" y="2017440"/>
            <a:ext cx="38098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uo skiriasi “vadyba” nuo “valdymo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a mokslas ar men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BD04924_" descr=""/>
          <p:cNvPicPr/>
          <p:nvPr/>
        </p:nvPicPr>
        <p:blipFill>
          <a:blip r:embed="rId1"/>
          <a:stretch/>
        </p:blipFill>
        <p:spPr>
          <a:xfrm>
            <a:off x="1562040" y="2017800"/>
            <a:ext cx="3051360" cy="377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9CE-D206-4D14-AAFA-C87296B1E3F1}" type="slidenum">
              <a:t>22</a:t>
            </a:fld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A mokslas ar mena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sl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omasi iš vadovėlių, mokytojų ir aplinkos (IŠSILAVINIM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ritaikomas mokslas kintant sąlygoms (PATIRT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slo ir meno vertė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inių ir patirties sintezė įgalinanti prognozuoti ateities įvyki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EAA-F4F8-410D-8085-A650A933441D}" type="slidenum">
              <a:t>23</a:t>
            </a:fld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Arial"/>
              </a:rPr>
              <a:t>Kodėl studijuoti vadybą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prasti kaip organizacijos valdom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irengti valdyti arba būti valdom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BD06663_" descr=""/>
          <p:cNvPicPr/>
          <p:nvPr/>
        </p:nvPicPr>
        <p:blipFill>
          <a:blip r:embed="rId1"/>
          <a:stretch/>
        </p:blipFill>
        <p:spPr>
          <a:xfrm>
            <a:off x="1182600" y="2422440"/>
            <a:ext cx="381024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F8F-AAA4-4AB7-A6E3-66893EBA2A0F}" type="slidenum">
              <a:t>24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A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 –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.A. Graičiūnas, 1935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.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mokslinė vadybos ir visuminė valdymo veiklos sampra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A3C-0F14-41F0-B8BA-61ECB776AFA7}" type="slidenum">
              <a:t>3</a:t>
            </a:fld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Keturios “</a:t>
            </a:r>
            <a:r>
              <a:rPr b="1" lang="lt-LT" sz="4000" spc="-1" strike="noStrike">
                <a:solidFill>
                  <a:srgbClr val="333399"/>
                </a:solidFill>
                <a:latin typeface="Tahoma"/>
              </a:rPr>
              <a:t>vadybos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”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management)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amprato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os nariai, kurie priima esminius sprendimus susijusius su organizacijos veikla. (Šiuo atveju priimtina tik Amerikos vadybinėje kalboj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inios, sukauptos mokslinių tyrimų ir praktinių stebėjimų met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B5D-6D90-4F4A-BB1F-11573D2542D8}" type="slidenum">
              <a:t>4</a:t>
            </a:fld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Keturios “</a:t>
            </a:r>
            <a:r>
              <a:rPr b="1" lang="lt-LT" sz="4000" spc="-1" strike="noStrike">
                <a:solidFill>
                  <a:srgbClr val="333399"/>
                </a:solidFill>
                <a:latin typeface="Tahoma"/>
              </a:rPr>
              <a:t>vadybos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”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management)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amprato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)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aktinis mokslinių studijų taikymas specifinių vadybinių problemų sprendimu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)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os veiklų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planavimo, organizavimo, vadovavimo ir kontrolė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procesas sisteminiu būdu siekiant organizacijos tikslų. (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šaltini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 Ramon J. Aldag, Timothy M. Stearns, Management, 1991 South Western Publishing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ai klasikinė samprata reiškianti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minę organizacijos valdymo veiklą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F3B-88E0-4A7B-900C-45E94D63EDF4}" type="slidenum">
              <a:t>5</a:t>
            </a:fld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8029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vi 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“VADYBOS”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ampratos pu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ė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apsmas vadovu priklauso nuo vadybinių žinių ir praktinių įgūdžių. …šiuo atveju galima kalbėti apie “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” kaip apie mokslą (discipliną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adovo veikla gali būti sistemiškai analizuojama ir klasifikuojama. …aišku, kad reikia iškirti profesinius ir mokslinius “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” aspekt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šaltini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Peter F. Druker An Introductory View of Management, 197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FB4-7056-4239-BCB8-DAD01EADD2F8}" type="slidenum">
              <a:t>6</a:t>
            </a:fld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Mokslas apie socialinių organizacijų, sistemų valdym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Praktinių valdymo metodų ir tradicijų, būdingų kokiam nors istoriniam laikotarpiui ar šaliai, visuma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BA3-A2A8-48AF-B169-C23E9E363451}" type="slidenum">
              <a:t>7</a:t>
            </a:fld>
          </a:p>
        </p:txBody>
      </p:sp>
    </p:spTree>
  </p:cSld>
  <p:transition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Suformuoti efektyvius valdymo metodu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Nurodyti efektingas organizacijos plėtros krypti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Padėti organizacijoms prisitaikyti prie dinamiškai kintančios aplinkos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E78-AEE1-4FAA-8AB6-CFDF5BF0AC4F}" type="slidenum">
              <a:t>8</a:t>
            </a:fld>
          </a:p>
        </p:txBody>
      </p:sp>
    </p:spTree>
  </p:cSld>
  <p:transition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objekt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100" spc="-1" strike="noStrike">
                <a:solidFill>
                  <a:srgbClr val="000000"/>
                </a:solidFill>
                <a:latin typeface="Tahoma"/>
              </a:rPr>
              <a:t>VALDYMO VEIKLA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700" spc="-1" strike="noStrike">
                <a:solidFill>
                  <a:srgbClr val="000000"/>
                </a:solidFill>
                <a:latin typeface="Tahoma"/>
              </a:rPr>
              <a:t>socialinėje organizacijoj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3CE-3022-4A24-A2FC-2C011253DD8E}" type="slidenum">
              <a:t>9</a:t>
            </a:fld>
          </a:p>
        </p:txBody>
      </p:sp>
    </p:spTree>
  </p:cSld>
  <p:transition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3:40Z</dcterms:modified>
  <cp:revision>22</cp:revision>
  <dc:subject/>
  <dc:title>Introduction to Management</dc:title>
</cp:coreProperties>
</file>