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D21-3FB3-4375-A7E7-D130547A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D675-9055-405B-A572-1DD42FD7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B2AF-1C10-4115-9F1F-62B7CF36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77BD-D1A6-48F6-82D8-0BBD3711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9B90-5A16-49DE-A1C2-0A7752D9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D911-0BB2-4D7F-84DC-A42A4D8B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7909-B81F-4233-9478-C3A3BFD8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206B-261E-4588-A47D-41D5A8F1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0B17-7D31-4115-B522-23ACE98F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6029-2F0D-41EC-8DBC-87A3B73E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09AA-7C95-4442-A362-3DF192C0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EC0-63E2-4FD8-81E1-312EF7E6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6AA7-192C-4F72-AEC5-FF45D31D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4867-7053-4778-9FFC-01AEF2B5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B87B-9833-46CA-A36E-AA86D024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5938-9606-48C0-BA52-144A0AB1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06E3-3957-413C-9162-0BB4B54E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936-A6EB-4C4A-B1E4-9D8D6385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927-A20E-4D57-86EF-EF764E43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408-B145-4185-9EA8-201310B9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A8A-6126-4C20-B14B-C8BE45E6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0C31-7494-4876-AD1A-85138C19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F871-1B85-406C-AD05-FA6D901B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E59-926B-4002-A664-C853E0CB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D7A5-F642-47E5-BD64-CCB746D847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0FA0-7429-4407-9EA1-BCC4758C2D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333399"/>
                </a:solidFill>
                <a:latin typeface="Tahoma"/>
              </a:rPr>
              <a:t>Situatyvinė teorij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55A0-A7A2-4EB0-8FF3-A47DEAD8C7B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Organizacinės valdymo struktūros svarba (T. Burns, G. Stalker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36460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irmą kartą vadyboje panaudoti terminai: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mechanistin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ir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organin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valdymo struktūr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Mechanistinė valdymo struktūr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yra labiau biurokratizuota, aiškiai nustatytos padalinių funkcijų ribos, reglamentuota veikla taisyklėmis. Tokia struktūra yra “kieta” ir nelankst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Organinė valdymo struktūr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labiau grįsta žmogiškaisiais santykiais, funkcijas derinant prie kompetencijų, lanksčiai reaguojant į aplinkos pokyčius ir organizacijos poreikiu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FCAA-9B08-4E73-A540-F697CA8AF0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Skirtingi požiūriai į organizacijos  struktūr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057400"/>
            <a:ext cx="20574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2819520"/>
            <a:ext cx="0" cy="3733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32767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2819520"/>
            <a:ext cx="228600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Aiš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hierarch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4038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3733920"/>
            <a:ext cx="22860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Nustaty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pare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4876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572000"/>
            <a:ext cx="228600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Dide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orm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5638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410080"/>
            <a:ext cx="2286000" cy="6858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or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komun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6553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6324480"/>
            <a:ext cx="2286000" cy="304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Centr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1981080"/>
            <a:ext cx="2057400" cy="60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2514600"/>
            <a:ext cx="0" cy="4114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3200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2819520"/>
            <a:ext cx="259056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Bendradarbi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4038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3733920"/>
            <a:ext cx="259056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taiko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b</a:t>
            </a: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im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4572000"/>
            <a:ext cx="259056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Maž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orm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5410080"/>
            <a:ext cx="2514600" cy="6858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Nefor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komun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6400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6248520"/>
            <a:ext cx="25905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Decentr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5CBE-EE7C-4560-8F22-E9086AA7790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idiniai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812960" y="167652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1600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1981080"/>
            <a:ext cx="5267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rbuotojų charakteristik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243828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šsilavi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2895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276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adovavimo stil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36576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toritar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657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e-autoritar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4191120"/>
            <a:ext cx="35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arjeros lūkesč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411480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4495680"/>
            <a:ext cx="16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44956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de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49528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5029200"/>
            <a:ext cx="22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Įgūdž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5334120"/>
            <a:ext cx="14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86600" y="525780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575640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tir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606096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ia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601992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l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415-3897-435C-91DB-C921B136502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idiniai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270160" y="18702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09000" y="1870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65040" y="27082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Y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75800" y="3165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del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19200" y="3165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388620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4308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MPLEKSIŠK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520" y="49942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4917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579132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A9CB-DDB4-4ABF-9D24-8C24D2CEA0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Išoriniai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889280" y="2174760"/>
            <a:ext cx="19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32680" y="21747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2936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KLAUSOM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70520" y="33940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de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90600" y="3470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40384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ECHNOLOG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4572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utinin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4572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sikeičianč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5334120"/>
            <a:ext cx="46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INKOS DINAM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9680" y="5832360"/>
            <a:ext cx="10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92400" y="5756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E9D-02AF-43FD-8066-22784BF4AC5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a aplinkos įtaka organizacijos valdymui bei vadybos metodų būtinybė prisitaikant prie besikeičiančios aplinko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tskleista struktūros įtaka ir galimybės organizacijai prisitaikant prie aplinkos pokyčių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ūdintos mechanistinės ir organinės organizacijos koncepcijos bei jų įtaka organizacijos gebėjimams reaguoti į aplinkos pokyči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9947-9586-4138-85BF-0E00E571BCB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ųjų vadybos teorijų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008A-6565-418F-B2B2-C6FCFB10E6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linka keičiasi vis sparčiau, todėl reikia naujų vadybos metodų prisitaikant prie besikeičiančios aplink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ybos metodų nelankstumas bei taikymo ribotumai skatino ieškoti naujų vadybos princip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Nuolatinė situacijų kaita sąlygojo poreikį ieškoti metodų, leidžiančių valdyti organizacijos tokių pokyčių konteks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25B6-632D-44E2-809B-6D03AE69FA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333399"/>
                </a:solidFill>
                <a:latin typeface="Tahoma"/>
              </a:rPr>
              <a:t>Situatyvinė teorij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ose dažnai pasitaiko analogiškos situacijos, kurių sprendimui gali būti naudojami tipiniai sprendimų metodai. Todėl svarbu aprašyti tuos metodus, sisteminti ir skleisti, padedant efektyviai valdyti organizacij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306E-5F16-448B-A75E-1F3EA3CF4B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utor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92936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P. Lawr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J. Lorsc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R Mockl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T. Bur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G. Stalker ir kit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05E-355C-4788-8A6F-07519C292A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Situacijų analizės principai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P. Lawrence, J. Lorsch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Vidinės aplinkos analizė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organizacijos diferenciacijos (atskirų organizacijos struktūrinių padalinių įtakos situacijai) ir integracijos (organizacijos kaip visumos galimybės įtakoti situaciją) lygio nustaty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Išorinės aplinkos analizė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organizacijos išorės veiksnių įtakos nustatymas bei iš jos kylančių galimybių ir grėsmių įvertini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8318-4E22-4761-95D7-681626B515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Diferenciacija / integracija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P. Lawrence, J. Lorsch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Diferenciac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sąlygota skirtingų padalinių specializacijos, požiūrių, tikslų, struktūrų  skirtingumų. Tai veiklos skirtingumų sąlygoti veiksni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Integrac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padalinių bendradarbiavimo kokybės laipsn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Nuo diferenciacijos ir integracijos laipsnio priklauso organizacijos galimybės reaguoti į aplinkos pokyčius ir valdyti situacij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4C53-D6F8-4D8E-9A18-2063D22357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Tyrimų išvados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P. Lawrence, J. Lorsch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uo dinamiškesnė aplinka tuo didesnio diferenciacijos ir integracijos laipsnio reikia sėkmei pasiek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tabilesnė aplinka reikalauja mažesnio diferenciacijos bet vis dar aukšto integracijos laipsn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uo didesnis diferenciacijos laipsnis, tuo didesnė vidinių konfliktų grėsmė ir mažesnė jų sprendimo galimybė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Esant dideliam netikrumo laipsniui, integracija užtikrinama vidurinės grandies vadovų; esant stabiliai aplinkai, integracija užtikrinama aukščiausio lygio vadov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293-A95D-4624-A060-0ACD18E1F15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Situatyvinio nagrinėjimo žingsniai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R. Mockler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Situacijos diagno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priežasčių nustatymas ir tikslų formulavi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Priežasčių anali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įtakojančių veiksnių diferencijavimas ir įvertini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Veiksmų alternatyvų numa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galimų veiksmų būdų nustaty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Alternatyvų įvertinimas ir pasirinki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tinkamo sprendimo suradi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Sprendimo realizavimo plano sudary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00CC-150C-4B59-84A5-0EBC720D11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0:19Z</dcterms:modified>
  <cp:revision>47</cp:revision>
  <dc:subject/>
  <dc:title>Introduction to Management</dc:title>
</cp:coreProperties>
</file>