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DF9-3C95-483C-A385-63EF4159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3B0-A383-4DCF-A34D-E75DE01C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899-35EE-4469-856D-0B6766B2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7D6-342A-4A42-AB7B-0399D98F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BB3E-C2C2-4B59-A750-D26BBEC9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7DCD-2C49-4C3A-A502-97654328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BAD4-8B56-4847-BB00-26E6AFA9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9BBD-0715-4A7F-9159-959D3225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4475-5352-4BB4-BC1D-0BB966DC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9941-952D-4D4F-811E-97AA2362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EFD7-6ECA-473B-A393-E9FEEDE8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33A-998C-45E0-96F6-7B5F362B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0691-F666-4258-AFA5-EDCECB0B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5D16-10B9-4089-9179-C6D610A4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A1E-358D-4DAD-99E6-76D5D5E6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B086-C4FF-45CF-B00E-8A40E723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56E6-FE1B-4E41-8D6C-7C58022B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938-540F-42FD-B641-6885235E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002-CE65-4748-9696-35050639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511-06DB-4F85-BC50-84869A4E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2DC-D622-40B9-99CD-EA64D723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A2D-5DCE-438A-AD01-99DBCCBA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97D-70B4-4381-A2B1-52D5E1DA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816-EE4A-4BCF-AC2B-5FB4F34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D355-74F9-44E6-9948-D0BFAB8345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EE49-F93B-4B07-B8C1-7601268740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oderniosios vadybos te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422A-B88C-46DA-837C-E5431CE6027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ėkmingų organizacijų teorijo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 valdymas kompleksinis, integruotas daugybės vadybos sudėtinių elementų realizavimas, siekiant organizacijos tikslų ir sėkmingos veik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964-D982-442B-AF36-DBF9D76B35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os klasikinės vadybos teorijos ir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s kompleksinio valdymo metodų taikymas, taigi ir vadybos teorijų studijavimo, poreiki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okslas tapo svarbia, būtina, objektyviai neišvengiama socialinių mokslų visumos dalim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A4D-AAB1-42BE-B778-06C7CEFDC0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13F-D2D6-4877-9325-20686B6A0E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675-28DB-4F15-B3AB-AA778B2F01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eorijo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239920"/>
            <a:ext cx="749124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tuatyv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ikslinio valdymo teorij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stem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Organizacinio vystymo ir strateginio valdymo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ėkmingų organizacijų teorijo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BC0-9892-4F83-8622-FD73D0D534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1E9-18F5-4E32-885D-95FC02ECA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F9E-F0CF-496E-BC55-167C52FC74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D30-CC76-4E15-B4D9-40C465129B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nio vystymo ir strateginio valdymo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veikia nuolat besikeičiančioje aplinkoje. Tokios sąlygos verčia keisti požiūrį į valdymą, kad tai nėra periodinių ar vienkartinių veiksmų seka, tačiau nuolatinis, tęstinis procesas, orientuotas į ilgalaikę perspektyv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8A4-7707-46C0-8A92-2573B19B2D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Strateg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553080" cy="29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Organizacijos veiklos ir gyvavimo tolimesnėje ateityje perspektyvinis mode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A0F-918F-4242-9708-5D1E57DD8D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21Z</dcterms:modified>
  <cp:revision>47</cp:revision>
  <dc:subject/>
  <dc:title>Introduction to Management</dc:title>
</cp:coreProperties>
</file>