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9416-A82C-402E-95B0-F4444D534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DA25-C424-4698-988B-61181B707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16000" y="650880"/>
            <a:ext cx="4632480" cy="34732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5480" y="4341960"/>
            <a:ext cx="5032440" cy="41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2DB7-3C96-41C5-8964-67E9BC39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4F74-61E0-49BB-BD44-CD58B5DF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E39C-29FE-4504-8F03-9D5DCB96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5192-1615-4F7D-9E8E-1654262C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DBAF-D2A1-463B-8A58-F3A3D7D6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CD1D-1206-4842-9807-E9117D4A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99B4-9583-410C-BA3D-80DEF811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8040-1EAA-4BE6-A5C8-C6F2BD3E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D8CB-F005-430A-B7C5-C2BF26B8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1210-3E8E-4435-B5AC-69B6CD19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0705-C657-4B0E-ADD8-F4C90D87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1233-6567-44C1-84E1-D707CFD0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08ED-B930-4270-9FE0-AD5AECE6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6E24-8E71-48AB-94B4-A74394C1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0F92-8CC8-4F63-9204-8A5438C2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BCDD-EE1C-419B-A474-6992E9C4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50DC-3164-4316-8343-41B0F340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120B-452D-45F8-A107-D6D10799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4429-87C8-4986-92AA-6F2F02ED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5C08-8715-4D97-82EA-C2867DF0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32CF-F56B-467D-BFA0-6B2C8C91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C392-AD20-4E40-B760-C32CD50A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2D51-4DF0-4240-8656-9B559E9C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CCBD-F3D9-4B11-997D-DF618472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CFB0-EACB-496F-9BBD-6733DCFB42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86C3-B3A8-4839-A281-3FC2123D66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Tikslinio valdymo teor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92EA-A27E-4D82-9FB9-01F5579D694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BO proble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neadekvati top valdymo lygmens par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neprofesionaliai suformuluoti tiksl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neadekvatus pažangos monitoring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daug popierinio darb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laikui imlus darb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DF62-D1D7-4D4D-A489-875624D9E6C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lanavimo efektyvum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799488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Efektyvinti kompanijoje naudojamus metodus, technikas, priemones ir sistemas. Pokyčiai ir nauji būdai didina klaidos tikimyb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katinti dalyvavimą planavime. Kuo daugiau organizacijos žmonių dalyvauja tuo didesnis lojalumas ir pasitikėjimas užtikrina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Efektyvinti komunikaciją ir didinti informuotumą. Tikslų ir veiklų sąveikos suvokimas svarbus planavimo sėkme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0AA3-F0B2-4B0A-AC1B-8C95E5E38FD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Nuopelnai vadybos mokslu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ntegruoti individualių ir organizacijos tikslų derinimo požiūriai bei pritaikyti šiuolaikinėms organizacijų veiklos sąlygom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ryškinta darbuotojų dalyvavimo planavime ir tikslų nustatyme svarb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plėtota “tikslo nuosavybės” koncepcij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uformuota MBO samprata bei nustatyti tikslinio valdymo organizacijose principa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9B5C-5F7F-4154-B98A-61871F5549D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ikslinio valdymo teorijos susiformavimo prielai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žvelgti jų nuopelnus vadybos mokslu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1F1E-B58F-4B41-BAD2-A34BC509C0D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0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augo organizacijų įvairovė, o tuo pačiu daugėjo ir valdymo problem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linka keičiasi vis sparčiau, todėl reikia naujų vadybos metodų prisitaikant prie besikeičiančios aplink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parčiai keičiasi žmonių poreikiai, taigi ir motyvavimo veiksniai, kas reikalauja naujų motyvavimo metod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Organizacijų veikla tampa ypač priklausoma nuo žinių ir informacij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dovavimas žmonėms ir įtraukimas į valdymą tampa vis svarbesniu vadybos ob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3404-0808-46A4-AB12-C6E30C5C18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Tikslinio valdymo teorija</a:t>
            </a:r>
            <a:br>
              <a:rPr sz="3600"/>
            </a:b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(Management by Objectives MBO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Sudaryti tikslų medį kiekvienam valdymo lygiui, kuriame aiškiai atsispindėtų kiekvieno padalinio ir darbuotojo tikslai, kurių įgyvendinimas leis pasiekti organizacijos tikslų. Tik tuomet organizacija veiks efektyv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792D-3032-42F0-9171-9B0B93AE11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Autor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929360" cy="34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H. Tos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S. Carro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J. Odior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9B7F-267C-4517-8DBB-45D4FF46DB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kslini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valdym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(MBO)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 žing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tarti darbo reikalavim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šplėtoti potencialius tiksl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tarti tiksl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statyti kontrolės srit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įvertinti rezult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F032-0850-45A7-B86A-782601EBA2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kslų formulavimo veik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nkos poveik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kuren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opera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iniai veiksni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pildoma motyva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šankstiniai susitarim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iniai ištekli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cijos vertybė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3BD-91BF-4F26-8D94-5AD343F4A1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kslų formulavimo subjekt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sija - strateginiai tiksl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kščiausio lygmens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tiniai tiksl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kščiausio lygmens funkciniai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urinio lygmens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yviniai tiksl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urinio lygmens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žemiausio lygmens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8E5C-6FB5-43C8-846B-11CA52722F4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BO nau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gerinama horizontali komunika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gerinamas išteklių panaudoji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gerinama vertikali komunika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obulinami pažangos vertinimo kriterij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gerinamas planavimo proces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8E1E-8A04-4B27-BA09-C99823FE321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1:02:11Z</dcterms:modified>
  <cp:revision>48</cp:revision>
  <dc:subject/>
  <dc:title>Introduction to Management</dc:title>
</cp:coreProperties>
</file>