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F3DD-8904-4B1E-9411-4C1839D0F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F167-24F8-4029-AF0A-8CFA1D5F8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A7F6-1CDA-4BC9-97A8-B34B2D3C5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8D0C-FD94-4AF3-AF28-1176C6BDD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66C5-058E-48E9-88C4-AD04489F1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5ABC-EC18-4C22-A98F-D6C19986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2F3A-8488-4E2D-8487-115F0C2A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2E1-0086-4F2A-A605-C2A5E1B8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A347-E697-4425-B28C-F18D3844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8E41-A929-44D7-8618-91E2D6E8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F56D-D64C-4E93-BCE2-96A5134F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A63A-32BB-43A1-93B4-FECC2E9D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13E6-B205-4648-AA71-DCB941AF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CECF-9A84-4F4C-8FD1-A316E87A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8C7A-6502-4727-AC4E-6F137125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CA37-4CEB-457B-80EF-E054957B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0CF5-E5B9-4F75-917E-EBC41D80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4AC4-9C1F-4EAB-A586-BB13DE46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6ACE-1A6E-4401-BEEC-B274CABF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D113-DA18-469F-8A79-1F3BA7CA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FF20-78A0-4596-A01B-C579384D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AC78-732A-41AD-89D5-95338D96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D39F-FA05-47D9-8CAC-F58E1D58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F9DE-203B-4A77-9BC3-244608D3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07C3-FD90-4418-89B6-EAA05F47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E5E-D013-44BF-87F9-3C3FD5A3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F72F-4F4C-412C-8328-7D0E6D1C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076-4A2E-43C2-B624-B1DD68E4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A506-1D7C-40DB-BAB0-6B44AE49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AFEE-2C1E-477D-93BB-203E4D47BCF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3329-D529-42A1-AC10-758C8916692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Vadybos mokslo mokykla: kiekybinės valdymo teorijo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6460-0FA9-4CC4-9E94-7B93DE8B038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74280" y="636480"/>
            <a:ext cx="73407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šteklių modeliai</a:t>
            </a: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 (EOQ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udojama sprendžiant, kiek ir kokiu metu žaliavų užsakyt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idaro kaštai, užsakant žaliavas ir jas laikant sandėly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i užsakymai bus reti - užsakymo kaštai bus maži, bet saugojimo - didel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i užsakymai bus dažni - užsakymo kaštai bus dideli, o saugojimo - maž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ištekli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odeliai siekia nustatyti balanso tašką, kuomet šie kaštai mažiaus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ECAE-1033-48E7-B4A4-1F5060CAA87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Kritinio kelio metodas (CPM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DuPont kompanijos sukurta planavimo ir kontrolės kompiuterizuota diagrama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56-195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uja Gantt diagramos vers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Veiklų apimties ir laiko vaizdavi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trėlėms vaizduojamas kritinis (optimalus) veiklų atlikimo grafik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B602-702A-4C0D-8B97-BDDA8712FD0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PERT metod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rogramos vertinimo ir peržiūros technika (Program Evalution and Review Techniq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ukurtas JAV jūrų laivyn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58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kirta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veiklų tinklo (sistemos) planavimui, ryšių nustatymui, jų tarpusavio ryšio vaizdavimui la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tatistinės tikimybės naudojimas trijų scenarijų suformavimui (optimistiniam, labiausiai tikėtinam, pesimistinia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359-B2B8-4B7D-BA3E-63C7B09933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76520" y="1415880"/>
            <a:ext cx="373068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05120" y="5372280"/>
            <a:ext cx="380664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29080" y="4822920"/>
            <a:ext cx="14623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Slac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10080" y="5491080"/>
            <a:ext cx="13053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7920" y="4727520"/>
            <a:ext cx="3738240" cy="1454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37040" y="470700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0440" y="4876920"/>
            <a:ext cx="2733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Optimal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0240" y="5465880"/>
            <a:ext cx="1555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laik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9320" y="1125360"/>
            <a:ext cx="24865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Activ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7920" y="695160"/>
            <a:ext cx="3738240" cy="145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37040" y="67464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59480" y="1100160"/>
            <a:ext cx="1959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Veikl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0" y="4822920"/>
            <a:ext cx="189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Critic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64800" y="5491080"/>
            <a:ext cx="1212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Pa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6560" y="4727520"/>
            <a:ext cx="3738600" cy="1454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6040" y="470700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62960" y="4797360"/>
            <a:ext cx="19270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Kritin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05320" y="5465880"/>
            <a:ext cx="1555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kel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53040" y="1125360"/>
            <a:ext cx="1834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Ev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6560" y="695160"/>
            <a:ext cx="3738600" cy="145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6040" y="67464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93920" y="1100160"/>
            <a:ext cx="17107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Įvyki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74680" y="2662200"/>
            <a:ext cx="1829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808080"/>
                </a:solidFill>
                <a:latin typeface="Arial"/>
              </a:rPr>
              <a:t>PER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48280" y="3483000"/>
            <a:ext cx="3087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808080"/>
                </a:solidFill>
                <a:latin typeface="Arial"/>
              </a:rPr>
              <a:t>Network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10000" y="2444760"/>
            <a:ext cx="4024080" cy="1987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89120" y="2424240"/>
            <a:ext cx="4017960" cy="1979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49120" y="2637000"/>
            <a:ext cx="1829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PER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8640" y="3429000"/>
            <a:ext cx="2363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ffffff"/>
                </a:solidFill>
                <a:latin typeface="Arial"/>
              </a:rPr>
              <a:t>Tinkla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2480" y="2119320"/>
            <a:ext cx="296640" cy="1312920"/>
          </a:xfrm>
          <a:custGeom>
            <a:avLst/>
            <a:gdLst/>
            <a:ahLst/>
            <a:rect l="l" t="t" r="r" b="b"/>
            <a:pathLst>
              <a:path w="376" h="1653">
                <a:moveTo>
                  <a:pt x="48" y="0"/>
                </a:moveTo>
                <a:lnTo>
                  <a:pt x="0" y="0"/>
                </a:lnTo>
                <a:lnTo>
                  <a:pt x="0" y="1629"/>
                </a:lnTo>
                <a:lnTo>
                  <a:pt x="0" y="1653"/>
                </a:lnTo>
                <a:lnTo>
                  <a:pt x="24" y="1653"/>
                </a:lnTo>
                <a:lnTo>
                  <a:pt x="376" y="1653"/>
                </a:lnTo>
                <a:lnTo>
                  <a:pt x="376" y="1605"/>
                </a:lnTo>
                <a:lnTo>
                  <a:pt x="24" y="1605"/>
                </a:lnTo>
                <a:lnTo>
                  <a:pt x="24" y="1629"/>
                </a:lnTo>
                <a:lnTo>
                  <a:pt x="48" y="1629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92480" y="3394080"/>
            <a:ext cx="296640" cy="1312920"/>
          </a:xfrm>
          <a:custGeom>
            <a:avLst/>
            <a:gdLst/>
            <a:ahLst/>
            <a:rect l="l" t="t" r="r" b="b"/>
            <a:pathLst>
              <a:path w="376" h="1653">
                <a:moveTo>
                  <a:pt x="0" y="1653"/>
                </a:moveTo>
                <a:lnTo>
                  <a:pt x="48" y="1653"/>
                </a:lnTo>
                <a:lnTo>
                  <a:pt x="48" y="24"/>
                </a:lnTo>
                <a:lnTo>
                  <a:pt x="24" y="24"/>
                </a:lnTo>
                <a:lnTo>
                  <a:pt x="24" y="48"/>
                </a:lnTo>
                <a:lnTo>
                  <a:pt x="376" y="48"/>
                </a:lnTo>
                <a:lnTo>
                  <a:pt x="376" y="0"/>
                </a:lnTo>
                <a:lnTo>
                  <a:pt x="24" y="0"/>
                </a:lnTo>
                <a:lnTo>
                  <a:pt x="0" y="0"/>
                </a:lnTo>
                <a:lnTo>
                  <a:pt x="0" y="24"/>
                </a:lnTo>
                <a:lnTo>
                  <a:pt x="0" y="16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05640" y="2119320"/>
            <a:ext cx="214200" cy="1312920"/>
          </a:xfrm>
          <a:custGeom>
            <a:avLst/>
            <a:gdLst/>
            <a:ahLst/>
            <a:rect l="l" t="t" r="r" b="b"/>
            <a:pathLst>
              <a:path w="272" h="1653">
                <a:moveTo>
                  <a:pt x="272" y="0"/>
                </a:moveTo>
                <a:lnTo>
                  <a:pt x="224" y="0"/>
                </a:lnTo>
                <a:lnTo>
                  <a:pt x="224" y="1629"/>
                </a:lnTo>
                <a:lnTo>
                  <a:pt x="248" y="1629"/>
                </a:lnTo>
                <a:lnTo>
                  <a:pt x="248" y="1605"/>
                </a:lnTo>
                <a:lnTo>
                  <a:pt x="0" y="1605"/>
                </a:lnTo>
                <a:lnTo>
                  <a:pt x="0" y="1653"/>
                </a:lnTo>
                <a:lnTo>
                  <a:pt x="248" y="1653"/>
                </a:lnTo>
                <a:lnTo>
                  <a:pt x="272" y="1653"/>
                </a:lnTo>
                <a:lnTo>
                  <a:pt x="272" y="1629"/>
                </a:lnTo>
                <a:lnTo>
                  <a:pt x="2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05640" y="3394080"/>
            <a:ext cx="214200" cy="1312920"/>
          </a:xfrm>
          <a:custGeom>
            <a:avLst/>
            <a:gdLst/>
            <a:ahLst/>
            <a:rect l="l" t="t" r="r" b="b"/>
            <a:pathLst>
              <a:path w="272" h="1653">
                <a:moveTo>
                  <a:pt x="224" y="1653"/>
                </a:moveTo>
                <a:lnTo>
                  <a:pt x="272" y="1653"/>
                </a:lnTo>
                <a:lnTo>
                  <a:pt x="272" y="24"/>
                </a:lnTo>
                <a:lnTo>
                  <a:pt x="272" y="0"/>
                </a:lnTo>
                <a:lnTo>
                  <a:pt x="248" y="0"/>
                </a:lnTo>
                <a:lnTo>
                  <a:pt x="0" y="0"/>
                </a:lnTo>
                <a:lnTo>
                  <a:pt x="0" y="48"/>
                </a:lnTo>
                <a:lnTo>
                  <a:pt x="248" y="48"/>
                </a:lnTo>
                <a:lnTo>
                  <a:pt x="248" y="24"/>
                </a:lnTo>
                <a:lnTo>
                  <a:pt x="224" y="24"/>
                </a:lnTo>
                <a:lnTo>
                  <a:pt x="224" y="16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6403-4921-42CF-9608-6D084B82FC3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839880" y="534960"/>
            <a:ext cx="7629480" cy="5591160"/>
            <a:chOff x="839880" y="534960"/>
            <a:chExt cx="7629480" cy="5591160"/>
          </a:xfrm>
        </p:grpSpPr>
        <p:sp>
          <p:nvSpPr>
            <p:cNvPr id="219" name=""/>
            <p:cNvSpPr/>
            <p:nvPr/>
          </p:nvSpPr>
          <p:spPr>
            <a:xfrm>
              <a:off x="3497400" y="1384200"/>
              <a:ext cx="0" cy="11145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651640" y="1079640"/>
              <a:ext cx="0" cy="1419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81680" y="2492280"/>
              <a:ext cx="0" cy="3248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282760" y="2451240"/>
              <a:ext cx="101520" cy="3324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63520" y="552276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63520" y="468792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63520" y="3849840"/>
              <a:ext cx="6823080" cy="60300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63520" y="301140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63520" y="217332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9880" y="534960"/>
              <a:ext cx="7629480" cy="132732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PERT </a:t>
              </a:r>
              <a:r>
                <a:rPr b="1" lang="lt-LT" sz="4000" spc="-1" strike="noStrike">
                  <a:solidFill>
                    <a:srgbClr val="ffffff"/>
                  </a:solidFill>
                  <a:latin typeface="Arial"/>
                </a:rPr>
                <a:t>tinklo kūrimo žingsniai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914400" y="2057400"/>
            <a:ext cx="7261200" cy="43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dentifikuoti visas veikl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ustatyti įvykdymo eiliškum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tvaizduoti veiklų srautą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Įvertinti veiklų atlikimo laik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uformuoti projekto grafik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2FC5-B837-4E91-B660-838631DCD7E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ūžio taško metod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statomas momentas, kuomet kaštai yra lygūs pajamo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omeny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tovūs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tami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dri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eneto ka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83D3-F391-46CE-92FD-2C16CC1C64B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0" y="533520"/>
            <a:ext cx="9078840" cy="6084360"/>
            <a:chOff x="0" y="533520"/>
            <a:chExt cx="9078840" cy="6084360"/>
          </a:xfrm>
        </p:grpSpPr>
        <p:sp>
          <p:nvSpPr>
            <p:cNvPr id="233" name=""/>
            <p:cNvSpPr/>
            <p:nvPr/>
          </p:nvSpPr>
          <p:spPr>
            <a:xfrm flipV="1">
              <a:off x="1858320" y="2468160"/>
              <a:ext cx="5625000" cy="3496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81640" y="853920"/>
              <a:ext cx="1800" cy="5094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744560" y="5986080"/>
              <a:ext cx="5836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4800" y="533520"/>
              <a:ext cx="1101960" cy="52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$9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85840" y="5941800"/>
              <a:ext cx="517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25200" y="3555720"/>
              <a:ext cx="391680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6200000">
              <a:off x="-733320" y="3057840"/>
              <a:ext cx="1830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ffffff"/>
                  </a:solidFill>
                  <a:latin typeface="Arial"/>
                </a:rPr>
                <a:t>Pajamos/kašta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26920" y="6254640"/>
              <a:ext cx="2657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ffffff"/>
                  </a:solidFill>
                  <a:latin typeface="Arial"/>
                </a:rPr>
                <a:t>Pardavimai (tūkst. Vnt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7860000">
              <a:off x="5306760" y="2991240"/>
              <a:ext cx="228240" cy="658080"/>
            </a:xfrm>
            <a:prstGeom prst="triangle">
              <a:avLst>
                <a:gd name="adj" fmla="val 49977"/>
              </a:avLst>
            </a:prstGeom>
            <a:solidFill>
              <a:srgbClr val="fcd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1823040" y="3048840"/>
              <a:ext cx="5676840" cy="1641240"/>
            </a:xfrm>
            <a:prstGeom prst="line">
              <a:avLst/>
            </a:prstGeom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81800" y="2771640"/>
              <a:ext cx="2239560" cy="391680"/>
            </a:xfrm>
            <a:prstGeom prst="rect">
              <a:avLst/>
            </a:prstGeom>
            <a:solidFill>
              <a:srgbClr val="fcd1b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05040" y="4652640"/>
              <a:ext cx="579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7860000">
              <a:off x="6127200" y="2388240"/>
              <a:ext cx="228240" cy="823320"/>
            </a:xfrm>
            <a:prstGeom prst="triangle">
              <a:avLst>
                <a:gd name="adj" fmla="val 49977"/>
              </a:avLst>
            </a:prstGeom>
            <a:solidFill>
              <a:srgbClr val="eb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66680" y="2806560"/>
              <a:ext cx="230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Lūžio tašk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01760" y="2223720"/>
              <a:ext cx="1839600" cy="392040"/>
            </a:xfrm>
            <a:prstGeom prst="rect">
              <a:avLst/>
            </a:prstGeom>
            <a:solidFill>
              <a:srgbClr val="ebd3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86640" y="2257200"/>
              <a:ext cx="1903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000000"/>
                  </a:solidFill>
                  <a:latin typeface="Arial Narrow"/>
                </a:rPr>
                <a:t>Bendros pajam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9680000">
              <a:off x="6501600" y="3321000"/>
              <a:ext cx="239760" cy="626400"/>
            </a:xfrm>
            <a:prstGeom prst="triangle">
              <a:avLst>
                <a:gd name="adj" fmla="val 49977"/>
              </a:avLst>
            </a:prstGeom>
            <a:solidFill>
              <a:srgbClr val="9ff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61880" y="3790800"/>
              <a:ext cx="1519920" cy="391680"/>
            </a:xfrm>
            <a:prstGeom prst="rect">
              <a:avLst/>
            </a:prstGeom>
            <a:solidFill>
              <a:srgbClr val="9fffe1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46760" y="3825720"/>
              <a:ext cx="1583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Bendri kašta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08360" y="4673520"/>
              <a:ext cx="1355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fc0128"/>
                  </a:solidFill>
                  <a:latin typeface="Arial"/>
                </a:rPr>
                <a:t>Nuostol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fc0128"/>
                  </a:solidFill>
                  <a:latin typeface="Arial"/>
                </a:rPr>
                <a:t>zon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22040" y="1439640"/>
              <a:ext cx="959760" cy="70452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9840000">
              <a:off x="7081560" y="2015280"/>
              <a:ext cx="239760" cy="783720"/>
            </a:xfrm>
            <a:prstGeom prst="triangle">
              <a:avLst>
                <a:gd name="adj" fmla="val 49977"/>
              </a:avLst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53440" y="1473120"/>
              <a:ext cx="7498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Peln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zon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75720" y="5180040"/>
              <a:ext cx="1371240" cy="239760"/>
            </a:xfrm>
            <a:prstGeom prst="triangle">
              <a:avLst>
                <a:gd name="adj" fmla="val 49977"/>
              </a:avLst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7541640" y="3125520"/>
              <a:ext cx="1537200" cy="2573280"/>
              <a:chOff x="7541640" y="3125520"/>
              <a:chExt cx="1537200" cy="2573280"/>
            </a:xfrm>
          </p:grpSpPr>
          <p:sp>
            <p:nvSpPr>
              <p:cNvPr id="258" name=""/>
              <p:cNvSpPr/>
              <p:nvPr/>
            </p:nvSpPr>
            <p:spPr>
              <a:xfrm rot="5400000">
                <a:off x="6897960" y="3768840"/>
                <a:ext cx="1526760" cy="239760"/>
              </a:xfrm>
              <a:prstGeom prst="triangle">
                <a:avLst>
                  <a:gd name="adj" fmla="val 49977"/>
                </a:avLst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64840" y="3511080"/>
                <a:ext cx="118440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Kintami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kaštai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765200" y="5000040"/>
                <a:ext cx="131364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Pastovū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kaštai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713560" y="3605040"/>
              <a:ext cx="0" cy="232200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51760" y="5941800"/>
              <a:ext cx="76680" cy="74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352680" y="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ffff"/>
                </a:solidFill>
                <a:latin typeface="Arial"/>
              </a:rPr>
              <a:t>Lūžio taško analizė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A486-2AC8-4703-AFBE-65CCA29A5436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ūžio taško metod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2514600"/>
            <a:ext cx="528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tov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ū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 = ---------------------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ina - Kintami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9E9-48BD-4DB2-8ACE-D26851CC174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Būsimoji vertė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V - procedūra, kurios metu analizuojama būsimoji hipotetinė įvairių alternatyvų vertė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ocedū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statyti skirtingas alternatyvas ir rezultat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statyti galimybes, kurios gali atsirast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Įvertinti būsimąją kiekvienos jų vertę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BEB9-A9A7-45C6-BAC3-ECC1B45C605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Būsimosios vertės skaičiavimo pvz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47600" y="2022480"/>
            <a:ext cx="68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trategij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ėkm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uostol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2556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A           $200 pelnas               $500 (nuostol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48320" y="3013200"/>
            <a:ext cx="73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B            $400 pelnas               $300 (nuostol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45440" y="377496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ėkmės/nuostolio įvertini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34840" y="4232160"/>
            <a:ext cx="61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A      Sėkmė = .8          Nuostolis = 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36640" y="464832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B       Sėkmė = .5          Nuostolis = 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73080" y="5375160"/>
            <a:ext cx="779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ėkm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uostol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B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A    $200 x .8 = $160 + ($500) x .2 = ($100) = $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74880" y="624852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B     $400 x .5 = $200 + ($300) x .5 = ($150) = $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5426-90D4-417A-9BD8-A500310D893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Paskaitos tiksla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38400" y="2292480"/>
            <a:ext cx="763560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pibūdinti vadybos mokslo mokyklos susiformavimo prielaid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ristatyti pagrindinius kiekybiniu metodus ir technik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pžvelgti kiekybinės teorijos nuopelnus vadybos mokslu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0569-08C3-41F3-9B48-A2D3F189D7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Gamybos ir žaliavų planavimo technik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71520" indent="-371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RP (Material Requirements Planning) – Žaliavų poreikio planavimo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kirta detalių (subproduktų) tiekimo planavimui gamyboje, tiekiant pagal poreik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1520" indent="-371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anban” (Just in time)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kirta itin tiksliam žaliavų ir medžiagų tiekimo planavim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Tiekiama pagal iš anksto sudarytą grafik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Tikslas – nėra atsarg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Tiekiam kada reikia – svarbiausiai – laikas, o ne kiek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96C2-1FE6-4F39-8841-BAF67E73821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Nuopelnai vadybos mokslui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atematinių metodų taikymo plė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Gamybos valdymo racionalizavi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lanavimo ir kontrolės metodų taikymas valdy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aujų metodų sukūri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etodų taikymas prognozav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ompiuterinių technologijų diegimas organizacijų valdyme, siekiant įsisavinti naujus planavimo ir kontrolės metod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16ED-0AA3-4CE2-A370-D29A2F28572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Prielaidos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nkstesnių autorių – Babbage, Taylor, Gantt, Gilbreth, Emerson taikyti kiekybiniai valdymo principa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II ir IV dešimtmetyje sumažėjęs dėmesys produktyvumo valdymui ir išaugęs sociopsichologiniams valdymo aspekta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Didžiosios depresijos pabaiga ir II pasaulinis karas sąlygojo didelių kompanijų skaičiaus augim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Formavosi nauja racionalaus organizacijų valdymo aplinka, palanki moksliniams valdymo metoda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7B8E-82F7-4850-8FC0-58D9F5AD21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Operacijų tyrimų komand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30592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Komandos suformuotos iš įvairių sričių specialist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Britai suformavo pirmąsias tokias komandas, radarų sistemų kūrimui, skirtų civilinei apsaugai II Pasaulinio karo met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Viena geriausiai žinomų prof. Blackett komanda, sudaryta iš trijų psichologų, dviejų matematikų, vieno astro-fizikų, dviejų matematikos fizikų, vieno armijos karininko, vieno tyrėj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JAV  - Arthur D. Little, Inc. privačios konsultacinės kompanijos veikla operacijų tyrimų srity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52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rta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Amerikos operacijų tyrimų asociacija, pradėtas leisti žurnala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Operacijų tyrima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53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Vadybos mokslo institutas (TIMS) pradėjo leisti leidinį “Vadybos mokslas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0161-595E-4140-91D7-104DDAAFE3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Objektas – gamybos valdym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enojo požiūrio į gamybos valdymą kai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uo darbo organizavimo modelių link matematinių – statistinių metod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aujasis vadybos mokslas – orientuotas į valdymo problemų sprendimą, naudojant specifines technikas, analizuojančias kiekybinius kintamuosius ir ryšius tarp jų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uformuota eilė kiekybinių technikų, naudojamų gamybos valdy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7928-E546-4929-AFBE-E687CE477C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Kiekybinės technik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esinis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programavi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Eilių modeli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šteklių modeliai (EOQ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ritinio kelio metodas (CP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ERT meto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Lūžio taško meto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Būsimosios vertės meto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iti: MRP, Kanb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3EB-FCA2-443C-838E-4F19EC985D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iesinis programavim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timalaus išteklių kiekio ir kombinacijos nustatym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ekiama su ribotais ištekliais maksimizuoti naudą ir minimizuoti nuostoli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vyzdžia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amybos grafikų sudarym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Žmonių pritraukimas projektų vykdymu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timalių maršrutų nustatym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9FA9-922F-4E9E-BE87-1D165E0D37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762120" y="304920"/>
            <a:ext cx="7629480" cy="5591160"/>
            <a:chOff x="762120" y="304920"/>
            <a:chExt cx="7629480" cy="5591160"/>
          </a:xfrm>
        </p:grpSpPr>
        <p:sp>
          <p:nvSpPr>
            <p:cNvPr id="167" name=""/>
            <p:cNvSpPr/>
            <p:nvPr/>
          </p:nvSpPr>
          <p:spPr>
            <a:xfrm>
              <a:off x="3419640" y="1154160"/>
              <a:ext cx="0" cy="1114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73880" y="849600"/>
              <a:ext cx="0" cy="1419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03920" y="2262240"/>
              <a:ext cx="0" cy="324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05000" y="2221200"/>
              <a:ext cx="101520" cy="332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85760" y="529272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85760" y="445788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85760" y="3619800"/>
              <a:ext cx="6823080" cy="603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85760" y="278136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85760" y="194328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2120" y="304920"/>
              <a:ext cx="7629480" cy="144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ffff"/>
                  </a:solidFill>
                  <a:latin typeface="Times New Roman"/>
                </a:rPr>
                <a:t>Tiesinio programavimo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ffff"/>
                  </a:solidFill>
                  <a:latin typeface="Times New Roman"/>
                </a:rPr>
                <a:t>efektyv</a:t>
              </a:r>
              <a:r>
                <a:rPr b="0" lang="lt-LT" sz="4000" spc="-1" strike="noStrike">
                  <a:solidFill>
                    <a:srgbClr val="00ffff"/>
                  </a:solidFill>
                  <a:latin typeface="Times New Roman"/>
                </a:rPr>
                <a:t>inima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743120" y="1953720"/>
            <a:ext cx="6858000" cy="39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boti i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kli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Optimizavimo siek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lternatyvios išteklių kombinacijo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ultiplikuoti rezultatų derini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intamųjų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esin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ės priklausomybės nustaty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38CE-4ED2-473A-957A-99EDE5EE335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ių modelia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idaro kaštai, naudojant perdaug ar per mažai eilių konkretaus laiko rėmu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ilių teorija leidžia įvertinti ir nustatyti optimalų skaičių eilių, minimizuojant kaštus ir maksimizuojant naud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D846-8661-4C01-8439-29CAE47F70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6:32Z</dcterms:modified>
  <cp:revision>51</cp:revision>
  <dc:subject/>
  <dc:title>Introduction to Management</dc:title>
</cp:coreProperties>
</file>