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A5B7EA-00AA-43DB-A71B-4115F333D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404AC-9C50-48A1-A002-6F9BAFFD6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B90A3C-3C05-40F2-A3C2-22D435463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A072A4-E9F7-45AD-8204-848FACF04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DA179-1E64-4E48-8C7A-5AD9C6C1F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3CC44-DEA8-4666-A7F5-BB7532DEE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D7C19-7A2F-49D6-B893-475A58A1C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51FB9-2FC8-4883-9519-28E9011DA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D96E1-50F4-42AD-88B5-E501EC471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72FC7-2869-4737-9F61-F1079559D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90E61-92D9-4C3C-94F9-C26690781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FE9B2E-22E1-4035-8B55-D6CE3F88E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E2FCD-7AFE-4A08-BE9F-E9972784E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74267-C008-4E79-9A8B-0CB571143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96F6E-38A1-4CFF-BE90-810F2B55D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56D27-3BF3-492A-A4EC-240E7C3A0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6429A-7A1E-4F9D-BFAD-B8CAB8794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334BA3-9F5F-4F32-A1F8-7DC5ED7A7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C85215-B352-4694-BEC7-274136F1C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F9C02F-7AC1-45DE-8C50-420F904A5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D3978-2502-46CD-BFEE-2342BB099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3B3C61-EC1B-4F9E-B9A1-BE9A38B60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8EA873-669C-4376-B4CA-63B88B5D2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10E46B-3AF9-4E45-B8B5-C0AAA0D67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93DDA-9CDC-4641-8D2D-A3B72711CFA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10C46-82D2-45F9-8770-21C034209BD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826920" y="260280"/>
            <a:ext cx="7345440" cy="499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5400" spc="-1" strike="noStrike">
                <a:solidFill>
                  <a:srgbClr val="dfdef6"/>
                </a:solidFill>
                <a:latin typeface="Arial"/>
              </a:rPr>
              <a:t>Grupių elgsenos teorijos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12 paskait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205CD-4E95-4AA0-8B56-6E986F973ACE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dfdef6"/>
                </a:solidFill>
                <a:latin typeface="Arial"/>
              </a:rPr>
              <a:t>Grupės elgsena ir vaidmuo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84000" y="1844280"/>
            <a:ext cx="7931160" cy="4251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47840" indent="-447840">
              <a:spcBef>
                <a:spcPts val="901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rup</a:t>
            </a:r>
            <a:r>
              <a:rPr b="0" lang="lt-LT" sz="3600" spc="-1" strike="noStrike">
                <a:solidFill>
                  <a:srgbClr val="ffffff"/>
                </a:solidFill>
                <a:latin typeface="Arial"/>
              </a:rPr>
              <a:t>ė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 elgsenos </a:t>
            </a:r>
            <a:r>
              <a:rPr b="0" lang="lt-LT" sz="3600" spc="-1" strike="noStrike">
                <a:solidFill>
                  <a:srgbClr val="ffffff"/>
                </a:solidFill>
                <a:latin typeface="Arial"/>
              </a:rPr>
              <a:t>kategorijos (Rackham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&amp;</a:t>
            </a:r>
            <a:r>
              <a:rPr b="0" lang="lt-LT" sz="3600" spc="-1" strike="noStrike">
                <a:solidFill>
                  <a:srgbClr val="ffffff"/>
                </a:solidFill>
                <a:latin typeface="Arial"/>
              </a:rPr>
              <a:t> Morgan,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1977)</a:t>
            </a:r>
            <a:r>
              <a:rPr b="0" lang="lt-LT" sz="36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si</a:t>
            </a: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ū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ymai</a:t>
            </a: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 (koncepcija, veikla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Vystymas (kitų pasiūlymų teikima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Rėmimas (narių ir jų idėjų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Nesutikim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Gynyba / puolim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12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CBA695-BCD0-49B5-A109-B673E358E61C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2" dur="500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7" dur="500"/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2" dur="500"/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7" dur="500"/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2" dur="500"/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7" dur="500"/>
                                        <p:tgtEl>
                                          <p:spTgt spid="5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Grup</a:t>
            </a:r>
            <a:r>
              <a:rPr b="0" lang="lt-LT" sz="4400" spc="-1" strike="noStrike">
                <a:solidFill>
                  <a:srgbClr val="dfdef6"/>
                </a:solidFill>
                <a:latin typeface="Arial"/>
              </a:rPr>
              <a:t>ė</a:t>
            </a: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s elgsenos </a:t>
            </a:r>
            <a:r>
              <a:rPr b="0" lang="lt-LT" sz="4400" spc="-1" strike="noStrike">
                <a:solidFill>
                  <a:srgbClr val="dfdef6"/>
                </a:solidFill>
                <a:latin typeface="Arial"/>
              </a:rPr>
              <a:t>kategorijos (Rackham </a:t>
            </a: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&amp;</a:t>
            </a:r>
            <a:r>
              <a:rPr b="0" lang="lt-LT" sz="4400" spc="-1" strike="noStrike">
                <a:solidFill>
                  <a:srgbClr val="dfdef6"/>
                </a:solidFill>
                <a:latin typeface="Arial"/>
              </a:rPr>
              <a:t> Morgan, </a:t>
            </a: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1977)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684000" y="1844280"/>
            <a:ext cx="7931160" cy="4251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47840" indent="-44784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Užblokavim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Atviras elges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Suvokimo tikrinim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Apibendrinim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Informacijos siekim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Informacijos teikim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Elgesio perėmim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Elgesio parėmimas (nario įtraukima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12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1668BE-7D9D-4FAA-8919-4B358483BB4B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4" dur="500"/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9" dur="500"/>
                                        <p:tgtEl>
                                          <p:spTgt spid="5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4" dur="500"/>
                                        <p:tgtEl>
                                          <p:spTgt spid="5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9" dur="500"/>
                                        <p:tgtEl>
                                          <p:spTgt spid="5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4" dur="500"/>
                                        <p:tgtEl>
                                          <p:spTgt spid="5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9" dur="500"/>
                                        <p:tgtEl>
                                          <p:spTgt spid="5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4" dur="500"/>
                                        <p:tgtEl>
                                          <p:spTgt spid="5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9" dur="500"/>
                                        <p:tgtEl>
                                          <p:spTgt spid="5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dfdef6"/>
                </a:solidFill>
                <a:latin typeface="Arial"/>
              </a:rPr>
              <a:t>Konkurencija tarp grupių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4000" y="1844280"/>
            <a:ext cx="7931160" cy="4251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47840" indent="-447840">
              <a:spcBef>
                <a:spcPts val="799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Konkurencijos grupėje priežasty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Silpni ryšiai tarp nari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Grupės darbo klimato pokyčia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Autokratinis vadovavimo stili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Griežtas grupės struktūrizavim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Didelis akcentas lojalumu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12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AFDE6D-D13A-4F77-AE51-090137FE7281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6" dur="500"/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1" dur="500"/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500"/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500"/>
                                        <p:tgtEl>
                                          <p:spTgt spid="5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1" dur="500"/>
                                        <p:tgtEl>
                                          <p:spTgt spid="5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dfdef6"/>
                </a:solidFill>
                <a:latin typeface="Arial"/>
              </a:rPr>
              <a:t>Konkurencija tarp grupių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684000" y="1844280"/>
            <a:ext cx="7931160" cy="4251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47840" indent="-447840">
              <a:spcBef>
                <a:spcPts val="799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Konkurencijos tarp grupių priežasty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Kitos grupės traktavimas kaip priešinink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Silpna komunikacija, pasitikėjimo stok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Neigiami stereotipa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Izoliuotas požiūr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12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65539D-3451-49F8-9E99-FA98418B6473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8" dur="500"/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3" dur="500"/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8" dur="500"/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3" dur="500"/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8" dur="500"/>
                                        <p:tgtEl>
                                          <p:spTgt spid="5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dfdef6"/>
                </a:solidFill>
                <a:latin typeface="Arial"/>
              </a:rPr>
              <a:t>Konfliktų tarp grupių sprendimas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84360" y="1773000"/>
            <a:ext cx="7929360" cy="432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ffffff"/>
                </a:solidFill>
                <a:latin typeface="Arial"/>
              </a:rPr>
              <a:t>Skatinti grupes už jų indėlį į visos organizacijos veiklą, o ne vien už individualius grupės rezultatu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ffffff"/>
                </a:solidFill>
                <a:latin typeface="Arial"/>
              </a:rPr>
              <a:t>Skatinti tarpgrupinę komunikaciją ir bendradarbiavimą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ffffff"/>
                </a:solidFill>
                <a:latin typeface="Arial"/>
              </a:rPr>
              <a:t>Įgalinti grupės narius pažinti problemas už grupės ribų ir skatinti organizacijos visumos suvokimą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ffffff"/>
                </a:solidFill>
                <a:latin typeface="Arial"/>
              </a:rPr>
              <a:t>Siekti išvengti konkurencinių tarpgrupinių situacijų (laimi-pralaimi)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skatinti </a:t>
            </a:r>
            <a:r>
              <a:rPr b="0" lang="lt-LT" sz="2600" spc="-1" strike="noStrike">
                <a:solidFill>
                  <a:srgbClr val="ffffff"/>
                </a:solidFill>
                <a:latin typeface="Arial"/>
              </a:rPr>
              <a:t>situacijas (laimi – laimi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12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FBA6B8-8D31-49B5-9DAB-071F0EFD6E5A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5" dur="500"/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0" dur="500"/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5" dur="500"/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0" dur="500"/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dfdef6"/>
                </a:solidFill>
                <a:latin typeface="Arial"/>
              </a:rPr>
              <a:t>Komandos ir jų formavima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684360" y="1773000"/>
            <a:ext cx="7929360" cy="432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876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5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lt-LT" sz="3500" spc="-1" strike="noStrike">
                <a:solidFill>
                  <a:srgbClr val="ffffff"/>
                </a:solidFill>
                <a:latin typeface="Arial"/>
              </a:rPr>
              <a:t>Gera (efektyvi) komanda – kada jos nariai gali dirbti kaip komanda, veikdami atskirai ir orientuodamiesi į veiklų papildomumą ir nuoseklumą nei į bendrą užduotį, reikalaujančią tikslumo vietos ir laiko prasme</a:t>
            </a:r>
            <a:r>
              <a:rPr b="0" lang="lt-LT" sz="3500" spc="-1" strike="noStrike">
                <a:solidFill>
                  <a:srgbClr val="ffffff"/>
                </a:solidFill>
                <a:latin typeface="Arial"/>
              </a:rPr>
              <a:t>... (Adair, </a:t>
            </a: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1986m.)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12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EB74D7-C705-41E2-81BB-818CB8BBCB16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7" dur="500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dfdef6"/>
                </a:solidFill>
                <a:latin typeface="Arial"/>
              </a:rPr>
              <a:t>Komandos lyderio vaidmuo formuojant ir valdant komandą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250560" y="1628280"/>
            <a:ext cx="8364600" cy="4218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3200" spc="-1" strike="noStrike">
                <a:solidFill>
                  <a:srgbClr val="ffffff"/>
                </a:solidFill>
                <a:latin typeface="Arial"/>
              </a:rPr>
              <a:t>Pirmininkas</a:t>
            </a: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, kontroliuojantis ir koordinuojantis, tačiau nekurian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3200" spc="-1" strike="noStrike">
                <a:solidFill>
                  <a:srgbClr val="ffffff"/>
                </a:solidFill>
                <a:latin typeface="Arial"/>
              </a:rPr>
              <a:t>Architektas</a:t>
            </a: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, sprendimų ir situacijos modeliavima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3200" spc="-1" strike="noStrike">
                <a:solidFill>
                  <a:srgbClr val="ffffff"/>
                </a:solidFill>
                <a:latin typeface="Arial"/>
              </a:rPr>
              <a:t>Inovatorius</a:t>
            </a: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, kūrybiškas mąstymas ir pozityvus požiūris į kitų idėj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3200" spc="-1" strike="noStrike">
                <a:solidFill>
                  <a:srgbClr val="ffffff"/>
                </a:solidFill>
                <a:latin typeface="Arial"/>
              </a:rPr>
              <a:t>Vertintojas</a:t>
            </a: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, analizuoja ir objektyviai vertina siūlymus ir idėj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12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76230E-5E98-47D3-996A-EEB07332F29F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4" dur="500"/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9" dur="500"/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4" dur="500"/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dfdef6"/>
                </a:solidFill>
                <a:latin typeface="Arial"/>
              </a:rPr>
              <a:t>Komandos lyderio vaidmuo formuojant ir valdant komandą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250560" y="1628280"/>
            <a:ext cx="8364600" cy="4218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3200" spc="-1" strike="noStrike">
                <a:solidFill>
                  <a:srgbClr val="ffffff"/>
                </a:solidFill>
                <a:latin typeface="Arial"/>
              </a:rPr>
              <a:t>Kompanijos darbininkas</a:t>
            </a: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, idėjų ir kompanijos bendrų planų įgyvendinima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3200" spc="-1" strike="noStrike">
                <a:solidFill>
                  <a:srgbClr val="ffffff"/>
                </a:solidFill>
                <a:latin typeface="Arial"/>
              </a:rPr>
              <a:t>Komandos narys</a:t>
            </a: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, komandos poreikių identifikavimas ir tenkinim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3200" spc="-1" strike="noStrike">
                <a:solidFill>
                  <a:srgbClr val="ffffff"/>
                </a:solidFill>
                <a:latin typeface="Arial"/>
              </a:rPr>
              <a:t>Išteklių ieškotojas</a:t>
            </a: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, išteklių ir idėjų paieška komandos išorėje siekiant komandos tiksl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3200" spc="-1" strike="noStrike">
                <a:solidFill>
                  <a:srgbClr val="ffffff"/>
                </a:solidFill>
                <a:latin typeface="Arial"/>
              </a:rPr>
              <a:t>Įgyvendintojas</a:t>
            </a: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, orientuojasi į sėkmingą užduoties įgyvendinimą laiku ir kokybiška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12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E832F9-83C3-4C46-91D2-084B3807FCC6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6" dur="500"/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5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6" dur="500"/>
                                        <p:tgtEl>
                                          <p:spTgt spid="5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1" dur="500"/>
                                        <p:tgtEl>
                                          <p:spTgt spid="5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dfdef6"/>
                </a:solidFill>
                <a:latin typeface="Arial"/>
              </a:rPr>
              <a:t>Paskaitos tikslai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530280" y="1980720"/>
            <a:ext cx="8083440" cy="4124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Apibūdinti grupių elgsenos teorijų susiformavimo prielaida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Pristatyti pagrindines grupių elgsenos formavimo ir valdymo kryptis ir pžiūri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12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D7CF40-6F89-4141-8882-A5C9FD67E0DA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ransition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5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dfdef6"/>
                </a:solidFill>
                <a:latin typeface="Brush Script MT"/>
              </a:rPr>
              <a:t>Prielaidos</a:t>
            </a:r>
            <a:r>
              <a:rPr b="0" lang="en-US" sz="4400" spc="-1" strike="noStrike">
                <a:solidFill>
                  <a:srgbClr val="dfdef6"/>
                </a:solidFill>
                <a:latin typeface="Brush Script MT"/>
              </a:rPr>
              <a:t>  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Žmogaus poreikio priklausyti grupei išryškinima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Grupės įtakos individo elgesiui svarbos suvokima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Grupės veiklos svarbos organizacijos veiklai išryškinim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Grupių formavimosi ir elgsenos priežasčių paieška ir principų nustatym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12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2A7663-75BC-4608-9716-B4875FAD196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ransition>
    <p:checker dir="horz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dfdef6"/>
                </a:solidFill>
                <a:latin typeface="Arial"/>
              </a:rPr>
              <a:t>Grupių elgsenos teorijos</a:t>
            </a:r>
            <a:endParaRPr b="0" lang="en-US" sz="36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678960" y="1908000"/>
            <a:ext cx="7931160" cy="422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bjektas – </a:t>
            </a: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žmonių grupių formavimas ir elgsenos motyvavima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Grupių formavim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Grupių efektyvum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Grupių apribojima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Grupės elgsena ir vaidmu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Konkurencija tarp grupi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Komandos ir jų formavim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12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7A5A9C-CB7D-4984-BC39-591B8751011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" dur="500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500"/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500"/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" dur="500"/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" dur="500"/>
                                        <p:tgtEl>
                                          <p:spTgt spid="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500"/>
                                        <p:tgtEl>
                                          <p:spTgt spid="5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" dur="500"/>
                                        <p:tgtEl>
                                          <p:spTgt spid="5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dfdef6"/>
                </a:solidFill>
                <a:latin typeface="Arial"/>
              </a:rPr>
              <a:t>Grupių elgsenos veiksniai</a:t>
            </a:r>
            <a:endParaRPr b="0" lang="en-US" sz="36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1403280" y="1844280"/>
            <a:ext cx="7491600" cy="432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Lyderiavim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Grupės dyd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Grupės darnum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Nerių motyvacij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Grupės norm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Individualūs vaidmeny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Aplink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Užduoties prigim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12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AD55D4-30E7-4DB9-8BD1-98A48D964B2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500"/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" dur="500"/>
                                        <p:tgtEl>
                                          <p:spTgt spid="5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500"/>
                                        <p:tgtEl>
                                          <p:spTgt spid="5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500"/>
                                        <p:tgtEl>
                                          <p:spTgt spid="5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500"/>
                                        <p:tgtEl>
                                          <p:spTgt spid="5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" dur="500"/>
                                        <p:tgtEl>
                                          <p:spTgt spid="5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5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" dur="500"/>
                                        <p:tgtEl>
                                          <p:spTgt spid="5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43588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dfdef6"/>
                </a:solidFill>
                <a:latin typeface="Arial"/>
              </a:rPr>
              <a:t>Grupių formavimas (B. Tuckman, </a:t>
            </a:r>
            <a:r>
              <a:rPr b="0" lang="en-US" sz="3600" spc="-1" strike="noStrike">
                <a:solidFill>
                  <a:srgbClr val="dfdef6"/>
                </a:solidFill>
                <a:latin typeface="Arial"/>
              </a:rPr>
              <a:t>1965)</a:t>
            </a:r>
            <a:endParaRPr b="0" lang="en-US" sz="36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684000" y="1557000"/>
            <a:ext cx="7931160" cy="4535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800" spc="-1" strike="noStrike">
                <a:solidFill>
                  <a:srgbClr val="ffffff"/>
                </a:solidFill>
                <a:latin typeface="Arial"/>
              </a:rPr>
              <a:t>Formavimas</a:t>
            </a: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 (forming), užduoties, taisyklių, išteklių, struktūros nustatyma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800" spc="-1" strike="noStrike">
                <a:solidFill>
                  <a:srgbClr val="ffffff"/>
                </a:solidFill>
                <a:latin typeface="Arial"/>
              </a:rPr>
              <a:t>Konfliktas</a:t>
            </a: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 (storming), emocionalus pasipriešinimas grupės taisyklėm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800" spc="-1" strike="noStrike">
                <a:solidFill>
                  <a:srgbClr val="ffffff"/>
                </a:solidFill>
                <a:latin typeface="Arial"/>
              </a:rPr>
              <a:t>Normalizavimas</a:t>
            </a: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 (norming), konfliktų sureguliavimas ir naujų taisyklų nustatyma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800" spc="-1" strike="noStrike">
                <a:solidFill>
                  <a:srgbClr val="ffffff"/>
                </a:solidFill>
                <a:latin typeface="Arial"/>
              </a:rPr>
              <a:t>Veikla</a:t>
            </a: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 (performing), užduočių atlikimas, sprendimų įgyvendinima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800" spc="-1" strike="noStrike">
                <a:solidFill>
                  <a:srgbClr val="ffffff"/>
                </a:solidFill>
                <a:latin typeface="Arial"/>
              </a:rPr>
              <a:t>Užbaigimas</a:t>
            </a: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 (adjourning), grupės iširimas, atlikus užduotį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12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610EAA-8E0C-464B-840D-5F3423BDADC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500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" dur="500"/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" dur="500"/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" dur="500"/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" dur="500"/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dfdef6"/>
                </a:solidFill>
                <a:latin typeface="Arial"/>
              </a:rPr>
              <a:t>Grupės darnumo veiksniai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84000" y="1844280"/>
            <a:ext cx="7931160" cy="4251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438840" indent="-43884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Darbo panašum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8840" indent="-43884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Fizinis artimumas darbo vietoj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8840" indent="-43884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Užduoties struktūr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8840" indent="-43884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Grupės dyd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8840" indent="-43884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Išorės pavoja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8840" indent="-43884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Atlygio perspektyv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8840" indent="-43884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Vadovavimo stili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8840" indent="-43884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Panašūs socialiniai faktoria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12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C63BF6-65DE-4207-B236-4105DFF1D13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" dur="500"/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" dur="500"/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1" dur="500"/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500"/>
                                        <p:tgtEl>
                                          <p:spTgt spid="5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1" dur="500"/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" dur="500"/>
                                        <p:tgtEl>
                                          <p:spTgt spid="5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500"/>
                                        <p:tgtEl>
                                          <p:spTgt spid="5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6" dur="500"/>
                                        <p:tgtEl>
                                          <p:spTgt spid="5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dfdef6"/>
                </a:solidFill>
                <a:latin typeface="Arial"/>
              </a:rPr>
              <a:t>Grupių efektyvumo veiksniai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10920" y="1557000"/>
            <a:ext cx="7931160" cy="4824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Neformali, laisva aplink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Plačios diskusijos aktyviai dalyvauj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Grupės užduoties suvokimas ir įsipareigojim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Nariai klauso vienas ki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Konfliktai sprendžiami konstruktyvia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Sprendimai priimami kolegialia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Idėjos reiškiamos laisvai ir atvira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Lyderiavimas paskirstom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Grupė analizuoja savo pažangą ir elges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12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F68860-341C-4DE0-BDC3-71BD334B079B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" dur="500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" dur="500"/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" dur="500"/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8" dur="500"/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" dur="500"/>
                                        <p:tgtEl>
                                          <p:spTgt spid="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" dur="500"/>
                                        <p:tgtEl>
                                          <p:spTgt spid="5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3" dur="500"/>
                                        <p:tgtEl>
                                          <p:spTgt spid="5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8" dur="500"/>
                                        <p:tgtEl>
                                          <p:spTgt spid="5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3" dur="500"/>
                                        <p:tgtEl>
                                          <p:spTgt spid="5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dfdef6"/>
                </a:solidFill>
                <a:latin typeface="Arial"/>
              </a:rPr>
              <a:t>Grupių apribojimai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95280" y="1915920"/>
            <a:ext cx="8748720" cy="4251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443160" indent="-443160">
              <a:lnSpc>
                <a:spcPct val="90000"/>
              </a:lnSpc>
              <a:spcBef>
                <a:spcPts val="649"/>
              </a:spcBef>
              <a:buSzPct val="10282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600" spc="-1" strike="noStrike">
                <a:solidFill>
                  <a:srgbClr val="ffffff"/>
                </a:solidFill>
                <a:latin typeface="Arial"/>
              </a:rPr>
              <a:t>Grupės dydis</a:t>
            </a:r>
            <a:r>
              <a:rPr b="0" lang="lt-LT" sz="2600" spc="-1" strike="noStrike">
                <a:solidFill>
                  <a:srgbClr val="ffffff"/>
                </a:solidFill>
                <a:latin typeface="Arial"/>
              </a:rPr>
              <a:t>, mažos grupės darnesnės, užtikrina dalyvavimą, didelės grupės užtikrina didesnę talentų diversifikaciją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43160" indent="-443160">
              <a:lnSpc>
                <a:spcPct val="90000"/>
              </a:lnSpc>
              <a:spcBef>
                <a:spcPts val="649"/>
              </a:spcBef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600" spc="-1" strike="noStrike">
                <a:solidFill>
                  <a:srgbClr val="ffffff"/>
                </a:solidFill>
                <a:latin typeface="Arial"/>
              </a:rPr>
              <a:t>Užduoties prigimtis</a:t>
            </a:r>
            <a:r>
              <a:rPr b="0" lang="lt-LT" sz="2600" spc="-1" strike="noStrike">
                <a:solidFill>
                  <a:srgbClr val="ffffff"/>
                </a:solidFill>
                <a:latin typeface="Arial"/>
              </a:rPr>
              <a:t>, techninės užduotys reikalauja homogeniškų, specifinių grupių, problemų sprendimas, kūrybiškumas reikalauja įvairialypės grupės sudėtie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43160" indent="-443160">
              <a:lnSpc>
                <a:spcPct val="90000"/>
              </a:lnSpc>
              <a:spcBef>
                <a:spcPts val="649"/>
              </a:spcBef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600" spc="-1" strike="noStrike">
                <a:solidFill>
                  <a:srgbClr val="ffffff"/>
                </a:solidFill>
                <a:latin typeface="Arial"/>
              </a:rPr>
              <a:t>Narystė</a:t>
            </a:r>
            <a:r>
              <a:rPr b="0" lang="lt-LT" sz="2600" spc="-1" strike="noStrike">
                <a:solidFill>
                  <a:srgbClr val="ffffff"/>
                </a:solidFill>
                <a:latin typeface="Arial"/>
              </a:rPr>
              <a:t>, grupės daugialypiškumas, talentų įvairovė užtikrina grupės efektyvumą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43160" indent="-443160">
              <a:lnSpc>
                <a:spcPct val="90000"/>
              </a:lnSpc>
              <a:spcBef>
                <a:spcPts val="649"/>
              </a:spcBef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600" spc="-1" strike="noStrike">
                <a:solidFill>
                  <a:srgbClr val="ffffff"/>
                </a:solidFill>
                <a:latin typeface="Arial"/>
              </a:rPr>
              <a:t>Aplinkos veiksniai</a:t>
            </a:r>
            <a:r>
              <a:rPr b="0" lang="lt-LT" sz="2600" spc="-1" strike="noStrike">
                <a:solidFill>
                  <a:srgbClr val="ffffff"/>
                </a:solidFill>
                <a:latin typeface="Arial"/>
              </a:rPr>
              <a:t>, darbo aplinka, fizinis artumas ir kiti artimos aplinkos veiksniai, sąlygoja grupės efektyvumą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12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BF288B-CFC5-4F8D-A22D-3373CB6767AD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0" dur="500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5" dur="500"/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0" dur="500"/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5" dur="500"/>
                                        <p:tgtEl>
                                          <p:spTgt spid="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08T18:37:46Z</dcterms:created>
  <dc:creator>Sally Coltrin</dc:creator>
  <dc:description/>
  <dc:language>en-US</dc:language>
  <cp:lastModifiedBy>No name (ISM)</cp:lastModifiedBy>
  <dcterms:modified xsi:type="dcterms:W3CDTF">2005-05-03T10:58:18Z</dcterms:modified>
  <cp:revision>45</cp:revision>
  <dc:subject/>
  <dc:title>Introduction to Management</dc:title>
</cp:coreProperties>
</file>