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E64D-E948-474A-A554-DE31D5E17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0E40-4B5F-4200-9859-D17D818B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A16F-B473-41F9-AE4D-2D84B92D5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589D-90D6-4F9A-927F-3E5C92DC4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B910A-3403-4282-A07C-6B48557DD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F49F-1E72-440F-B43F-C1DB44FD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CC63-7FF3-4043-9DA8-314DC136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F635-B74E-4C92-B081-63F70AEA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1FFA-95CF-4A99-84F3-33E21E4C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51B5-11B9-4230-BA3C-94DF4844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841F8-3D7E-4C97-9301-7EF37711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8738-ABED-49AB-9A41-E6C8FA84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05BF-BD8D-42BE-9A4F-CAB834C1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26C2-2301-4FB0-ABE3-70724771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64E6-ADC8-48E1-9143-0C22005A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303B-FA06-4E0A-8AF2-60E51AC26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712D-628B-4D49-9111-655AFF87F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1EE8-E22A-46C5-94D4-D0C9966F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6860-C8B7-4D3B-AFBF-C94EE732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59D5-F592-4FD3-B22D-9CA5B0F8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B258-BCAD-4D45-B978-C08F4116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8DAD-1A14-4DE2-A8A0-540A06E0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8612-0F7C-4738-B151-99EE6CA2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9B3A-8D58-4483-94E6-28E75C92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16F0-7364-4D54-A056-9EB542E1403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59B0-690B-45A1-96B3-517D65FDCE2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000" spc="-1" strike="noStrike">
                <a:solidFill>
                  <a:srgbClr val="006633"/>
                </a:solidFill>
                <a:latin typeface="Garamond"/>
              </a:rPr>
              <a:t>Bihevioristinės – veiklos ir elgsenos motyvavimo teorijo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2DDD-0643-4CA0-93D0-BB547E5D60C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400" spc="-1" strike="noStrike">
                <a:solidFill>
                  <a:srgbClr val="006633"/>
                </a:solidFill>
                <a:latin typeface="Garamond"/>
              </a:rPr>
              <a:t>Poreikių grupė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7931160" cy="475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Fiziologiniai poreikiai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– maistas, miegas, seksas ir p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Saugumo poreikiai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– poreikis stabiliai aplinkai, būstui, ir apsisaugojimui nuo pavoj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Bendravimo poreikiai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(prisirišimas, meilė) – noras socialiai priklausyti grupei žmoni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Pripažinimo, pagarbos poreikiai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– poreikis būti gerbiamam ir pripažintam tarp kit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Saviraiškos poreikiai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– noras išbandyti save ir siekti rezultatų vis aukštesniame lygy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C746-58D9-425C-A6FE-71D168811C2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6633"/>
                </a:solidFill>
                <a:latin typeface="Garamond"/>
              </a:rPr>
              <a:t>Douglas McGregor (X ir Y teorijos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Objektas - žmonių elgesio tyrim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eorija 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eorija 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Klasikinės žmogaus elgesio motyvų kraštutinumus apibrėžiančios frazės – “valdymo stiliaus” folklora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D879-1AC6-4C12-A077-2E647D53971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Teorija X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uotojai dirba tik todėl, kad patenkinti savo materialinius poreiki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uotojai nemėgsta ir vengia darbo, atsakomybės ir dirba ne tą, kuris malonus, o kuris gali duoti daugiau pajam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uotojus būtina griežtai prižiūrėti ir versti gerai dirbt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Būtina reglamentuoti veiklos turinį, nustatyti procedūras ir kontroliuot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8835-D776-435B-9CF2-5A48B3B1ABB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Teorija 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uotojai linkę dirbti ir darbas reikalingas kaip maistas ir poils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uotojai renkasi darbą, kuris jiems malonus ir gali suteikti didžiausią pasitenkinim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uotojai stengiasi gerai ir atsakingai atlikti darbą, būti ištikimi organizacijai, siekti jos tiksl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Reikia suteikti darbuotojui galimybes save realizuoti, veikti kūrybiškai ir našia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A4BA-0CCA-4E84-964A-75087F3F100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6633"/>
                </a:solidFill>
                <a:latin typeface="Garamond"/>
              </a:rPr>
              <a:t>Chris Argyri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842840"/>
            <a:ext cx="7929360" cy="424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jektas – darbuotoj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ų asmeninių poreikių ir organizacijos tikslų suderinamum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Žmonės vengia darbo ne todėl, kad tingi, bet todėl, kad verčiamu dirbti ir kontroliuojami kaip vaika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Suformavo Brendimo – Brandos Teorij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Žmogaus asmenybė vystosi tam tikrose srityse, kurios keičiasi laik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77E4-F238-4735-865A-E9F195670FD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6633"/>
                </a:solidFill>
                <a:latin typeface="Garamond"/>
              </a:rPr>
              <a:t>Brendimo – Brandos teorij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asyvumas ----------------------- Aktyvum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riklausomybė ---------------- Nepriklausomyb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Ribota elgsena ------------------ Įvairi elgse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aviršutiniški interesai -------- Gilūs interesa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rumpalaikė perspektyva --Ilgalaikė perspekty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Sekimo pozicija -------------- Lygiavertė pozici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Nepasitikėjimas ----- Pasitikėjimas ir savikontrol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8A9F-7322-4CF4-8A19-1179E17C81F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6633"/>
                </a:solidFill>
                <a:latin typeface="Garamond"/>
              </a:rPr>
              <a:t>Išvad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360" y="1842840"/>
            <a:ext cx="7929360" cy="424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lasikinė organizacija pasižymi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Užduočių specializavim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Komandų grandinės apibrėžim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Valdymo centralizavim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Kontrolės išplėstum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Subrendę” darbuotojai siekia išvengti nepalankios aplinkos darbe kurdami neformalias grupes ir organizuodami veiklas prieš formalią organizacij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35B3-C1E3-475A-ABEA-7AA0EA1A564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6633"/>
                </a:solidFill>
                <a:latin typeface="Garamond"/>
              </a:rPr>
              <a:t>F. Herzberg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842840"/>
            <a:ext cx="7929360" cy="424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ktas – 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pasitenkinimas darb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Tyrimai skirti nustatyti situacijas, kuomet darbuotojai patyrė pasitenkinimą ir nepasitenkinimą darbo vietoj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Motyvatoriai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 – veiksniai, sąlygojantys pasitenkinim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Higienos veiksniai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 lemia nepasitenkinim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82E4-8BFD-46A0-A683-862CC5196B2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4200" spc="-1" strike="noStrike">
                <a:solidFill>
                  <a:srgbClr val="006633"/>
                </a:solidFill>
                <a:latin typeface="Garamond"/>
              </a:rPr>
              <a:t>Svarbiausi motyvatoria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360" y="1842840"/>
            <a:ext cx="7929360" cy="424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asiekima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ripažinim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Atsakomybė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aaukštinim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Šie veiksniai susiję su darbo turiniu ir sąlygoja pozityvų pasitenkinimą darbu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3782-8B98-4EF3-805F-EEC206A55DC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4200" spc="-1" strike="noStrike">
                <a:solidFill>
                  <a:srgbClr val="006633"/>
                </a:solidFill>
                <a:latin typeface="Garamond"/>
              </a:rPr>
              <a:t>Svarbiausi higienos faktoria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360" y="1842840"/>
            <a:ext cx="7929360" cy="424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Kompanijos politika ir administravim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riežiūra – techniniai aspekta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Atlyginim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arpasmeniniai santykia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o sąlyg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Šie veiksniai susiję su darbo aplinka ir gali tik mažinti nepasitenkinimą ja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8186-31F4-4C60-A7BA-86E980C1A52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Paskaitos tiksla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1720" y="1981080"/>
            <a:ext cx="8080560" cy="412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Apibrėžti motyvavimo koncepcij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Apibūdinti Bihevioristinės – veiklos ir elgsenos motyvavimo teorijų susiformavimo prielaida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Pristatyti pagrindinius autoriu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r teorij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Apžvelgti jų nuopelnus vadybos mokslu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532C-3203-4C2B-B6C4-7D666461B15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Rensis Liker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842840"/>
            <a:ext cx="7929360" cy="424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jektas – </a:t>
            </a: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valdymo įtaka darbuotojų elgsenai derinant jų interesus su organizacijos ir formuojant santykius neformaliose grupės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Mičigano tyrimai</a:t>
            </a:r>
            <a:r>
              <a:rPr b="0" i="1" lang="lt-LT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100" spc="-1" strike="noStrike">
                <a:solidFill>
                  <a:srgbClr val="000000"/>
                </a:solidFill>
                <a:latin typeface="Arial"/>
              </a:rPr>
              <a:t>Produktyvūs vadovai</a:t>
            </a: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 – žemi kaštai ir aukštas darbuotojų motyvacijos lygmu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100" spc="-1" strike="noStrike">
                <a:solidFill>
                  <a:srgbClr val="000000"/>
                </a:solidFill>
                <a:latin typeface="Arial"/>
              </a:rPr>
              <a:t>Neproduktyvūs vadovai</a:t>
            </a: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 – aukšti kaštai ir žemas darbuotojų motyvacijos lygmu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100" spc="-1" strike="noStrike">
                <a:solidFill>
                  <a:srgbClr val="000000"/>
                </a:solidFill>
                <a:latin typeface="Arial"/>
              </a:rPr>
              <a:t>Naujas vadybos modelis</a:t>
            </a: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 pagrįstas tarpasmeninių santykių rėmimu ir vystymu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Vadovo funkcija – remti darbuotojo priklausomybę grupei ir skatinti asmeninę saviraiška grupės viduj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83B8-A69B-4FBE-8264-2DC6B1E176C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Vadovavimo stilia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929360" cy="475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43160" indent="-4431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Eksploatacinis - autoritarinis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 – hierarchinė valdžia, kontrolė, bausmės, menka komunikacija, nėra komandinio darbo. Produktyvumas žem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Palankus - autoritarinis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 – yra šiek tiek valdžios delegavimo, naudojamos bausmės, tačiau ir skatinimas, konsultuojama darbe. Produktyvumas aukštesnis, tačiau kaštai aukšt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Konsultacinis –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 tikslai ir užduotys formuojamos po konsultacijų su darbuotojais, naudojamas komandinis darbas. Produktyvumas geras, tačiau motyvavimas nepakankam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Darbuotojų dalyvavimas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 – ideali sistema, darbuotojai dalyvauja formuojant tikslus ir užduotis, gerai organizuotas komandinis darbas, gera komunikacija, aukšta motyvacija. Produktyvumas aukšt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0205-0C2D-47F3-8B77-5F830507061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otyvavimo</a:t>
            </a: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 teorijų nuopelna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792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tskleisti darbuotojo elgsen</a:t>
            </a: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ą ir veiklą, skatinantys veiksnia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Susisteminti žmogaus poreikiai ir jų patenkinimo svarba jų elgsena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Suformuoti darbuotojų motyvavimo aktyviai veiklai metodai ir principa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Išryškinta asmeninių ir organizacijos tikslų suderinamumo problema ir svarba veiklos rezultatam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Išryškinta vadovų įtaka motyvuojant darbuotoju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Išryškinta grupių svarba motyvuojant joms priklausančius darbuotojus siekti geresnių rezultatų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3244-1009-4208-98DA-80CD11F2CC8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Bihevioristinės – veiklos ir elgsenos motyvavimo teorijos (vėlyvesnė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V. H. Vroom (Vilčių teorij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Robbins (Turto teorij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Lock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 Lathman (Tikslų teorij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Kelley (Požymių teorij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B. F. Skinner (Gebėjimų stiprinimo teorij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W. Ouchi Teorija “Z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38AB-EF02-41B2-9185-DDD7F144AE0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6633"/>
                </a:solidFill>
                <a:latin typeface="Garamond"/>
              </a:rPr>
              <a:t>V. H. Vroom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Objektas - žmonių elgesi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avimas j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ų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ubjektyvia realios 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situacijos interpratecij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Vilčių teorij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Esmė – kaip žmogus suvokia ryšį tarp trijų dalykų – pastanga, atlikimas, atlyg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Situacijos suvokimą sąlygojančių veiksnių apibrėžima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39C3-BC83-479E-92AF-F2287454079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Motyvavimo veiksniai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Vilt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– tikėjimas, kad atitinkamas veiksmas duos laukiamą rezultat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Priemonė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  - tikėjimas, kad atitinkamų priemonių panaudojimas duos laukiamą rezultatą ir atlygį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Valentingumas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 – įsitikinimo laipsnis, kad patrauklus atlygis potencialiai yra įmanom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6FB8-D639-4F80-B7AC-9F6F5D8AB23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Varomoji jėga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Varomoji jėga (VJ)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Force (F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– trijų motyvavimo veiksnių kombinacij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VJ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F)=Viltis (Expectancy E)* Valentingumas (Valence V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=E*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5238-E6DB-4A55-948B-58C6BB4527D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il</a:t>
            </a: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čių teorijos nuopelna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792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teikė suprantamą požiūrį į motyvavimo proces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grindė, kad individai veikia, jei yra įsitikinę, kad jų veikla duos pageidaujamus rezultat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tskleidė individualaus situacijos suvokimo svarbą motyvavimo procesu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šryškino, kad efektyvus atlikimas suteikia pasitenkinimą darbu, o ne atvirkščiai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šryškino darbo veiksnių – autonomiškumas, įvairovė, užduoties suvokimas ir grįžtamasis ryšys yra svarbiausi organizuojant darb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9EAF-0F06-441E-A8DA-CCEBBC90E9E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6633"/>
                </a:solidFill>
                <a:latin typeface="Garamond"/>
              </a:rPr>
              <a:t>Robbin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Objektas - žmonių elgesi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avimas j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ų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ubjektyviu 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ožiūriu į veiklos ir naudos santykį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urto teorij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Esmė – kaip žmogus suvokia ryšį tarp dedamų pastangų darbui atlikti ir gaunamos naudos (teisinguma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uotojas suvokdamas situacijos neteisingumą patiria “</a:t>
            </a: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turtinę įtampą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D62C-438C-41E2-AF48-965FBC26DF3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Turtinė įtamp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Turtinė įtampa skatina elgtis taip, kad suvokiamos situacijos neteisingumas būtų panaikint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Žmogus elgiasi pozityviai, jei suvokia kad gaunama nauda yra per didelė ir reikalauja didesnių pastang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Darbas pervertint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Žmogus elgiasi negatyviai, jei suvokia kad gaunama nauda yra per maža ir neatitinka įdedamų pastang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Darbas neįvertint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7F34-C7E5-4A41-BBEE-AB3EF7B152F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Motyvavima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1720" y="1981080"/>
            <a:ext cx="8080560" cy="412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Instinktyvūs ir racionalūs procesai, kurių metu žmogus siekia patenkinti savo poreikius ir tikslus, kurie sąlygoja ir formuoja žmogiškąjį elgesį. (Cole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1995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B938-F294-4E78-99E9-B2DBC5801DC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Turtinė įtampos šalinimo būdai (Robbin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Galimi darbuotojo elgesio pasirinkimai, šalinant įtamp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Keičiasi indėlis į darbą (nenaudoti per daug pastangų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Keičiasi rezultatai (daryti daugiau, net jei ir prastesnės kokybė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Iškreipiamas savęs vertinimas (dirbu žymiai sunkiau ir daugiau negu kit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Iškreipiamas kitų vertinimas (kiti darbai žymiai patrauklesni (arba ne) negu aš galvojau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Pasirenkamas skirtingas vertinimo atskaitos taškas (nesvarbu, kad blogesnis už kažką bet geresnis už kitą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Paliekamas darb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8097-7B49-46AE-B573-5C5D2B47B3F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Turto teorijos esmė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Individai vertina ne tik indėlio į darbą ir gaunamos naudos santykį (kaip vilčių teorijoje), bet ir siekia palyginti jį su kitomis veiklomis ir tai tampa esminiu stimulu veikla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Individai patys susikuria tam tikrus teisingo atlygio už darbą standartus... Šie standartai yra santykiniai; atlygio skirtumai suvokiami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pripažįstami) kaip teisingi už skirtingai atliktą darbą (skitingas atlikimo lygis)   Jaques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1964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20B2-F42F-4154-957D-F517C5E1274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Locke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&amp;</a:t>
            </a: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 Lathm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Objektas - žmonių elgesi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avimas 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skatinant siekti savų tikslų ir uždavinių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ikslų teorij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Esmė – žmogaus asmeniniai siekiai patys savaime yra stiprūs motyvatoria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Kuo tikslai specifiškesni tuo labiau motyvuoja. “Atlikti darbą gerai” pats savaime nėra stiprus motyvas, tuo tarpu asmeninis specifinis tikslas yra žymiai stipresnis motyvas atlikti darbą gera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AEBD-438B-4655-90FA-30E6DDD8C22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Tikslo “nuosavybė”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ikslo individualizavimas didina </a:t>
            </a: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įsipareigojimą tikslui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 ir motyvaciją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Įsipareigojimas didėja, jei tikslai tampa vieš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Specifinis individualus tikslas stiprina pasitikėjimą savo jėgomis ir didina </a:t>
            </a: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veiksmingumą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ikslų individualizavimas leidžia harmonizuoti juos su organizacijos tiksla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ikslų individualizavimas leidžia efektyviau valdyti organizaciją (MBO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7EF4-4A4A-4A91-A340-4283CE26895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Kelle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Objektas - žmonių elgesi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avimas 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įtakojant vidinius ir išorinius veiksniu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ožymių teori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Esmė – žmogaus elgesys įgauna tam tikrus požymius, nes jį suformuoja vidiniai veiksniai (kontroliuojami) ir išoriniai aplinkos veiksniai (nekontroliuojami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uotojai pasirinkdami tam tikrą elgesį daro tai sąmoningai ir verčiami tam tikrų aplinkos veiksni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CC50-3023-405D-B2FD-876891DE630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3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Elgesio požymia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Vidiniai kriterijai lemiantys elgesio pasirinkimą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Išskirtinumas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 (kaip išskirtinai ir netipiškai pasielgt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Konsensusas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 (kaip elgesys atitinka tipišką elgesį tipinėse situacijo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Pastovumas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 (kaip elgesys pastovus ir nuoseklus laikui bėgan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Elgesys pasižymintis vidiniais kriterijais kontroliuojamas ir motyvuot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Išoriniai kriterijai lemia elgesį, vengiant atsakomybės, įsipareigojimo ir kontrolė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70B5-C2E1-4B18-A74C-465CA7AD86B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B. F. Skinn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Objektas - žmonių elgesi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avimas 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įtakojant išorinius veiksnius, naudotus praeityj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Gebėjimų stiprinimo teori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Esmė – žmogaus elgesys yra ankstesnių elgesio pasekmių funkcij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uotojo elgesį galima motyvuoti veiksniais, kurie davė rezultatų praeityje ir kurių poveikis stiprina įgūdžius veikti ateityj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299A-FDF2-4105-837E-C6AE982E58F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7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Elgesio motyvavimo būda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ozityviai skatinti norimą elges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gnoruoti nepageidaujamą elges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Vengti bausmių, kaip pagrindinės priemonės, siekiant norimų rezultat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ustiprinti įgūdžius iš kart, kai pageidaujamas rezultatas pasiek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aikyti pozityvų įgūdžių stiprinimą reguliari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Vertinti pozityvius ir negatyvius individualios aplinkos veiksn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pibrėžti norimo elgesio ir rezultato santykį kiekybišk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B23D-025C-4849-9339-0D530370AF0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4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4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4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4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W. Ouch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Objektas - žmonių elgesi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avima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s, taikant japoniškosios vadybos principu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eorija “Z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Esmė – “Z” tipo organizacija siekia tobulinti savo gebėjimus koordinuoti žmones, ne technologijas, didinant produktyvumą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C50D-0FF1-4FF7-9A78-70C7D09E796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1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6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1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Japoniškosios vadybos bruožai lyginant su vakarietišk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Lojalumas organizacijai / lojalumas profesij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Lėtas kilimas karjeros laiptais / poreikis diktuoja kilimą karjeros laip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Retas darbo keitimas / dažnas darbo keit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amda visam gyvenimui / samdos garantijų nė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Vertinami ilgalaikiai darbai / vertinami darbo rezultat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lgalaikis dėmesys kvalifikacijos kėlimui / kvalifikacijos tobulinimas pagal poreik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629A-4FDB-42CB-A2B8-BD329E68A7B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8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3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8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3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8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Motyvavim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 </a:t>
            </a: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modeli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184464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Fiziniai poreiki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33577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tim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486900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ocialiniai/ intelektiniai/ emociniai poreiki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1916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Elgs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24360" y="5084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Elgs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95640" y="33577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Atsak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32720" y="1916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Pasitenkini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32720" y="5013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Nusivyli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04000" y="33577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Rezulta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26920" y="249228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826920" y="371592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76360" y="3573360"/>
            <a:ext cx="2519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500720" y="2276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00720" y="3789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48360" y="3573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7451640" y="2276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451640" y="378936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FD83-106D-4F41-9C4A-D72254B7696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Teorija “Z”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naikinti visus dirbtinius barjerus statusui formuoti (harmonizavim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Restruktūrizuoti darbą, sudarant sąlygas darbuotojui prisiimti prasmingą vaidmenį ir pozityviai įtakoti organizacijos sėkm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lėtoti mokymus, užtikrinant valdymo tęstinum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obulinti komunikaciją visomis kryptimis akcentuojant kompanijos veiklą, politiką ir ateities galimy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Didinti individualią atsakomybę darbui, kokybei ir aplink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Diegti naujoves organizacijos valdyme ir darbo organizav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9D55-8DE9-437F-99D4-8C4BE7C5245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0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5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5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0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5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Motyvavimo</a:t>
            </a:r>
            <a:r>
              <a:rPr b="0" lang="lt-LT" sz="3800" spc="-1" strike="noStrike">
                <a:solidFill>
                  <a:srgbClr val="006633"/>
                </a:solidFill>
                <a:latin typeface="Garamond"/>
              </a:rPr>
              <a:t> teorijų (vėlyvesnių) nuopelnai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792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tskleisti darbuotojo elgsen</a:t>
            </a: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ą ir veiklą, skatinantys veiksnia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Išryškinta žmogaus asmeninių siekių ir subjektyvios motyvacijos svarba, skatinant elgesį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Suformuoti darbuotojų motyvavimo aktyviai veiklai metodai ir principa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Išryškinti vadovavimo principai skatinant darbuotojų subjektyvią motyvaciją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Išanalizuoti ir pristatyti japoniškosios vadybos principai ir ypatuma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Japoniškojo valdymo principai pateikti, kaip efektyvūs darbuotojo subjektyvios motyvacijos veiksnia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0A18-C74F-4906-A4DB-0DAC90888A9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2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7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2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6633"/>
                </a:solidFill>
                <a:latin typeface="Brush Script MT"/>
              </a:rPr>
              <a:t>Motyvavimo požiūriai </a:t>
            </a:r>
            <a:br>
              <a:rPr sz="3800"/>
            </a:br>
            <a:r>
              <a:rPr b="0" lang="lt-LT" sz="3800" spc="-1" strike="noStrike">
                <a:solidFill>
                  <a:srgbClr val="006633"/>
                </a:solidFill>
                <a:latin typeface="Brush Script MT"/>
              </a:rPr>
              <a:t>pagal Schein (</a:t>
            </a:r>
            <a:r>
              <a:rPr b="0" lang="en-US" sz="3800" spc="-1" strike="noStrike">
                <a:solidFill>
                  <a:srgbClr val="006633"/>
                </a:solidFill>
                <a:latin typeface="Brush Script MT"/>
              </a:rPr>
              <a:t>1965) 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acionalus – ekonominis </a:t>
            </a: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žmogus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. Asmeninių interesų ir naudos maksimizavim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Socialinis žmogus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. Socialiniais poreikiais asmeniniais santykiais pagrįsta elgsen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Saviraiškos žmogus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. Pripažinimo, pagarbos ir saviraiškos poreikiais pagrįsta elgsen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Sudėtingas žmogus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. Kompleksiškas ir sudėtingas įvairių poreikių, interesų ir tikslų derinys, sąlygojantis žmogaus elgsen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F235-EB17-4FA0-AD1E-37D8866FA3C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Brush Script MT"/>
              </a:rPr>
              <a:t>Prielaidos</a:t>
            </a:r>
            <a:r>
              <a:rPr b="0" lang="en-US" sz="4200" spc="-1" strike="noStrike">
                <a:solidFill>
                  <a:srgbClr val="006633"/>
                </a:solidFill>
                <a:latin typeface="Brush Script MT"/>
              </a:rPr>
              <a:t> 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Klasikinių teorijų ribotas požiūris į žmogaus svarbą organizacijoj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Motyvacinių priemonių ir metodų trūkumas ir ribotum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Visapusiškų veiklos aktyvinimo motyvų paieška ir taikymo organizacijų valdyme galimybė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D470-C3B3-43A4-B9F2-961083B002B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Bihevioristinės – veiklos ir elgsenos motyvavimo teorijos (ankstyvesnė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360" y="1842840"/>
            <a:ext cx="7929360" cy="424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Abraham Masl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ouglas McGregor (X ir Y teorijo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Chris Argyr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F. Herzberg (Motyvavimo – higienos teorij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Rensis Like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8F41-4B56-4E62-8EF6-6BF48998C42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Abraham Maslow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Amerikiečių psicholog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943m. 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irmasis paskelbė žmonių poreikių, skatinančių jų elgesį, hierarchinę piramidę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Objektas – žmogaus veiklą sąlygojančių poreikių visum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273D-D28B-4CF5-9FF5-CD5C8BEB58B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Poreikių hierarchij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5640" y="1484280"/>
            <a:ext cx="7848720" cy="4321080"/>
          </a:xfrm>
          <a:prstGeom prst="triangle">
            <a:avLst>
              <a:gd name="adj" fmla="val 50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43280" y="537372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Fiziologini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56000" y="47242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aug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84360" y="400536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endrav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3640" y="342900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ripaži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92360" y="2708280"/>
            <a:ext cx="229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aviraišk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32000" y="522936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08000" y="4581360"/>
            <a:ext cx="532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56000" y="3933720"/>
            <a:ext cx="41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32000" y="328464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5EEC-AD79-4954-829E-A4DE953191F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3-08T13:41:00Z</dcterms:modified>
  <cp:revision>53</cp:revision>
  <dc:subject/>
  <dc:title>Introduction to Management</dc:title>
</cp:coreProperties>
</file>