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F95-012B-4364-A323-37FA505E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71A-BF1B-4655-A60A-E8F234B4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569-A44C-452F-9738-E421C08D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8EF-32DD-480D-BE14-72F700B0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AD4E-2A4E-454F-A016-A2BD73F1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5E8D-31FA-4588-A9C9-A206B4E8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C1F6-FC1E-4490-A5D4-429AFACB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3CDF-B909-4B0B-A404-D38EB3B2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4B89-8AA6-40BD-A5DB-048A7560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8EDF-072D-469E-9B60-1D007D8E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1F65-F433-4C70-89C7-9BF57179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53F-A975-4E06-B9B0-EDD7D329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BB50-3217-4572-B078-0A5C3138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14ED-0DD2-4046-8072-57DD42AB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CE4B-A4A1-4ADF-BD8E-DC63F2BB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EEB3-5F51-46CA-A428-D844FD6D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4FAB-ED37-4127-BD4A-FCC47CC2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F06-9F99-4629-B786-6977E624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79A-79A7-4FCD-858E-F81524C1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5B9-84B7-438F-AC83-13BA5658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CBB0-7421-463A-BC12-792E8B5C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CA9-99F0-45E8-81EB-7D86E703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2E2-12E6-48BE-B4BB-DC906DAB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8FB-03E4-4F60-89BB-3B64B1C3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DA59-38AB-4D5C-8C92-3D2E8DAA86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0BA0-B61F-40CA-A621-90E7998B9E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bbd71"/>
                </a:solidFill>
                <a:latin typeface="Arial"/>
              </a:rPr>
              <a:t>Klasikinės sociopsichologinės teorijos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8EFA-26D2-43F4-BFEB-208EA1DF21A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Lyderiavimo teorij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avybių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iliaus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tsitiktinumų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rganizacijos vadovų vadovavimo žmonėms gebėjimų ir būdų analizė ir formavi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1DB-EE21-4ED1-962B-B4F90C056D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elgsenos teor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formavi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efektyvu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apribojim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ės elgsena ir vaidmu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onkurencija tarp grupi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omandos ir jų formavi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žmonių grupių formavimas ir elgsenos motyvav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873-273F-402B-9378-CC50C556BF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isuotinio dalyvavimo valdyme (partisipatyvinė) teor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C. Ker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W. Geller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. Pe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. Pars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darbuotojų dalyvavimas užduočių formavime ir sprendimų priėm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366-3AB4-4536-97BB-A7D85B9F30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Sociopsichologinių teorijų nuopeln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šryškintas žmogaus vaidmuo organizacijoj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arengti darbuotojų tarpusavio santykių pagrindai, išryškinant vadovų ir pavaldinių santyki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Suformuoti darbuotojų motyvavimo aktyviai veiklai metodai ir principa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radėti spręsti organizacijos ir visuomenės santykių klausima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Apjungtos klasikinių teorijų nuostatos su socialiniais ir psichologiniais principa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šryškinta vadovų asmeninė įtaka organizacijos veiklai ir santykiams su darbuotoja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A32-1F21-40E3-990C-5846063448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Sociopsichologinių teorijų ribotum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er didelis akcentas darbuotojų tarpusavio santykiams, psichologiniams veiklos motyvams iškreipia kompleksinį vadybos objekt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Žmonių motyvuotos elgsenos ir pasitenkinimo siekis nukreiptas savotiškos laimės kūrimui yra nenatūraliai pabrėžtas. Organizacijos funkcija – nėra kurti laimę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Organizacijos funkcija – sudaryti sąlygas žmogui siekti savo laimė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A790-0BF8-45B1-A155-56A08DB2809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opsichologini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ų teorijų susiformavimo prielaid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CF0-F4CD-48F4-BC4F-BB2E74737D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bbd71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rganizacijų vadovų didelis dėmesys darbo organizavimui ir produktyvumo didinimui, tačiau mažas darbuotojų darbo sąlygų gerinim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rbuotojų nepasitenkinimas darbo sąlygomis ir motyvacine sistema organizacij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4A5-500A-4E2B-B56D-E83CF6DD34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bbd71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eitėsi žmonių darbo ir vadovamo jiems princip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parti ekonominė plėtra ir žmonių koncentravimasis miestuose (ypač JAV) lėmė poreikio pramogoms ir laisvalaikiui augim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Gamybos kompanijos išgyveno krizę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m. Akcij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ir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gimas)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 ir klasikinių metodų ribotum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103-E535-4CD0-94A6-F43CC5EAD4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Sociopsichologinių teorijų esmė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8960" y="1908000"/>
            <a:ext cx="7931160" cy="42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Žmonių elgesio organizacijose tyrimas ir formavim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Žmogiškojo faktoriaus svarbos išryškinim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žmonių motyvavimas, grupių santykiai ir lyderiavima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D19-6AA1-405E-8174-377C826929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Sociopsichologinės teorijo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mogiškųjų santykių teo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Lyderiavimo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Grupių elgsenos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isuotinio dalyvavimo valdyme (partisipatyvinė) teo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D19-4667-41A9-869A-1213A01695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Žmogiškųjų santykių teor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Elton May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Mary Parker Fol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monių tarpusavio santykiai, psichologinių ir socialinių veiksnių įtaka organizacijos veiklos efektyvum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A1D-A977-4695-911F-3DB62D8705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0840" indent="-4208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 (ankstyvesnė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braham Mas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ouglas McGregor (X ir Y teorij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Chris Argy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F. Herzberg (Motyvavimo – higienos teor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Rensis Lik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423-205F-4AEC-B6D9-209CD9C54F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 (vėlyvesnė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. H. Vroom (Vilči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Robbins (Turto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Lock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Lathman (Tiksl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elley (Požymi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B. F. Skinner (Gebėjimų stiprinimo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darbuotojų veiklos aktyvinimo motyvų analizė ir skatin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F59-5BFC-42AC-BF72-D0B7833C13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14Z</dcterms:modified>
  <cp:revision>41</cp:revision>
  <dc:subject/>
  <dc:title>Introduction to Management</dc:title>
</cp:coreProperties>
</file>