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53A-EED2-43E5-A716-77084B8E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D7F-C085-4BF3-B76A-F4C112FC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E58-69DB-4D19-8489-FDB04856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D8A-8723-4D90-A6FB-29BF1EB4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28E3-F720-41B5-8032-B086907D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10E9-4E44-4187-BBB2-E33AE67A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E4CE-E845-4921-A866-A8D53A87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750A-7575-40A4-BAB7-691103F9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E9CC-ECEE-41D4-AE04-5A5E1365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4BE2-F79A-45A1-88A2-B1FAAD5B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67CD-E4A3-4A0E-8D99-3F9C5C43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E1D-BC93-43E8-8BF4-5C19ACC6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37F5-11C4-4990-AC5C-4ED9C0E4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7E2D-3DEB-41F4-BA39-8ADC6713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97C2-722C-4324-8BAD-D33AAD8C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268C-CBB3-48D5-9BCC-F4DDC12F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7878-CEFB-4C55-B2A7-02DD8E2D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95B2-1318-47E0-BC34-1BD6217E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3B6-3DA1-442B-87A0-7CB96099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F1B5-6857-462E-93ED-23DCEEEE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11E-E65C-4684-892E-D1ED624F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D008-505D-42A1-AD38-74DF92FA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032-33AE-4621-A0F2-6EDC3168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EAE-C526-4C4B-85AC-0FB118C9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2EBA-BF7A-4AC2-97D9-DF61C40A2E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3887-B7E8-4BA2-BFF7-17FEF4DBD9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M. Weber idealaus biurokratinio valdymo teor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DA78-81A0-4A77-929C-AA9C0807102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Weber biurokratijos koncepcijos esmė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zuoti ir reglamentuoti santykius tarp darbuotojų organizacijoje, suformuoti “nuasmenintą” santykių atmosferą, eliminuoti vienų prielankumą (neprielankumą) kitiems. Bet koks nukrypimas nuo reglamentų neigiamai veikia darbo efektyvumą ir rezultat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2FD-0464-4B35-B6FF-BD8AF2350D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Hierarchinė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aiškiai apibrėžta valdžios hierarchija yra racionalaus darbuotojų elgesio kontrolės pagrin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reigybės yra sujungtos vertikaliais ryšiais, sudarančiais įsakymų linij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 didėja su kiekvienu laipteliu aukšty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Darbų grupė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struktūriniai padaliniai, kurie leidžia kompleksinius darbus racionaliai suskaidyti į atskiras operacij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Tai leidžia efektyviausiai panaudoti darbuotojus ir lengviau specializuoti naujai priimt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420-B8FF-4987-83A4-A53A738D66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aisyklės ir procedūr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svarbu paskirstyti taisykles ir procedūras organizacijos darbuotojams formuojant sprendimo priėmimo grandinę ir darbuotojų elges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Taisyklės ir procedūros garantuoja organizacijos stabilumą ir apsaugo nuo savanaudiško elges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echninė kompeten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racionaliai apibrėžtos pareigybės leidžia parinkti geriausiai kompetentingus darbuotoj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arantuoja personalo parinkimo objektyvum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628-1FAA-4262-8526-38E5CEAF071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Nuosavybės atskyrimas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atskiriant savininkus nuo valdymo galima užtikrinti objektyvesnį valdymą, nepagrįstą savanaudiškais tikslai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Savininkai daugiau orientuojasi į kuo didesnį pelną, bet ne į produktyvumo didinim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Pareiginė valdžia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būtina valdžia suteikti pareigybei, bet ne asmeniui, vengiant jos panaudojimo savanaudiškais tikslai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Asmuo, praradęs pareigas, praranda ir valdži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Faktų fiksavimas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būtina raštu fiksuoti visus įvykius bei sprendimus ateities sprendimam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38F-46A1-41DC-A08B-2FC0CDB760E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Ideali organiz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Visiems laikantis nustatytų taisyklių ir procedūrų, nelieka vietos asmeniškumams, formuojasi “sveika korporacijos dvasia”, nėra sąlygų intrigoms, paskaloms ir panašiems dalykams. Tokia atmosfera sąlygoja aukštą veiklos efektyvumą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342-DA46-4E5C-964E-1E019E2E9D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Weber nuopelnai vadyb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irmas kompleksiškai suformuluotas požiūris į organizacijos formaliąją struktūr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Biurokratinės – tiksliai veikiančios organizacinės struktūros reikšmės išryškinimas organizacijos veiklos efektyvumui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Organizacinės struktūros svarbos formalių tikslų siekimui išryškinima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Organizacinė struktūra būtina ir galima bet kokioje organizacijoje, nepriklausomai nuo dydžio ir kompleksiškum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Išryškinta koordinavimo ir kontrolės svarba 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964-54CF-4AFA-BF3A-F61026EF3DA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i biurokratinio valdymo teorijos prielaid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rėžti biurokratijos samprat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statyti Max We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žvelgti jo nuopelnus vadybos mokslu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440-9C32-4968-9543-48A74CD3B7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onopolinių organizacijų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imo ir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aldymo proble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nės valdymo struktūros sureikšminimas Fayol ir Taylor darbu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Įmonių valdymo ir veiklos organizavimo efektyvumo proble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DC5-74F8-44D5-B78E-B24F9F36F7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Biurokratijos esmė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2120" y="2296800"/>
            <a:ext cx="749160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Tradicinė samprata. Biurokratija – valdymas, panaudojant biurų sistemą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Weber samprata. Biurokratija – valdymas, organizuojant grupinę veiklą, šią veiklą griežtai reglamentuojant taisyklėmis, standartais, instrukcijomi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872-9D9D-4645-B80A-771243ABFB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Biurokratijos esmė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raudonoji linija”, pagrįsta daugybe neefektyvaus popierinio darbo ir nelanksčių taisyklių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valstybinis aparatas”, susijęs su vietinės ar centrinės valdžios institucijomi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organizacinė forma”, pagrįsta dominuojančiais elementais – valdžios hierarchija ir taisyklių sistem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086-40B7-4F81-8FDD-48B04FFBF9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Max Web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864 – 192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nas 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š vadybos teorijos pionieri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okiečių sociolo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kademik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os valdymo struktūrizavimas ir valdžios racionalizavi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105A-C7D5-4D99-B742-69E0A5BD54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3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Valdžia / Gal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al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smens gebėjimai kitą žmogų </a:t>
            </a: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priverst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 elgtis tam tikru būd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aldž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 galia, įteisinta tam tikrais įstatymais ir suteikianti teisę </a:t>
            </a: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priversti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kitus žmones elgtis tam tikru būd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22C-4AF8-4ECC-BF8D-0E7147177F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Galios for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SILYGINI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BAUDI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KSPERTIN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ATRAUKLU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0CE-CDB5-4ED4-87D9-D26849D571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244440"/>
            <a:ext cx="7648560" cy="130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ldžios for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31640" y="1915920"/>
            <a:ext cx="749124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radic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 sąlygota tradicijų ir įsitikinimų (monarchija ir pan.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Charizmat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, sąlygota pagarbos ir pasitikėjimo asmenybe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Racionali – teis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, suteikta pareigybės ir apibrėžta taisyklėmis ir procedūrom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C5F-80C1-4CAE-B00C-E4C608DBD4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44Z</dcterms:modified>
  <cp:revision>38</cp:revision>
  <dc:subject/>
  <dc:title>Introduction to Management</dc:title>
</cp:coreProperties>
</file>