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6D6-362F-4CB9-B120-347FAEFD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EF3-1C0B-4CD3-8FC2-E722C8E7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9C7-51F4-4400-9CE7-216CC558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3F1-0C4D-40C4-8218-C3388A6C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34DF0-B859-41C7-8FFC-F6C56319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9A2C1-4C69-4468-81B3-656EE6D1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03B5F-DC05-40FA-919F-348F390E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B1C4B-C9E8-46CB-8DF9-64F1E9D4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E217B-9B9F-4454-A222-E94DC44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7C18A-0646-4EAB-98A5-06EE0A04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88649-4EC3-4EBA-9E3B-1C033E3A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45E-5767-4000-99E0-9234EB1F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49041-A924-4B61-860D-F0985D80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804EC-E1DF-456F-B15B-C83112F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A2BC4-AC82-45BD-B969-9DC1637C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394A3-CB43-43B3-AB11-6A6D648D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43036-578E-473C-9BBC-A99822A1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68D-C807-4342-8653-321D5E83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081-B32A-4064-985C-775182B8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C00-CE5F-47D7-95F8-AF3AE137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899-9D12-4857-98E6-7E325638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BB4-FE57-42D4-A4EF-2964F15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915-071E-4BA7-83F1-FBFDF775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46D-8DB7-4758-A95D-34EA2D3C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7242-558E-40B6-AA3B-2A3BED572D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95C7-4745-4A96-8D8E-6EA1750FF3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dybos mokslas Lietuvoje: </a:t>
            </a:r>
            <a:br>
              <a:rPr sz="4400"/>
            </a:b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. Graičiūno indėlis į klasikinės organizacijos teorijos raid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C39C0-D415-42F4-ACA5-16B192FABDD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bjektas – organizacijos vidiniai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valdymo procesą, vadovo darbo turinį ir “valdomumo normą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vidinių ryšių klasifikavi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individualū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a) – tarp vadovo ir pavaldinio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grupin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b) – tarp vadovo ir dviejų ar daugiau pavaldini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Kryžminiai ryš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c) – pavaldinių tarpusavio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431-512A-434A-BA41-E84E73191A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ldomumo nor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Jei pavaldinių skaičius – n, o visų galimų ryšių skaičius – f, ta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n (n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a + b +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+ (n – 1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dovas produktyviai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ali valdy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tiesioginių individualių ryšių (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tiesiogi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 grupinių ryšių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ptimalus pavaldinių skaiči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251-67D8-4315-9A65-0CCBC5E312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reikšm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rganizacijos grupini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ų ir kryžminių ryšių reikšmės organizacijos valdymui išryškinim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agrindai organizacijos ryšiams apskaičiuo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rincipai valdomumo normai nustaty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atematinių skaičiavimų taikymas valdymo ryšiams analizuot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Labiausiai cituotas nacionalinis vadybos darb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69m. 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Niujorke išleistas pakartotinai “Pakartotinos ekonomikos klasikų publikacijo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78D-7500-4F9C-910E-814B5F303E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kslin</a:t>
            </a: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ė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8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steigė Mokslinės vadybos draugij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Tikslas: “tyrinėjimais, diskusijomis, spauda ir kitomis tinkamomis priemonėmis kelti lietuvių ūkinį pajėgumą ir ekonominę gerovę, praktiškai taikant vadybos dėsniu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E2D-9E31-4BE5-93B6-524D061BB2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Mokslinės vadybos draugijos veik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ybos dėsnių pripažinimas ir propagavi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Nariai: kariškiai, inžinieriai, ekonomist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ai spaudo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ktualių vadybos temų pristatymas. Vien pirmaisiais veiklos metais aptar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 temų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Organizacijos prada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ąlygos mokslinei vadybai įvest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Ganto grafikų pritaikyma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Asmeninio darbo organizacij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Funkcinė sistema organizacijoj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katinimo problema organizacijoje ir k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Uždary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0 met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18C-28FB-4B75-9CDF-AB47FAB904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40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34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0 - 1941m. Techninio skyriaus vir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ininkas Vietinės pramonės 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udies komis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m. Pra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ės skyriaus vedėjas Liaudies komisarų Taryboje, Tyrimų skyriaus viršininkas “Lietstatprojek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 – 1948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Ėjo 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ento pareigas VDU statyb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8 – 1951m., atleistas is universiteto, Dirbo “Kotono”, “Silvos” fabriku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1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trem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2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usižudė lageryje Olžease (Kamerovo) srityj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4BE-1A5C-4467-8F94-D6F548824F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. Graičiūno nuopelnai vadybos moks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29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pavaldinių veiklos koordinavimą, analizuojant organizacijos vidinius ryši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ovatoriškas požiūris į matematinių modelių taikymą valdy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omumo normos” nustatymo metodinių principų apibrėž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aujų vadybos mokslo teorijų ir idėjų propagavimas Lietuvo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o metodų taikymas praktikoje Lietuvos ūky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Graičiūno veikla Lietuvoje žinoma tik nu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8m.,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spausdinus jo straipsnį lietuvišk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792-290E-4ED3-817B-5C80AA9E24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2251080"/>
            <a:ext cx="808344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klasikinės organizacijos (administravimo) teorijos plėtrą Lietu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Vytautą Graičiūn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o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558-BE47-4D77-A65C-A2CC3C4AEA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irmasis pasaulinis darbo mokslinio organizavimo kongresas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, Prah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is iš Lietuvos – Lietuvos universiteto profesorius J. Šimk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Darbo organizacija”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bjektas - pagrindinės F. Taylor ir jo pasekėjų teorijos tezė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33E-6994-4020-B20F-9889689ECA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P. Raulinaiti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Administracijos principai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2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. Fayol 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teorinės tezės iš veikalo “Bendrasis ir pramoninis valdymas”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1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Darbo organizacijos matmenys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30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. Taylor teorijos pagrindai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, jų pristatymas, polemika, kritik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FF2-132B-47FA-ACB6-FDEF2583E7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. Nacevič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Teilorizmas ir fajolizmas žemės ūkyje arba žemės ūkio darbams racionalizuoti etiudas”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3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klasikini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ganizacijos vadybos princip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ikymas žemės ūky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. Galvanausk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Darbas administracinėse įstaigose”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4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tarnautojų parinkimo, priėmimo, darbo organizavimo klausim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281-C103-424B-B621-F2E629FB95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077320" cy="1239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ytautas Andrius Grai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čiū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 – 1952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imė Čikagoje, lietuvio gydytojo šeimo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4 – 1917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universitete, Administracijos ir komercij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7 – 1919 tarnavo JAV karo aviacij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0 – 1923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technologijos institute ir įgijo bakalauro diplom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3 – 1925 dirb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dybos patarėju keliose Čikagos ir Niujorko kompanij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C13-F332-4667-A070-D8EB3CF08B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veikla Lietuv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6m. Atvyko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 Lietuvą ir dirbo “Metalo” fabriko technikos vedė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andė organizuoti fabriko bazėje įkurti “Ford” koncerno automobilių surinkimo įmon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egavęs paramos savo idėjoms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7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Išvyko iš Lietuvos į Vakarų Europ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206-407B-4E61-A369-7C6B33B564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ir mokslinė veikla Europ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irbo analitiku, konsultantu įvairiose kompanijose Vokietijoje, Olandijoje, Prancūzijoje, Šveicar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nalizavo ir sprendė įmonių ekonomines ir organizacines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avo ketvirtame tarptautiniame Vadybos kongrese Paryžiu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Organizacijos vidiniai ryšiai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07B-BB0B-4407-8E23-C8603FEDB0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rengtas artimai bendradarbiaujant su L. Urwick, Tarptautinio valdymo instituto Ženevoje direktoriu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3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traipsnis išspausdintas Ženevos TVI biuletenyje, anglų kalba “Relationship in organiza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7m. Straipsnis 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usdintas specialiame straips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inkinyje “Administracijos mokslo ap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ga”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Niujorka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inkinyje žymių to meto mokslininkų darbai:  A. Fayol, E. Mayo ir 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462-E567-4E69-9BBC-52C6403A02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02Z</dcterms:modified>
  <cp:revision>35</cp:revision>
  <dc:subject/>
  <dc:title>Introduction to Management</dc:title>
</cp:coreProperties>
</file>