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BCA6C-EFD3-4ED7-8CA9-7F97F0D2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28BA-5346-45B2-ABDD-7B11CCA6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4325-8927-46C3-80FA-BC737965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78920-EF9F-421B-A02F-1EA9C2A0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D8A7-22BE-4043-8829-C4B8CB50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44F7-E0C7-459A-890D-13BC1BEA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2AA1-E5A3-44B2-B5EE-B495DD59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A5CC-0F04-4927-9060-4AEF22FE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84E1-1564-4782-AC38-9F29580E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08D9-E185-428B-B4AF-5CC2DC78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DAFC-7698-46FC-AAFE-FA3D44CC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AA6A5-C98E-4CED-A5D4-C273618C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E3F6-491B-44C3-A899-35935E30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D8E3-3456-441E-90F6-4DC92EEB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DD94-26BC-4EF6-A2FA-C0234C7C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2E13-A8C2-4B1C-ABC5-62BF7E6F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D75B-D0DA-4CBC-992B-9051F1D2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0FDD3-9525-4D5E-AD69-9A35AAC6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16C97-8990-44F7-883F-4F9E6852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1E05-A9B7-400E-AC03-C53AFACC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28981-7B3C-4A8D-A053-275826E1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CA725-9FE6-448B-A8AE-6FA6122A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659CC-851C-49F8-946E-7BAB6B6E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8F06A-CD05-4BF7-B25C-831FF85C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486E-D7B9-4CE8-87E6-22EED0E178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C8B3-AA56-444E-B045-E32C439CE6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dfdef6"/>
                </a:solidFill>
                <a:latin typeface="Arial"/>
              </a:rPr>
              <a:t>Klasikinės organizacijos teorijos mokykla: H. Fayol vadybos principai 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69C4-E0A5-4AFB-AE6B-7BFF3448E80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Valdymas – bendrųjų valdymo funkcijų cikla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Numaty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Organiz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omand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Der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ontrol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6A69D-0838-42E9-B9C2-0A5D4AC5AC1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Fayol principų vertinima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9152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Fayol išryškino organizacijos formaliosios, centralizuotos ir biurokratinės struktūros požymi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škelta darbuotojų ir įmonės interesų derinimo bei valstybės vaidmens svar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ugriovė mechanistinės organizacijos suvokimą – žmogus tampa svarbia organizacijos dalimi su savo poreikiais ir būtinybe gerai jaustis organizacijo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irmasis suformulavo originalius, nuosekliai išdėstytus organizacijos valdymo principus, kurių dauguma tinka ir šiuolaikinėms organizacij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58C0E-3C73-4915-9395-5CD08B7E95E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Chester Bernar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886-19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ompanijos Bell preziden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Tyrimų objektas – organizacijos ir individualių tikslų suderinamum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Organizacijos priklausomybės nuo asmeninių ir neformalių grupių sieki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60C8-E4A6-4E79-BC1C-4751687AE69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Abejingumo zon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aldžios deleg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Kuo daugiau veiklų pakliūva į abejingumo zoną, tuo tolygesnė ir vieningesnė organiza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adovų užduotis – ugdyti darbuotojų moralinius tiks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uotojas – pagrindinis organizacijos strateginis veiksn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rganizacija – kooperatyvi grupėmis dirbančių individų for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DB362-12AB-43AE-99BF-5C69147EF0C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L. Gulic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ffffff"/>
                </a:solidFill>
                <a:latin typeface="Arial"/>
              </a:rPr>
              <a:t>POSDCORB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lanavimas (plann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rganizavimas (organiz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ersonalo formavimas (staff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dovavimas (direc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ordinavimas (coordin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kaitomybė (Repor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Biudžeto sudarymas (budge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B231D-F1CA-472C-BEC4-4BBF5651EA6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Lyndall F. Urwic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The Elemts of Administrat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947m.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soliduoti valdymo principa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ks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iza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ordina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d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ž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tsakomyb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Pareigybės apibrėžtu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Delegavi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Kontrol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Balan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Tęstinu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44E6B-F977-445E-8520-8B475618FB0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E.F.L.Brec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ldymas – socialinis proces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įmonės operacijoms reguliuo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rganizacinė struktūra – esminis formalusis veiksn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ldymo, priežiūros ir specialistų personalo atsakomybės nustaty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akomybės delegavimo apibrėž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akomybės paskirstymo koordin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ukštos moralės palaiky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8EE4-1C16-4282-9D55-475B63A49F8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L. Gulick, L.F. Urwick, E.F.L.Brech nuopeln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truktūros – formaliosios organizacijos dalies svarbos akcent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akomybės ir kontrolės paskirstymo tarp pavaldinių principo sureikšm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areigų, teisių ir atsakomybės delegavimo kategorijų suformul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truktūros formavimo principų apibrėž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BD716-91EA-4179-AB79-74E74BE2809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1720" y="1981080"/>
            <a:ext cx="8080560" cy="41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pibūdinti klasikinės organizacijos (administravimo) teorijos atsiradimo priela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Pristatyti Henri Fay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pžvelgti jo nuopelnus vadybos mokslu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pžvelgti kitus autor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Įvertinti klasikinės organizacijos teorijos privalumus ir trūku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AB57D-4B74-4059-AD82-008D3D10E08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fdef6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dustrinė revoliu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parti verslo plė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ujų rinkų atsiradimas ir plėtra         (ypač JA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erslo infrastruktūros plėtra (keliai, geležinkeliai, ryšiai – telegraf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ujų technologijų plė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59E72-2479-4F84-808A-7305B8DFCC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ės organizacijos (administravimo) teorijų mokykl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siformavo JAV ir Europoj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Iniciatoriai – mokslininkai ir organizacijų vadova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Objektas – organizacijos, kaip visumos, veikla ir jos valdy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D512B-516B-4794-9316-AD9A8AA7BB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ės organizacijos (administravimo) teorij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dministravimo teo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Henri Fay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841 - 19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n</a:t>
            </a: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cūzų inžinierius – kompanijos vadova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0m. patir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Administration industrelle et generale”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16m. (General and Industrial Management 1949m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 </a:t>
            </a: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organizacijos valdymo princip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00F54-0D25-4366-B172-ADBB3C807D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Valdymo princip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Darbo pasidalij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 Valdž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Drausm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omandų vienovė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rypties vienovė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 Individualių tikslų pajungimas bendrai gerove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tlygin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09E54-E99F-4155-AE72-EF70250980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Valdymo princip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. Centralizaci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erarchi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. Tvark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1. Teisingumas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. Personalo stabilumas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iciatyva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4. Esprit de Corps (kolektyvo dvasia)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7F2B2-183E-43A7-A90D-44B10CB6BE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ayol nuopeln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tskyrė kategorijas “valdymo veiklos - sritys” ir “valdymo (administravimo) funkcijos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Tyrinėjo organizaciją kaip visum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Išryškino vadovų kvalifikacijos svarbą ir paneigė teiginį, kad vadovais gimstama, o ne tamp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Išryškino organizacijos struktūravimo svarb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775A0-93D2-4278-ACA7-038F2ECE637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Įmonės valdymo srity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Techninė ir technolog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omerc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Finans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psaug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Buhalter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Valdymas - administr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23272-D892-4C38-9874-F166C1141CE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2:42Z</dcterms:modified>
  <cp:revision>30</cp:revision>
  <dc:subject/>
  <dc:title>Introduction to Management</dc:title>
</cp:coreProperties>
</file>