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9368-A944-47CC-953A-0FB78B165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2B0-9D0C-43D9-B1DB-0D29CC44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5B5-93A5-4215-BAAE-DF5851F6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1E9F-53C0-4CF0-9781-72AB5083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9014-1F2E-43A5-9C30-2C8966C6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0039-AA05-4761-8F1D-91CCF2A7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12EC-C944-4EC3-BB49-A1F258E8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7685-55A1-440A-91A2-BA13042D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8EFF-A3E5-4EA0-9E0F-4126C510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6ACC-3A62-4B26-90F4-3FCB9DF4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3424-3FCF-4889-BC2D-48559408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3FEE-E5E9-4C0A-90CE-55DF7FC9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9D86-EA22-432C-AE6E-438A16C7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3A3E-7EAD-43EC-BDAD-66CA489C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E321-5FF7-4C4E-B4E7-62C2D4AF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5FF0-B9D4-423C-9848-B92972E2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76FD-D72D-4847-8583-CD6F3746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F4A1-B48B-4375-97E4-631270BD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74E9D-CB77-470A-8DCA-CFB95828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3BD79-8396-473F-8F67-46E341D6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1A2EB-2FCA-44F9-957E-81B580B7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1B6A1-5BAE-4532-A717-B351D279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12AA7-D22E-4D27-871F-C710E7DF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6B0F-34DB-4628-90DE-40BD73CE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FB24E-5974-4036-A885-7FC46075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F4C2B-7B50-45F2-A1A3-7FEC9C14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0430B-6490-46F6-AEAB-4C97C5B7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6F187-D56F-4FDC-91BA-286B838E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A1548-5764-4EBD-BB3F-08B19413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B8577-BFF9-497B-8F9A-2EA6FA93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06BA2-DD73-4627-8104-0FA8D9AB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925EC-9C74-45BA-BA63-F654EA9E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5508C-DB25-452C-8C3E-C05E1998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25FF9-A361-4B09-B6B0-A8CE8DFC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80DE-F85F-4B64-A533-A9DB42B6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214CB-EA27-4AD8-B67C-495BCE48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9EE13-C6DD-4700-9B4D-0E0C8A60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EEA3E-9D22-4A85-9B8B-2ABBC128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FE949-089D-4DBC-8B7A-07FCA7ED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738ED-13B0-4501-AED6-900B0134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96D84-DC2F-4A6C-8414-0978C12F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1EF51-ECCC-40A3-82F5-B810EBB4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BE684-6C4A-4246-9F78-EA365BAC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A6E3D-123A-48B9-8C21-37DBC620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56A-164B-4623-A5D8-7A7F0541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9DC3-43E8-453F-97EE-D1BEA9F1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566-A2CF-408E-9F35-48C566C2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E28-831E-435B-B974-BC4369DF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577-A740-4EF8-AB4C-A20A6B23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885F-DC96-4A09-A797-24308C4E3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57D6-59DD-4AB4-89D1-C7C0871EB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67D2-E2A8-4730-8F50-0C54207975C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796B-0FF0-42DF-B99A-6F0AB442498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okslinio valdymo teorijos raida ir reikšmė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01E9-A87A-4D9B-BBD2-F3D34597ED0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atavimo technik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herblig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Judesių analizės standartizavimas: simbolis, operacija, spal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peracijos: tyrimas, suradimas, suvokimas, apibūdinimas, inspekt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idutiniška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žingsnių, lydimų simbolių ir spalvų, operacij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E6D-87D6-4421-AFDC-9F27815CD1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atavimo technik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roceso dia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tandartizuota proceso operacijų fiksavimo metod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rocesų analizės simbolių sistema: Gamyba, Transportavimas, Inspektavimas, Prastovos ir Sandėliav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7E47-E5CF-4E3C-87AC-F524785F6F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Henry L. Gant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1861-1919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Taylor bendražyg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Pramonės įmonių konsulta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Tyrimo objektas – darbininkų skatinimo sist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Naujovė – užduoties – premijos atlygio sist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BF54-81F2-4A35-BE52-FE8150A745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Užduoties – premijos atlygio sistem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irminė motyvacija – darbininko skatinimas, įvykdžius užduot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ieniem įvykdžius, stengiasi ir ki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ntrinė motyvacija – dvigubas brigadininko skatinimas, įvykdžius užduotį kiekvienam ir visiems darbinink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ininkų darbo našumas priklauso nuo vadovų veik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4AB1-132E-4D06-81AB-0DBC881DFF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Veiklos optimizavimas, skatina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7920" cy="40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05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Skirtingai nei pirmtakai, sureikšmino darbininkų iniciatyvą ir atsakomybę, atlyginant už tai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Išryškino vadovų vaidmenį darbininkų veiklos efektyvumui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Darbininkų veiklos rezultatų viešinimas – svarbi motyvacinė priemonė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697B-5D66-442B-8E2C-798038A33C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Ganto diagram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laiko grafinis planav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rezultatų grafinis vaizd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Įrengimų ir medžiagų panaudojimo laike vaizd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amybos rezultatų kontrol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amybos kalendorinio planavimo ištak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3F0B-087D-453B-9B72-1F6DF598843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7400" y="328680"/>
            <a:ext cx="8685720" cy="5905800"/>
            <a:chOff x="77400" y="328680"/>
            <a:chExt cx="8685720" cy="5905800"/>
          </a:xfrm>
        </p:grpSpPr>
        <p:sp>
          <p:nvSpPr>
            <p:cNvPr id="210" name=""/>
            <p:cNvSpPr/>
            <p:nvPr/>
          </p:nvSpPr>
          <p:spPr>
            <a:xfrm>
              <a:off x="228600" y="1066680"/>
              <a:ext cx="8534520" cy="3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8000" y="1066680"/>
              <a:ext cx="110196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Activ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14080" y="1066680"/>
              <a:ext cx="94500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Mon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080" y="1878120"/>
              <a:ext cx="2824200" cy="34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Edit Manuscri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Design Sample Pag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Draw Art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Print Galley Proof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Print Page Proof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Design Co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812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9568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4360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9152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81280" y="1533600"/>
              <a:ext cx="38124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48720" y="1533600"/>
              <a:ext cx="38088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23760" y="1508040"/>
              <a:ext cx="32328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91200" y="1488960"/>
              <a:ext cx="32328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29200" y="1533600"/>
              <a:ext cx="38088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00800" y="1533600"/>
              <a:ext cx="38088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1922400"/>
              <a:ext cx="137160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90760" y="1508040"/>
              <a:ext cx="32328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48120" y="2000160"/>
              <a:ext cx="129528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9880" y="2544840"/>
              <a:ext cx="20574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09880" y="2584440"/>
              <a:ext cx="194328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9880" y="3168720"/>
              <a:ext cx="152424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09880" y="3206880"/>
              <a:ext cx="14400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95680" y="3713040"/>
              <a:ext cx="281952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95680" y="3751200"/>
              <a:ext cx="266220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3600" y="5035680"/>
              <a:ext cx="20574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3600" y="5075280"/>
              <a:ext cx="194328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91520" y="4413240"/>
              <a:ext cx="13716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1440" y="5557680"/>
              <a:ext cx="18198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Arial"/>
                </a:rPr>
                <a:t>Reporting D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45360" y="5430960"/>
              <a:ext cx="216000" cy="142920"/>
            </a:xfrm>
            <a:prstGeom prst="triangle">
              <a:avLst>
                <a:gd name="adj" fmla="val 49977"/>
              </a:avLst>
            </a:prstGeom>
            <a:solidFill>
              <a:srgbClr val="ffffff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98040" y="5535720"/>
              <a:ext cx="2133720" cy="69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Actual Progre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Go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09680" y="5891040"/>
              <a:ext cx="22860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9680" y="5580000"/>
              <a:ext cx="22860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400" y="328680"/>
              <a:ext cx="5959080" cy="75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66"/>
                  </a:solidFill>
                  <a:latin typeface="Arial"/>
                </a:rPr>
                <a:t>A Sample Gantt Char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09480" y="6248520"/>
            <a:ext cx="1981440" cy="457200"/>
            <a:chOff x="609480" y="6248520"/>
            <a:chExt cx="1981440" cy="457200"/>
          </a:xfrm>
        </p:grpSpPr>
        <p:sp>
          <p:nvSpPr>
            <p:cNvPr id="24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609480" y="6248520"/>
              <a:ext cx="1350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41D38-A51E-403D-AC82-E9EE03511982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Henry Emers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vylika našumo principų “The twelve principles of Efficiency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kslinio valdymo teorijos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nuostatų sistematizavimas ir kompleksiškas pateik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290-D2DC-4E03-8405-1EC03FA637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7e7ff"/>
                </a:solidFill>
                <a:latin typeface="Arial"/>
              </a:rPr>
              <a:t>Dvylika našumo principų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dealiai ir preciziškai suformuluoti tikslai – racionalaus veiklos valdymo pagrin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rganizacinių sprendimų pagrįstumas ir optimalu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ptimalus gerų ir techniškai tobulų įrengimų naudojimas – našumo pagrin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Naujausių pasiekimų ir žinių naudojimas visose organizacijos valdymo srity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Darbo drausm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BB4C-3FB8-45C9-A7BD-AED3EE4E5C4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7e7ff"/>
                </a:solidFill>
                <a:latin typeface="Arial"/>
              </a:rPr>
              <a:t>Dvylika našumo princip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atlikimo standartiz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norm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Darbininkų kvalifikacinis atitikimas ir teisingas žmonių parink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9. Darbo saugu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eisingas atlygis už darb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rezultatų apskaita ir įvert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dispečerizavimas – kontrolė ir koordin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31D9-02E0-49BE-8393-FA2876BD9A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1720" y="1977840"/>
            <a:ext cx="8080560" cy="43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žvelgti mokslinio valdymo teorijos autor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skirtumus tarp skirtingų autorių teorinių apibendrinim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Nustatyti pagrindines mokslinio valdymo teorijos vystymosi tendencij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mokslinio valdymo teorijos privalumus ir trūku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mokslinio valdymo mokyklos indėlį vadybos moksl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BCB-15D6-4C24-A441-3571C98552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Henry Ford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irio imigranto sūnu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63 – 194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03m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Įkūrė kompaniją “Ford Motor Compan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08m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Sukonstruotas pirmasis T model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5945-F97F-4DF4-83A4-7E9EB42FBA7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7e7ff"/>
                </a:solidFill>
                <a:latin typeface="Arial"/>
              </a:rPr>
              <a:t>Automobilis visie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vajonė – sukurti automobilį prieinamą daugeli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Būdas – didelės gamybos apimtys ir žema ka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Gamybos pajėgų efektyvus panaudoj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mechanizavimas ir skaidymas į atskiras užduo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ininkų specializ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DC0C-3A5F-4355-8506-B7675098BD6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896 Sukonstruoja savo pirmąjį automobilį Kvadraciklą ir važinėjasi juo po Detroito gat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899 Vedantysis inžinierius – konstruktorius ir vienas iš savininkų naujai įkurtoje Detroito automobilių kompanijoje. Kompanija pagamino tik keletą automobili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901 Bandoma organizuoti Henry Ford Company, bet neišėjus susitarti su galimais investuotojais kompanija neįkuri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4038840" cy="27640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403236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2E9-BAE4-430A-86A7-EB0DCFBF73B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1903 Oficialiai įkuriama Ford Motor Company. Pirmasis Fordo modelis A pateikiamas pirkėjams Detro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1908 Fordas pradeda gaminti savo įžymųjį  modelį 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1910 Pradeda veikti Highland Park gamykla Michigano valstij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435640" y="333360"/>
            <a:ext cx="310176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D72-AE14-4D63-A62A-3179BD4AFAA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Gamybos mechanizavima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ybos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rganizavimas linijos – konvejerio princip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irmoji modernaus konvejerio dalis – magneto vijos surinkim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913m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nksčiau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darbininkas gamindav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-40vnt. per darbo dien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Konvejeris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9 operacij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inkimo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laikas sutrumpėjo nu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0 iki 13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vejerio pritaikymas visoms operacij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BBB-8551-4D18-8DA2-FC9BBEFE7C0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7e7ff"/>
                </a:solidFill>
                <a:latin typeface="Arial"/>
              </a:rPr>
              <a:t>Modelis 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irmasis modelis p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,5 v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20m. Automobilis kas 1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25m. T modelis kas 5 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3 min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utomobiliui surink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ina 780 USD – 1910-11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50 USD – 1914-15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0 USD – 1918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30 041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už šią kainą parduoti automobil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4D2-3563-41F4-B178-69BA24B7E45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1926 sukuriamas trimotoris lėktuv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1927 Baigiamas gaminti modelis T ir atnaujinus konvejerinę liniją  pradedamas gaminti naujas modelis 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809880" cy="3029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788000" y="3860640"/>
            <a:ext cx="3887640" cy="25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892-DF67-4247-AA11-A8319944212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5280" y="333360"/>
            <a:ext cx="856944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1932 sukuriamas pirmasis automobilis su V-8 varikli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1933 sėkmingai numalšinamas streikas kurį organizavo visuotinė automobilių gamintojų darbininkų profsąjun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619280" y="2997360"/>
            <a:ext cx="5267160" cy="357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AD6E-EF65-412F-AC1D-4647EA1B8588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asinės gamybos stebukla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Masinė gamyba eina masinio vartojimo priekyje ir įgalina, sumažinus kainas, gaminti patogesnius dalykus prieinamesnėmis kainomi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H. For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C560-516B-48E2-B77A-639EFF23664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okslinio valdymo mokyklos nuopelna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Racionalus požiūris į darbo organizavimą, tiksliai įvertinant užduotis ir proces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užduočių matavimo informacija įgalino tobulinti darbo metodus, veiklos planavim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metodų tobulinimas leido didinti darbo našumą ir produktyvum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apmokėjimas susietas su darbo rezultata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D788-7992-4ED2-A02A-FEE2BA8738C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b7e7ff"/>
                </a:solidFill>
                <a:latin typeface="Arial"/>
              </a:rPr>
              <a:t>Mokslinio valdymo mokykla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7840" y="1774440"/>
            <a:ext cx="8227800" cy="431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usiformavo JA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iciatoriai – mokslininkai ir organizacijų vadov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bjektas – darbo organizavimas ir darbininkų veiklos produktyvumo did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259-EA80-4366-88F9-735F26580C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okslinio valdymo mokyklos nuopelna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dovų (žem. Lygmens) sureikšminimas ir motyvav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Motyvavimas taip pat buvo nukreiptas į fizinių darbo sąlygų pagerinimą darbininka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adėjo pamatus moderniems darbo proceso analizės metodams ir kiekybinėms valdymo technik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F1DD-9AC1-43E0-9798-A03E438D3B5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okslinio valdymo mokyklos trūkuma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arbininko vaidmens sumažinimas iki primityvaus, rutininio simplifikuotų operacijų atlik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Sąlygojo darbo fragmentaciją ir pilno proceso suvokimo praradim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arbininkų motyvacija tapo siaurai piniginė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arbo proceso ir vietos planavimas tapo išimtinai vadovų užduotim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rarastas darbo užmokesčio realus vertinimas, nes tapo “moksliškai” apskaičiuotas, priklausomai nuo įkainių ir laik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9AB-0BF3-4799-8CE2-904767DA9EA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b7e7ff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amybos įmonių aug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organizavimo efektyvumo proble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šumo ir produktyvumo proble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valifikuotos darbo jėgos trūk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ininkų motyvavimo klausim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organizavimo mokslinių metodų nebu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D03-5038-43D8-A1C0-61EB5C5F19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okslinio valdymo mokyklos atstova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6400" y="1844280"/>
            <a:ext cx="8229600" cy="400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ederick W. Tay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an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Lillian Gilbre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Gan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Em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C5B4-26C2-4004-8B1E-9B49FB6D6B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Frank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&amp; </a:t>
            </a: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Lillian Gilbreth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ank B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841-192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organizavimo tyrinėtoj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llian M. (1878-197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dymo ir psichologijos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pecialist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Tyrimo objektas – darbininkų nuovargis ir judesi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Žmonių darbo sąlygų gerinimas ir judesių optimiz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A7E-EB94-41BD-A6F9-6D7C2E89DE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Judesių optimizavim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Mūrininko darbo efektyvini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Judesių sumažinimas nu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 iki 4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ienai plytai padė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efektyvumo padidinimas nu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0 iki 2700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lytų per darbo dien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ininko darbo tempas išliko toks p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751-7769-48E1-8F87-CAF4E5B180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Principas: One best wa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Kuo mažiau judesių tuo mažiau pavargstama – tuo daugiau padaro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Judesių tyrimas ir laiko matavi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Geriausių atlikimo būdų nustaty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1CE-C4EF-418B-A714-A087DF5BCF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Planavimas / Vykdym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Taisyklių ir procedūrų nustatymas veiklos atlikimo efektyviausiu bū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šumo didin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užmokesčio aug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lanavimo ir vykdymo veiklų atskyr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1E69-427C-4DF7-BE05-AC5B4DA775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17Z</dcterms:modified>
  <cp:revision>26</cp:revision>
  <dc:subject/>
  <dc:title>Introduction to Management</dc:title>
</cp:coreProperties>
</file>