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19D-D0A6-45FE-A65D-96E35C9E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FBF-0562-490B-BDE2-218639CC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845-A1B7-462B-8E69-B1E7D538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D75-DC7D-4FEB-8AAB-3F2E7D69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2397-D44A-4C5E-BAFC-26634EEC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709C-3C0B-42B2-A0FB-0D092A51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B2B4-93E1-4155-B098-CA0AD059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BEC9-14EC-487F-91EC-EDBAF284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5520-40A9-4B17-BBBF-3840DA32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AD96-D8CD-437B-9FFC-1C3C890F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01CA-8372-4A80-BC9B-4015830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21A-F5E4-4696-971E-B04CFC58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ABEA-7203-44F6-9A4F-8B0A1D46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A79A-7B3C-4FDB-8F08-84D4B3B2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F1E9-824C-425B-9762-37282F6D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15F3-5127-4A26-A69E-05594BD3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53FE-4761-4B5D-B131-EEC4FFD3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90B-1EBB-469B-8F81-199AB46F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297-7DC9-47A5-87E0-9A81926A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005-E7A0-4D27-BC6B-3509C993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89F-F89A-40C7-BB51-DE1D3F62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66B-FBAC-47D9-8002-43A1E685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EAC-4A83-4292-A3A2-A15AF65F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78B-FD35-4C73-82C9-349BA67B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E7DA-CB33-4C03-999F-209321BD08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92B5-7F34-44AF-9405-7963237227F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Mokslinio valdymo mokykla: F. Taylor vadybos principai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7139-63E1-4E03-8BC3-425E16FD8EF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Funkcinio valdymo ištak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793116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ybinio darbo pasidali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ienas tiesioginis vadov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Aštuoni funkciniai vadova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administracijos (operacijų maršrutizavimo, planavimo, apskaitos – ekonomikos, normuotojas, gamybinės drausmės prižiūrėtoj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gamybos cecho (brigadininkas, darbų tempo, įrengimų remonto, inspektoriu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C14-8E3B-4BFA-BB50-7058CCAA24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Mokslinio valdymo mokykl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ai darbo užduočių atlikimo metodai -konvejerinės gamybos linijos pirmtak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iferencinė darbo užmokesčio sistema – darbininkų motyvavimo metodai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69B-A276-4E9D-ABBB-DE28BAEDFA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Darbo užduočių suskaidymas į operacijas – linijos prielaid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Darbininkų judesių analizė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Užduočių atlikimo laiko matavima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Greičiausių ir geriausių darbo operacijų atlikimo metodų projektav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Optimalus turimų įrengimų ir medžiagų panaudoj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lanavimo reikšmės išryškin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111-1655-4573-9450-37A1EE3D49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Diferencinė darbo užmokesčio sistem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iau mokėti geriau dirbanti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aikyti “moksliškai pakoreguotą” darbo užmokesčio būd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istemos nauda kompanijai ir darbinink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Bazinis atlyginimas už atliktą darbo norm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apildomas užmokestis – priedai efektyviau dirbantiems už viršytas nor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776-CBC4-4D87-B1F0-123D8AF49D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Darbininkų baimė būti dar labiau išnaudojamiems – dirbti sunkiau ir greiči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Per didelis dėmesys darbo atlikimo laiko mažinimui ir pelningumo didinim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Tyrimo objektas – gamybinė veikla ir gamybos rezultat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45D-4225-4CC9-85C3-9920DC39BC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Organizacija analizuojama kaip inžinerinis objektas – autonominių darinių jungin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Žmogus tik vykdytojas, privalantis tiksliai ir laiku atlikti darbo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ovo darbas nukreiptas tik darbininkų darbo organizavimui, kitos vadovo veiklos neanalizuoja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81E-C12D-4F78-9426-BA59B35360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mokslinio valdymo teorijos atsiradimo prielaid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į jos atstovą – F. Tay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F. Taylor vadybos princip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Įvertinti F. Taylor nuopelnus vadybos moksl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911-6CB2-4529-985D-89AF7F5E2D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b9efee"/>
                </a:solidFill>
                <a:latin typeface="Garamond"/>
              </a:rPr>
              <a:t>Mokslinio valdymo mokykla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279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E51-3816-4066-8024-50AF8EEB5E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130-3BBA-4BC8-97BC-5F2D9ADE1C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FREDERICK W. TAYLOR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Amerikiečių mokslinink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56 - 191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irmas bandymas kompleksiškai nagrinėti organizavimo klausim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erminas “Fabriko vadyba” – “Shop management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Mokslinės vadybos principai” (The Principles of Scientific Management”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C42-F3C8-456E-9D90-F4DCD5EC4E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Tikro vadybos mokslo sukūr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ptimalių darbo metodų sukūr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suskaidymas į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užduočių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likimo b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ustaty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atematinių skaičiavimų naudo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aš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C46-0D43-43CC-9111-454964CB45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arbininkų parinkimas moksliniais pagrinda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uotojų specializa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atitikimo darbo vietai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vietų racional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D69-7DF6-4AB5-AEF5-E631599F80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s darbininkų lavinimas ir tobulin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kymas darbo viet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o judesių optim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eisingas apmokėjimas už darb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orm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86A-CBD7-43BA-8EC2-682D04DA83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Glaudūs ir draugiški ryšiai tarp administracijos ir darbinink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isiška minties revoliucija” – bendras darbo našumo siek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otyvacinė darbo apmokėjimo sistema – už viršytas normas mokėti pried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72D-9504-4EC4-80F5-0CB9D8D5C2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56Z</dcterms:modified>
  <cp:revision>24</cp:revision>
  <dc:subject/>
  <dc:title>Introduction to Management</dc:title>
</cp:coreProperties>
</file>