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577F-1C2A-4660-A329-5623E513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83DF-BEFA-473B-93E6-48A8FAC1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C7F2-006B-4CA5-B444-A519A2C2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5881-144B-4D72-A655-9F01AEEB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AD02-1C6B-499E-839C-61054700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A7C2-9BB9-4FBE-9E8B-22EF09ED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3528-7ECC-42C1-BDB3-BE5B7D1C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2A8-C0A0-429B-961F-3AE5DEC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9940-EB11-4DC9-A4BA-B33CCBF5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A421-75F8-48E8-A2EB-3AF409B9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A1A3-4E7F-4F04-9F47-D531E8A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9ABB-14B3-4B31-81DD-56A6179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0E62-8617-4F8D-A162-9E76936A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D9EF-F8D3-4336-A59F-DF75ABA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CA25-5610-414A-9B40-B216AB2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D1D9-3B49-42B7-9F59-619ADF75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F813-3C2A-433D-9FC8-E93C8BD2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95E0-20FC-47E8-BE91-3F049DE0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386D-BF56-4A9F-93D9-BF989167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48E7-7EEC-4C5B-9A76-2118592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2878-AEFA-4D22-AF07-36A0E4C3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289A-7B63-41E3-A9A9-D12BF2D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2205-4F59-4647-B3AE-99A0EF3C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1BFC-CA76-4EAD-824B-62EE7B89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5881-2388-4024-A88E-F0FA3EE3FA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C3C2-64B3-476F-B140-1E63B418D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Klasikinės organizacijų valdymo teorijo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BB16-26F7-4CFF-9707-BA7C7C9C2C0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dėjos - pagrįstos patirti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atirtis apribota daugiausiai gamybinių organizacijų veik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patikrintos ir nepagrįstos priela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rielaidos pagrįstos vertybiniu vertinimu ir moralinėmis nuostatomis, bet ne moksliniais tyrim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formalių santykių organizacijose ne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Svarbu tik formalūs org. ryšiai, taigi darbuotojų dalyvavimas neanalizuoj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2A53-32C9-4DB2-A48C-85B11D9A2D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enumatytos ir neapibrėžtos pasekmė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s veiklos formalizavimo poveikis darbuotojų veiklos efektyvumui ir racional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Mašinistinė organ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Žmogus tik priedas prie mašinų (įrengim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tatinės sąly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 aplinkos sąlygų ka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5DA3-D19D-4845-B001-83941FD588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Objektyvi klasikinių vadybos teorijų kūrimo aplink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Darbininkai buvo mažai kvalifikuoti, karjeros samprata buvo nesuvoki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Pagrindiniai darbininkų poreikiai koncentravosi fiziologinių lygmeny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Technologijos keitėsi gana sparčiai ir efektyvus jų panaudojimas buvo svarbia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dybos teorinė mintis tik rutuliojosi, taigi autorių požiūris buvo nenuoseklus ir sia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DFC5-819C-4E0F-B503-F95F6472C5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prival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valdymą pažvelgta, kaip į mokslinių tyrimų objekt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ldymo veikla atskirta nuo darbinės veik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šryškinta valdymo veiklos įtaka organizacijos veiklos rezultatyv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Suformuluoti organizacijos ir darbinės veiklos valdymo princip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organizaciją pažvelgta, kaip sudėtingą, formalizuotą struktūr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EFCE-C71C-4679-863D-9B1A3DC50D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ūdinti klasikinių teorijų atsiradimo priela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es vadybos teorij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ių teorijų auto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Įvertinti klasikinių vadybos teorijų privalumus ir trūk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AB30-BB48-438D-B396-71C54B7CD1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39B9-E5C2-4170-A502-018A58177B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Valdymo metodų poreiki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Būtinybė naujų valdymo metodų,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integruojančių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technologijas, medžiagas ir darbo jėg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oreikis spręsti prekių ir paslaugų gamyb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produktyvumo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proble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iekis didinti organizacinės veikl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efektyvum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8A2D-46E5-490C-B9C0-23571B70CB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lasikinių vadybos teorijų vystymo krypt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okslinio valdymo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963F-A5F2-4C21-B9D2-3EFB1BD7BD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701360"/>
            <a:ext cx="7929720" cy="442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7488-BE70-41EF-B687-9B5324D48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9636-7115-4AB2-A635-06C64DF5D7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DC85-6DE3-4B9D-B328-9D36CEA40C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o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hester Bern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Gulic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Ur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dealaus biurokratinio valdy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E7B8-F3EC-4697-9612-254AFA18D8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7:27Z</dcterms:modified>
  <cp:revision>22</cp:revision>
  <dc:subject/>
  <dc:title>Introduction to Management</dc:title>
</cp:coreProperties>
</file>