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WHOOSH.WAV" ContentType="audio/x-wav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2DF9A-500B-4C60-A8C5-0E7A73D9A0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1BEF2-5D2A-489A-A3F4-E0B019E9EC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1D42-94C8-4253-BBF7-FEC4D0501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CA10-D453-4334-8BA4-18DBFA19C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5B1A-910F-4961-9196-C9F394E2C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6CA1-6A5B-4E88-A5AB-FB4AEB653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33A10-E66A-4BC9-AD32-CD598898C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BC38B-E43E-4B3F-9880-3A44021F8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FA094-E24C-45D0-997C-970E0A3AE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E1BF4-4CBF-49FA-A2A4-A684FF52E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B8861-0742-4C1B-9F2E-F7FE2DE65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7683B-ECAB-4E2A-9BB4-157091EAE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0DEDB-5DCE-4E97-93EB-8D66ED9FF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B5AF-729E-48B2-AD06-CE78DC68A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D6AD1-6DA1-404A-9BE7-E22048ACF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190C6-C54A-44CF-9A74-A0D28F051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2BCD7-C94C-42C3-AFFA-9A6F46F9F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82C74-81A8-4B5A-A006-3DA7EBAE9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AE251-638B-4951-9E05-B5A57AC6D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5708-DEA5-4571-B757-7A138CC38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176E-125E-4B8E-AF28-37CF99F81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7A6D-D757-4DC6-B3C0-1DB1A863E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73F5-30AF-4E6D-BDF2-566D5F072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5DFE-C183-4B92-9CFD-8988F3F52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ECD9-012B-4537-B099-7F03AF67E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802B-4EB0-4E62-A64E-90EE1198A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27D00-AB55-47AB-9C94-80DEC5F30B6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237F3-8065-4EAA-9DC7-E2FE01723F0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slideLayout" Target="../slideLayouts/slideLayout5.xml"/><Relationship Id="rId1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26560" y="2349000"/>
            <a:ext cx="6409080" cy="29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5400" spc="-1" strike="noStrike">
                <a:solidFill>
                  <a:srgbClr val="ffffcc"/>
                </a:solidFill>
                <a:latin typeface="Tahoma"/>
              </a:rPr>
              <a:t>Vadybos mokslo ištakos: ankstyvieji strategai 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551DA-D095-443B-86E4-D2FE1BF5AD12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cc"/>
                </a:solidFill>
                <a:latin typeface="Tahoma"/>
              </a:rPr>
              <a:t>Ma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k</a:t>
            </a:r>
            <a:r>
              <a:rPr b="0" lang="lt-LT" sz="4400" spc="-1" strike="noStrike">
                <a:solidFill>
                  <a:srgbClr val="ffffcc"/>
                </a:solidFill>
                <a:latin typeface="Tahoma"/>
              </a:rPr>
              <a:t>iavelis, 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1531m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33520" y="1909800"/>
            <a:ext cx="8229600" cy="418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Pokalbiai” (Discours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Valstybės (respublikos) valdymo principai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Valstybė stabili, jei jos nariai turi teisę reikšti skirtingas nuomones bei spręsti jos vidaus konflikt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Respublika gyvuos ilgai, jei ja rūpinsis daugelis ir daugelis trokš ją išlaikyt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Silpnas vadovas gali sekti stipriu, bet ne kitu silpnu, ir išlaikyti autoritet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Vadovas, siekiantis keisti valstybę, turėtų išlaikyti bent senųjų papročių šešėl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10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0626-B978-457C-ACCB-8941572071B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cc"/>
                </a:solidFill>
                <a:latin typeface="Tahoma"/>
              </a:rPr>
              <a:t>Industrinė revoliucij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33520" y="1909800"/>
            <a:ext cx="8229600" cy="418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Garo variklio sukūrim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Naujų gamybos priemonių ir būdų atsiradim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Gamybos produktyvumo augim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Gamybos kaštų kritim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Masto ekonomijos reikšmė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Organizacijų augimas – monopolizaci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Infrastruktūros plėtra – geležinkelių, sausumos ir vandens kelių plėt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Rinkų augim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Organizacijų valdymo problem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5015-1FEF-4278-8915-415E485D1B1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4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4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cc"/>
                </a:solidFill>
                <a:latin typeface="Tahoma"/>
              </a:rPr>
              <a:t>Pirmieji industrinės eros vadybos teoretikai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229600" cy="41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ffffff"/>
                </a:solidFill>
                <a:latin typeface="Tahoma"/>
              </a:rPr>
              <a:t>Robert Owen (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1771-1858)</a:t>
            </a:r>
            <a:r>
              <a:rPr b="1" lang="lt-LT" sz="2600" spc="-1" strike="noStrike">
                <a:solidFill>
                  <a:srgbClr val="ffffff"/>
                </a:solidFill>
                <a:latin typeface="Tahoma"/>
              </a:rPr>
              <a:t>, škota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Žmogiškųjų išteklių reikšmės išryškinim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Motyvavimo premijuojant, bet ne baudžian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Motyvavimo technikų kūrim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Siekė “radikalaus” darbo sąlygų pagerinimo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a3c145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ffffff"/>
                </a:solidFill>
                <a:latin typeface="Tahoma"/>
              </a:rPr>
              <a:t>minimalaus amžiaus vaikui – darbininkui nustatymo – nuo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10</a:t>
            </a:r>
            <a:r>
              <a:rPr b="1" lang="lt-LT" sz="2000" spc="-1" strike="noStrike">
                <a:solidFill>
                  <a:srgbClr val="ffffff"/>
                </a:solidFill>
                <a:latin typeface="Tahoma"/>
              </a:rPr>
              <a:t> m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a3c145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ffffff"/>
                </a:solidFill>
                <a:latin typeface="Tahoma"/>
              </a:rPr>
              <a:t>maksimalios darbo dienos vaikui nustatymo –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10,5 </a:t>
            </a:r>
            <a:r>
              <a:rPr b="1" lang="lt-LT" sz="2000" spc="-1" strike="noStrike">
                <a:solidFill>
                  <a:srgbClr val="ffffff"/>
                </a:solidFill>
                <a:latin typeface="Tahoma"/>
              </a:rPr>
              <a:t>val. dirbant tik dien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a3c145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ffffff"/>
                </a:solidFill>
                <a:latin typeface="Tahoma"/>
              </a:rPr>
              <a:t>privalomų maitinimosi pertraukų įvedim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Žmogiškųjų išteklių valdymo idėjos tapo pagrindu Bihevioristinės mokyklos teorijų plėtra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C9C3-3112-4FA0-8150-5ABDA4E5301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4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4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4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4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4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cc"/>
                </a:solidFill>
                <a:latin typeface="Tahoma"/>
              </a:rPr>
              <a:t>Pirmieji industrinės eros vadybos teoretikai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ffffff"/>
                </a:solidFill>
                <a:latin typeface="Tahoma"/>
              </a:rPr>
              <a:t>Charles Babbage (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1792-1871)</a:t>
            </a:r>
            <a:r>
              <a:rPr b="1" lang="lt-LT" sz="2600" spc="-1" strike="noStrike">
                <a:solidFill>
                  <a:srgbClr val="ffffff"/>
                </a:solidFill>
                <a:latin typeface="Tahoma"/>
              </a:rPr>
              <a:t>, angla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Matematinių valdymo principų kūrim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Mašinų ir gamintojų ekonomikoje” (On the Economy of Machinery and Manufacture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Matematikos taikyma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Clr>
                <a:srgbClr val="a3c145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ffffff"/>
                </a:solidFill>
                <a:latin typeface="Tahoma"/>
              </a:rPr>
              <a:t>medžiagų ir gamybos priemonių neefektyvaus naudojimo problemoms spręsti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Clr>
                <a:srgbClr val="a3c145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ffffff"/>
                </a:solidFill>
                <a:latin typeface="Tahoma"/>
              </a:rPr>
              <a:t>pelno paskirstymui ir darbuotojų skatinimui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Analitinio variklio” idėjos iškėlimas (šiuolaikinio PC veikimo idėjo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Matematinio valdymo idėjos tapo pagrindu Kiekybinės valdymo teorijos plėtra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C382-4F0A-4132-B62B-DF0949DDDD1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4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4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4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cc"/>
                </a:solidFill>
                <a:latin typeface="Tahoma"/>
              </a:rPr>
              <a:t>Pirmųjų vadybos teorinių minčių ribotumai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Tahoma"/>
              </a:rPr>
              <a:t>Owen ir Babbage idėjos buvo per daug “radikalios” savo laikmečiui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Tahoma"/>
              </a:rPr>
              <a:t>Iki pat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19</a:t>
            </a:r>
            <a:r>
              <a:rPr b="0" lang="lt-LT" sz="2600" spc="-1" strike="noStrike">
                <a:solidFill>
                  <a:srgbClr val="ffffff"/>
                </a:solidFill>
                <a:latin typeface="Tahoma"/>
              </a:rPr>
              <a:t>a. pab. Įmonių savininkams ir vadovams medžiagų ir žmogiškųjų išteklių valdymo problemos nebuvo aktualios ir suvoktos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Tahoma"/>
              </a:rPr>
              <a:t>Rinkos sparčiai augo, o konkurencija – silpna, kad būtų išryškėjęs efektyvaus ir efektingo valdymo poreikis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Tahoma"/>
              </a:rPr>
              <a:t>Tik išryškėjęs kaštų mažinimo ir veiklos efektyvumo poreikis, paskatino vadybos teoretikų aktyvumą ir klasikinės vadybos teorijų kūrimą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7C6E-DDE4-4BC6-97C4-06288B0B111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500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500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cc"/>
                </a:solidFill>
                <a:latin typeface="Tahoma"/>
              </a:rPr>
              <a:t>Paskaitos tikslai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79440" y="1977840"/>
            <a:ext cx="8385120" cy="409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Apibrėžti teorijos samprat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Aptarti ankstyvąsias vadybos mokslo mintis ir teorija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Apžvelgti ankstyvuosius strategus ir teoretik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9CE4-72DC-42DF-B6EF-8723437D9EE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cc"/>
                </a:solidFill>
                <a:latin typeface="Bauhaus 93"/>
              </a:rPr>
              <a:t>Kodėl reikia studijuoti vadybos teorijos istoriją</a:t>
            </a:r>
            <a:r>
              <a:rPr b="0" lang="en-US" sz="4400" spc="-1" strike="noStrike">
                <a:solidFill>
                  <a:srgbClr val="ffffcc"/>
                </a:solidFill>
                <a:latin typeface="Bauhaus 93"/>
              </a:rPr>
              <a:t>?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2971800" y="3048120"/>
            <a:ext cx="3025800" cy="3252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3D61-06F0-48C4-BF46-FAD54168177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cc"/>
                </a:solidFill>
                <a:latin typeface="Brush Script MT"/>
              </a:rPr>
              <a:t>Teorija</a:t>
            </a:r>
            <a:r>
              <a:rPr b="0" lang="en-US" sz="4400" spc="-1" strike="noStrike">
                <a:solidFill>
                  <a:srgbClr val="ffffcc"/>
                </a:solidFill>
                <a:latin typeface="Brush Script MT"/>
              </a:rPr>
              <a:t> -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Nuosekliai išdėstytų teiginių visu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Paaiškina ryšius tarp tiriamų fakt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Pateikia pagrindą ateitiems įvykiams prognozuo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Suteikia žinias – “nematomas galias” teorijų panaudojimu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Apibrėžia būdus, leidžiančius pažinti ir suprasti pasaul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A4CA-455D-4B12-8FD0-20FCFE49829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cc"/>
                </a:solidFill>
                <a:latin typeface="Brush Script MT"/>
              </a:rPr>
              <a:t>Teorija</a:t>
            </a:r>
            <a:r>
              <a:rPr b="0" lang="en-US" sz="4400" spc="-1" strike="noStrike">
                <a:solidFill>
                  <a:srgbClr val="ffffcc"/>
                </a:solidFill>
                <a:latin typeface="Brush Script MT"/>
              </a:rPr>
              <a:t> -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Tahoma"/>
              </a:rPr>
              <a:t>Suteikia stabilumo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 -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patirties suvokimu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svarbos kriterijų nustatymu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Tahoma"/>
              </a:rPr>
              <a:t>Įgalina veiksmingai bendrauti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 -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vienodai suvokiant samprat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analizuojant reiškinius ir situacij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Tahoma"/>
              </a:rPr>
              <a:t>Motyvuoja nuolat mokytis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 -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siekiant pažinti pasaul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sistemiškai analizuoti skirtingas sfe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373E-F3D8-40B9-B2F8-06EBF9CA61C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cc"/>
                </a:solidFill>
                <a:latin typeface="Tahoma"/>
              </a:rPr>
              <a:t>Ankstyvosios valdymo prielaido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3520" y="1909800"/>
            <a:ext cx="8229600" cy="418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4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Pirmosios formaliosios organizacijos – graikų ir romėnų armijos bei Romos katalikų bažnyč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4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Pirmieji stambūs “projektai” – karai, statybos objektai ir pa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4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Pirmieji autoriai, analizavę galimybes, kaip organizacijas padaryti geriau veikiančias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05CC-8413-4969-BE00-3707EC145E8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6856560" y="1766880"/>
            <a:ext cx="866520" cy="115560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>
            <a:off x="4189320" y="1843200"/>
            <a:ext cx="866880" cy="115560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3"/>
          <a:stretch/>
        </p:blipFill>
        <p:spPr>
          <a:xfrm>
            <a:off x="1446120" y="1766880"/>
            <a:ext cx="866880" cy="1155600"/>
          </a:xfrm>
          <a:prstGeom prst="rect">
            <a:avLst/>
          </a:prstGeom>
          <a:ln w="0">
            <a:noFill/>
          </a:ln>
        </p:spPr>
      </p:pic>
      <p:grpSp>
        <p:nvGrpSpPr>
          <p:cNvPr id="406" name=""/>
          <p:cNvGrpSpPr/>
          <p:nvPr/>
        </p:nvGrpSpPr>
        <p:grpSpPr>
          <a:xfrm>
            <a:off x="684360" y="2452680"/>
            <a:ext cx="7800840" cy="3670200"/>
            <a:chOff x="684360" y="2452680"/>
            <a:chExt cx="7800840" cy="3670200"/>
          </a:xfrm>
        </p:grpSpPr>
        <p:grpSp>
          <p:nvGrpSpPr>
            <p:cNvPr id="407" name=""/>
            <p:cNvGrpSpPr/>
            <p:nvPr/>
          </p:nvGrpSpPr>
          <p:grpSpPr>
            <a:xfrm>
              <a:off x="6018120" y="3672000"/>
              <a:ext cx="2467080" cy="2450880"/>
              <a:chOff x="6018120" y="3672000"/>
              <a:chExt cx="2467080" cy="2450880"/>
            </a:xfrm>
          </p:grpSpPr>
          <p:pic>
            <p:nvPicPr>
              <p:cNvPr id="40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018120" y="3672000"/>
                <a:ext cx="2467080" cy="245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9" name=""/>
              <p:cNvSpPr/>
              <p:nvPr/>
            </p:nvSpPr>
            <p:spPr>
              <a:xfrm>
                <a:off x="6111720" y="3780000"/>
                <a:ext cx="2254320" cy="226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lt-LT" sz="2800" spc="-1" strike="noStrike">
                    <a:solidFill>
                      <a:srgbClr val="ffffff"/>
                    </a:solidFill>
                    <a:latin typeface="Arial"/>
                  </a:rPr>
                  <a:t>Mašinų 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lt-LT" sz="2800" spc="-1" strike="noStrike">
                    <a:solidFill>
                      <a:srgbClr val="ffffff"/>
                    </a:solidFill>
                    <a:latin typeface="Arial"/>
                  </a:rPr>
                  <a:t>naudojimas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lt-LT" sz="2800" spc="-1" strike="noStrike">
                    <a:solidFill>
                      <a:srgbClr val="ffffff"/>
                    </a:solidFill>
                    <a:latin typeface="Arial"/>
                  </a:rPr>
                  <a:t>Masinė 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lt-LT" sz="2800" spc="-1" strike="noStrike">
                    <a:solidFill>
                      <a:srgbClr val="ffffff"/>
                    </a:solidFill>
                    <a:latin typeface="Arial"/>
                  </a:rPr>
                  <a:t>gamyba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0" name=""/>
            <p:cNvGrpSpPr/>
            <p:nvPr/>
          </p:nvGrpSpPr>
          <p:grpSpPr>
            <a:xfrm>
              <a:off x="3351240" y="3672000"/>
              <a:ext cx="2467080" cy="2450880"/>
              <a:chOff x="3351240" y="3672000"/>
              <a:chExt cx="2467080" cy="2450880"/>
            </a:xfrm>
          </p:grpSpPr>
          <p:pic>
            <p:nvPicPr>
              <p:cNvPr id="41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351240" y="3672000"/>
                <a:ext cx="2467080" cy="245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2" name=""/>
              <p:cNvSpPr/>
              <p:nvPr/>
            </p:nvSpPr>
            <p:spPr>
              <a:xfrm>
                <a:off x="3444840" y="3780000"/>
                <a:ext cx="2254320" cy="226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lt-LT" sz="2800" spc="-1" strike="noStrike">
                    <a:solidFill>
                      <a:srgbClr val="ffffff"/>
                    </a:solidFill>
                    <a:latin typeface="Arial"/>
                  </a:rPr>
                  <a:t>Tautų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lt-LT" sz="2800" spc="-1" strike="noStrike">
                    <a:solidFill>
                      <a:srgbClr val="ffffff"/>
                    </a:solidFill>
                    <a:latin typeface="Arial"/>
                  </a:rPr>
                  <a:t>turtas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lt-LT" sz="2800" spc="-1" strike="noStrike">
                    <a:solidFill>
                      <a:srgbClr val="ffffff"/>
                    </a:solidFill>
                    <a:latin typeface="Arial"/>
                  </a:rPr>
                  <a:t>Verslų 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lt-LT" sz="2800" spc="-1" strike="noStrike">
                    <a:solidFill>
                      <a:srgbClr val="ffffff"/>
                    </a:solidFill>
                    <a:latin typeface="Arial"/>
                  </a:rPr>
                  <a:t>plėtra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684360" y="3672000"/>
              <a:ext cx="2466720" cy="2450880"/>
              <a:chOff x="684360" y="3672000"/>
              <a:chExt cx="2466720" cy="2450880"/>
            </a:xfrm>
          </p:grpSpPr>
          <p:pic>
            <p:nvPicPr>
              <p:cNvPr id="41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84360" y="3672000"/>
                <a:ext cx="2466720" cy="245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5" name=""/>
              <p:cNvSpPr/>
              <p:nvPr/>
            </p:nvSpPr>
            <p:spPr>
              <a:xfrm>
                <a:off x="777960" y="3780000"/>
                <a:ext cx="2254320" cy="226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lt-LT" sz="2800" spc="-1" strike="noStrike">
                    <a:solidFill>
                      <a:srgbClr val="ffffff"/>
                    </a:solidFill>
                    <a:latin typeface="Arial"/>
                  </a:rPr>
                  <a:t>Egipto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lt-LT" sz="2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lt-LT" sz="2800" spc="-1" strike="noStrike">
                    <a:solidFill>
                      <a:srgbClr val="ffffff"/>
                    </a:solidFill>
                    <a:latin typeface="Arial"/>
                  </a:rPr>
                  <a:t>piramidės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lt-LT" sz="2800" spc="-1" strike="noStrike">
                    <a:solidFill>
                      <a:srgbClr val="ffffff"/>
                    </a:solidFill>
                    <a:latin typeface="Arial"/>
                  </a:rPr>
                  <a:t>Didžioji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lt-LT" sz="2800" spc="-1" strike="noStrike">
                    <a:solidFill>
                      <a:srgbClr val="ffffff"/>
                    </a:solidFill>
                    <a:latin typeface="Arial"/>
                  </a:rPr>
                  <a:t>Kinų siena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6" name=""/>
            <p:cNvGrpSpPr/>
            <p:nvPr/>
          </p:nvGrpSpPr>
          <p:grpSpPr>
            <a:xfrm>
              <a:off x="684360" y="2452680"/>
              <a:ext cx="2466720" cy="1308240"/>
              <a:chOff x="684360" y="2452680"/>
              <a:chExt cx="2466720" cy="1308240"/>
            </a:xfrm>
          </p:grpSpPr>
          <p:pic>
            <p:nvPicPr>
              <p:cNvPr id="4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684360" y="2452680"/>
                <a:ext cx="2466720" cy="1308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"/>
              <p:cNvSpPr/>
              <p:nvPr/>
            </p:nvSpPr>
            <p:spPr>
              <a:xfrm>
                <a:off x="777960" y="2560680"/>
                <a:ext cx="2254320" cy="112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lt-LT" sz="3200" spc="-1" strike="noStrike">
                    <a:solidFill>
                      <a:srgbClr val="ffffff"/>
                    </a:solidFill>
                    <a:latin typeface="Arial"/>
                  </a:rPr>
                  <a:t>Ankstyvieji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lt-LT" sz="3200" spc="-1" strike="noStrike" u="sng">
                    <a:solidFill>
                      <a:srgbClr val="ffffff"/>
                    </a:solidFill>
                    <a:uFillTx/>
                    <a:latin typeface="Arial"/>
                  </a:rPr>
                  <a:t>pavyzdžiai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9" name=""/>
            <p:cNvGrpSpPr/>
            <p:nvPr/>
          </p:nvGrpSpPr>
          <p:grpSpPr>
            <a:xfrm>
              <a:off x="3351240" y="2452680"/>
              <a:ext cx="2467080" cy="1308240"/>
              <a:chOff x="3351240" y="2452680"/>
              <a:chExt cx="2467080" cy="1308240"/>
            </a:xfrm>
          </p:grpSpPr>
          <p:pic>
            <p:nvPicPr>
              <p:cNvPr id="42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3351240" y="2452680"/>
                <a:ext cx="2467080" cy="1308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1" name=""/>
              <p:cNvSpPr/>
              <p:nvPr/>
            </p:nvSpPr>
            <p:spPr>
              <a:xfrm>
                <a:off x="3444840" y="2560680"/>
                <a:ext cx="2254320" cy="112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Adam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 u="sng">
                    <a:solidFill>
                      <a:srgbClr val="ffffff"/>
                    </a:solidFill>
                    <a:uFillTx/>
                    <a:latin typeface="Arial"/>
                  </a:rPr>
                  <a:t>Smith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2" name=""/>
            <p:cNvGrpSpPr/>
            <p:nvPr/>
          </p:nvGrpSpPr>
          <p:grpSpPr>
            <a:xfrm>
              <a:off x="6018120" y="2452680"/>
              <a:ext cx="2467080" cy="1308240"/>
              <a:chOff x="6018120" y="2452680"/>
              <a:chExt cx="2467080" cy="1308240"/>
            </a:xfrm>
          </p:grpSpPr>
          <p:pic>
            <p:nvPicPr>
              <p:cNvPr id="423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6018120" y="2452680"/>
                <a:ext cx="2467080" cy="1308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4" name=""/>
              <p:cNvSpPr/>
              <p:nvPr/>
            </p:nvSpPr>
            <p:spPr>
              <a:xfrm>
                <a:off x="6111720" y="2560680"/>
                <a:ext cx="2254320" cy="112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lt-LT" sz="3200" spc="-1" strike="noStrike">
                    <a:solidFill>
                      <a:srgbClr val="ffffff"/>
                    </a:solidFill>
                    <a:latin typeface="Arial"/>
                  </a:rPr>
                  <a:t>Industrinė 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lt-LT" sz="3200" spc="-1" strike="noStrike" u="sng">
                    <a:solidFill>
                      <a:srgbClr val="ffffff"/>
                    </a:solidFill>
                    <a:uFillTx/>
                    <a:latin typeface="Arial"/>
                  </a:rPr>
                  <a:t>revoliucij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5" name=""/>
          <p:cNvGrpSpPr/>
          <p:nvPr/>
        </p:nvGrpSpPr>
        <p:grpSpPr>
          <a:xfrm>
            <a:off x="684360" y="547560"/>
            <a:ext cx="7800840" cy="1765440"/>
            <a:chOff x="684360" y="547560"/>
            <a:chExt cx="7800840" cy="1765440"/>
          </a:xfrm>
        </p:grpSpPr>
        <p:pic>
          <p:nvPicPr>
            <p:cNvPr id="426" name="" descr=""/>
            <p:cNvPicPr/>
            <p:nvPr/>
          </p:nvPicPr>
          <p:blipFill>
            <a:blip r:embed="rId10"/>
            <a:stretch/>
          </p:blipFill>
          <p:spPr>
            <a:xfrm>
              <a:off x="684360" y="547560"/>
              <a:ext cx="7800840" cy="17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"/>
            <p:cNvSpPr/>
            <p:nvPr/>
          </p:nvSpPr>
          <p:spPr>
            <a:xfrm>
              <a:off x="777960" y="655560"/>
              <a:ext cx="75880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4400" spc="-1" strike="noStrike">
                  <a:solidFill>
                    <a:srgbClr val="ffffff"/>
                  </a:solidFill>
                  <a:latin typeface="Arial"/>
                </a:rPr>
                <a:t>Istorinis pagrindas vadybos teorijoms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28" name="" descr=""/>
          <p:cNvPicPr/>
          <p:nvPr/>
        </p:nvPicPr>
        <p:blipFill>
          <a:blip r:embed="rId11"/>
          <a:stretch/>
        </p:blipFill>
        <p:spPr>
          <a:xfrm>
            <a:off x="609480" y="6248520"/>
            <a:ext cx="135000" cy="139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E3E3-1983-4217-93B5-97D2B94AF192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cc"/>
                </a:solidFill>
                <a:latin typeface="Tahoma"/>
              </a:rPr>
              <a:t>Sun Tzu, m.e.pr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4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Kinų filosof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4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Karo menas” (The Art of the War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4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Valdymas – karo strategij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4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Kai priešas puola, mes traukiamė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4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Kai priešas sustoja, mes neduodam ramybė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4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Kai priešas mūšio stengiasi išvengti, mes puola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4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Kai priešas traukiasi, mes persekiojame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F57F-1C6F-40B8-B297-A6BB631DE4E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cc"/>
                </a:solidFill>
                <a:latin typeface="Tahoma"/>
              </a:rPr>
              <a:t>Karinės armijos valdymo principai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4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Įsakymų grandis – vertikali valdžios ir atsakomybės lini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4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Valdžios delegavimas –sprendimų priėmimo ir įgyvendinimo grandinė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4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Valdymo personalas – karininkai, užtikrinantys valdymo veiklos pasidalijim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4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Sprendimų vieningumas – kiekvienas individas neturi daugiau negu vieną vadov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5A4A-F70B-422A-83C8-81F56D066C3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8T18:37:46Z</dcterms:created>
  <dc:creator>Sally Coltrin</dc:creator>
  <dc:description/>
  <dc:language>en-US</dc:language>
  <cp:lastModifiedBy>No name (ISM)</cp:lastModifiedBy>
  <dcterms:modified xsi:type="dcterms:W3CDTF">2005-02-02T06:25:45Z</dcterms:modified>
  <cp:revision>21</cp:revision>
  <dc:subject/>
  <dc:title>Introduction to Management</dc:title>
</cp:coreProperties>
</file>