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9D6-3373-4E2B-8CE6-50B7D24D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7B5-D89A-491D-A2A2-436B6B5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5E9-355E-4720-A28D-906AF3E7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FBC-1D4B-45EB-997D-139C8D47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3C7A-A4B1-4A0D-A281-FF4AD571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D32C-3612-46F6-B5A2-0793CD28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92FE-AD87-4A86-9660-798D1947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BA7-D737-487B-8C9A-3298241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7BF1-01DF-488C-A4C5-EB118AAD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FF86-0AD1-4357-ADDF-BE382706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F246-BD79-4AE8-9205-320833BF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C44-78A8-49BF-B25C-2BCBBCBE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CC4F-B3D3-4409-8FEE-993A7E99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F747-9991-4B24-B2A2-A7887DC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1864-2045-48E4-8A44-25F20C3B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4231-A0C8-4CD9-AE67-CB6A7574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C073-19F7-45DF-B8F0-4CEEB4B6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02B-8C37-494D-90D8-71826E46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412-AC86-48EF-9064-B22CCB09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A9D-3FEE-4953-9848-87FBA59F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AAD-4E5E-4004-A908-C69DE6AB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BD1-8082-4C28-82A3-977DF27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9E5-A9A8-4745-A90E-595179D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317-B2AE-4F38-BB58-078A929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ADCA-8DC3-4E4C-AB38-3A44C6A9C1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F04D-95D7-4E8F-BD36-9AC1F0BD61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samprata ir kateg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CC30-E1CD-4646-A8DD-BB96134F6056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rezulta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PRINCIPAI IR METODAI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E37-A52F-4B85-9B91-D811A02E2977}" type="slidenum">
              <a:t>10</a:t>
            </a:fld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rindinės taisyklės, elgesio normos, teiginiai, kuriais(iomis) remiantis reiktų atlikti valdymo veiklą organizacijose (efektyviai ir efektinga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5E0-B705-47F7-8CC8-109B70023D13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Ų KLASIFIKAVI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formuluojamų taisyklių pobūdį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rašomieji (rekomendac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rodomieji (normatyv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apimamų (vadybos) sričių platum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drie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nkretū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74E-690C-4ED3-A0B3-4B5B75748613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D92-5790-41EA-BD2E-3DAA5FB1483F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finė darbinės veiklos rūš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rocesas, apimantis konkrečias stadij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Tikslinė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pagrįsta išteklia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orientuota į rezultat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ikliška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823-83F4-457C-9B30-3497FE841949}" type="slidenum">
              <a:t>14</a:t>
            </a:fld>
          </a:p>
        </p:txBody>
      </p:sp>
    </p:spTree>
  </p:cSld>
  <p:transition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 ORGANIZ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truktūrizuota žmonių grupė, siekianti bendrų tiksl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rielaid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tvira sistema: vidinė ir išorinė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usideda iš valdymo ir valdomosios posistemi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514-EFAA-413A-A1B7-2B09DC47A14E}" type="slidenum">
              <a:t>15</a:t>
            </a:fld>
          </a:p>
        </p:txBody>
      </p:sp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S ORGANIZACIJOS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Išor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NE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C83-5390-4784-A7EA-C5E5ED295DAA}" type="slidenum">
              <a:t>16</a:t>
            </a:fld>
          </a:p>
        </p:txBody>
      </p:sp>
    </p:spTree>
  </p:cSld>
  <p:transition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os turin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Darbo pasidalijimo valdyme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avarankiškos valdymo veiklos daly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Objektyvios, specializuotos valdymo veiklo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ų atlikimas valdymo srityse sudaro valdymo veiklos turin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5C1-DA37-43A7-80C2-20C759EAB9E7}" type="slidenum">
              <a:t>17</a:t>
            </a:fld>
          </a:p>
        </p:txBody>
      </p:sp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veiklos subjekta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Žmonės, atliekantys valdymo veikl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712-AE20-4184-B999-AAC130B4240A}" type="slidenum">
              <a:t>18</a:t>
            </a:fld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OVAI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ALIST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PTARNAUJANTIS PERSONALA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CFC-153A-4EAF-918A-FA98DAEF06B1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3880" y="2363400"/>
            <a:ext cx="7629480" cy="37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samprat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mokslo tikslus, objektą ir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rėžti vadybos mokslo terminij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1DF-16C1-47D5-AF2B-5B45D084FAEE}" type="slidenum">
              <a:t>2</a:t>
            </a:fld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METO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bū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agrįsti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sr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avimo stili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ybos mokslo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FE8-74E1-4ED8-9779-A9E49539029D}" type="slidenum">
              <a:t>20</a:t>
            </a:fld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NĖ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DYMO </a:t>
            </a: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TRUKTŪRA (OV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for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antykinai savarankiški elementa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ų pasidalij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Formalių ryšių visum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grandžių ir lygių visu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jos veiklų koordinav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6A2-E72C-4EDD-8566-CF2512D4219B}" type="slidenum">
              <a:t>21</a:t>
            </a:fld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lausimai diskusij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uo skiriasi “vadyba” nuo “valdymo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a mokslas ar men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BD04924_" descr=""/>
          <p:cNvPicPr/>
          <p:nvPr/>
        </p:nvPicPr>
        <p:blipFill>
          <a:blip r:embed="rId1"/>
          <a:stretch/>
        </p:blipFill>
        <p:spPr>
          <a:xfrm>
            <a:off x="1562040" y="2017800"/>
            <a:ext cx="3051360" cy="377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CFB-9D56-478A-AFFA-80932FBEB35B}" type="slidenum">
              <a:t>22</a:t>
            </a:fld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 mokslas ar men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omasi iš vadovėlių, mokytojų ir aplinkos (IŠSILAVINIM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ritaikomas mokslas kintant sąlygoms (PATIR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o ir meno vertė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inių ir patirties sintezė įgalinanti prognozuoti ateities įvyk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98A-DDA5-41F0-BDAF-A5FD29B7840C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Arial"/>
              </a:rPr>
              <a:t>Kodėl studijuoti vadybą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prasti kaip organizacijos valdo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irengti valdyti arba būti valdom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6663_" descr=""/>
          <p:cNvPicPr/>
          <p:nvPr/>
        </p:nvPicPr>
        <p:blipFill>
          <a:blip r:embed="rId1"/>
          <a:stretch/>
        </p:blipFill>
        <p:spPr>
          <a:xfrm>
            <a:off x="1182600" y="2422440"/>
            <a:ext cx="381024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EE0-E1A6-412D-B45A-728D13D72CDF}" type="slidenum">
              <a:t>24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A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–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.A. Graičiūnas, 1935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.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mokslinė vadybos ir visuminė valdymo veiklos sampr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5B4-D59C-4662-934B-20BC174BB986}" type="slidenum">
              <a:t>3</a:t>
            </a:fld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nariai, kurie priima esminius sprendimus susijusius su organizacijos veikla. (Šiuo atveju priimtina tik Amerikos vadybinėje kalbo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inios, sukauptos mokslinių tyrimų ir praktinių stebėjimų me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969-D8E6-412D-8486-36BE79D5C224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aktinis mokslinių studijų taikymas specifinių vadybinių problemų sprendimu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os veiklų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lanavimo, organizavimo, vadovavimo ir kontrol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procesas sisteminiu būdu siekiant organizacijos tikslų. 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Ramon J. Aldag, Timothy M. Stearns, Management, 1991 South Western Publishing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i klasikinė samprata reiškianti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minę organizacijos valdymo veiklą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149-C73A-4E12-ACE2-95AC92D5E022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029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vi 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“VADYBOS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ampratos pu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ė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psmas vadovu priklauso nuo vadybinių žinių ir praktinių įgūdžių. …šiuo atveju galima kalbėti apie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kaip apie mokslą (discipliną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adovo veikla gali būti sistemiškai analizuojama ir klasifikuojama. …aišku, kad reikia iškirti profesinius ir mokslinius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aspekt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Peter F. Druker An Introductory View of Management, 197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301-5774-47BE-9362-D42CBFBCB382}" type="slidenum">
              <a:t>6</a:t>
            </a:fld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Mokslas apie socialinių organizacijų, sistemų valdym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raktinių valdymo metodų ir tradicijų, būdingų kokiam nors istoriniam laikotarpiui ar šaliai, visuma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9BB-A176-470B-BB28-44FE3D2E67F2}" type="slidenum">
              <a:t>7</a:t>
            </a:fld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Suformuoti efektyvius valdymo metodu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Nurodyti efektingas organizacijos plėtros krypti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adėti organizacijoms prisitaikyti prie dinamiškai kintančios aplinkos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0BA-1410-4223-8AD7-5710924E10F3}" type="slidenum">
              <a:t>8</a:t>
            </a:fld>
          </a:p>
        </p:txBody>
      </p:sp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objek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VEIKLA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080-C972-4917-81F1-204A9D680616}" type="slidenum">
              <a:t>9</a:t>
            </a:fld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3:40Z</dcterms:modified>
  <cp:revision>22</cp:revision>
  <dc:subject/>
  <dc:title>Introduction to Management</dc:title>
</cp:coreProperties>
</file>