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4BE-692C-4D60-8AF9-DA67960B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FC0-9BF9-4924-9800-CE4E58C4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482-3208-4FFB-AD8F-4281B80D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9AB3-5DEA-400A-8F51-D49D8593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04DF-A1B7-49FC-8785-B2AD0F55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73E7-7812-4613-8A06-8CBA28A0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E506-3AFD-48A8-B044-22DBF03E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79CC-D6E7-4A68-8616-6177549F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84BB-020C-4FF9-B442-4F37FA63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8D27-8A99-4AA3-9AA3-2C0499A5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9FF7-18A9-4A54-AE23-CC3C4CE5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63AA-389E-4255-A0A3-03AC5D88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961C-33B5-4A90-980A-636321D1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1CD9-652C-4256-8B51-262FA30F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97D4-DFD0-4A40-AD6A-2B2ADC8A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B6F0-C364-4D8A-BF97-CD42ECF8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5A86-CE5F-4533-B3AC-163F8167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AB5-1589-4948-B6FF-663657C8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5F1-7328-443F-9FDF-02F33844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794A-C075-4536-B9F3-42F4A8BB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BE78-033A-42FD-A09E-B41E789D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6CD-5BAA-4CBF-B297-C23DC547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AFB4-14FB-474B-8BDF-4DFAAC5C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5DDE-8637-4E0B-A519-9D65B4BB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F81C-9F47-4277-97FC-C412E170D5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1C4E-940F-42FF-9C28-756E40524C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333399"/>
                </a:solidFill>
                <a:latin typeface="Tahoma"/>
              </a:rPr>
              <a:t>Situatyvinė teorij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ADBF-69D6-4C7D-A2E8-FC8D597441B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Organizacinės valdymo struktūros svarba (T. Burns, G. Stalker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36460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irmą kartą vadyboje panaudoti terminai: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mechanistin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ir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organin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valdymo struktūr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Mechanistinė valdymo struktūr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yra labiau biurokratizuota, aiškiai nustatytos padalinių funkcijų ribos, reglamentuota veikla taisyklėmis. Tokia struktūra yra “kieta” ir nelankst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Organinė valdymo struktūr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labiau grįsta žmogiškaisiais santykiais, funkcijas derinant prie kompetencijų, lanksčiai reaguojant į aplinkos pokyčius ir organizacijos poreikiu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C20-84A3-4E39-96D7-35D7548F2C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Skirtingi požiūriai į organizacijos  struktūr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057400"/>
            <a:ext cx="20574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2819520"/>
            <a:ext cx="0" cy="3733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32767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2819520"/>
            <a:ext cx="228600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Aiš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hierarch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4038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3733920"/>
            <a:ext cx="22860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Nustaty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pare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4876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572000"/>
            <a:ext cx="228600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Dide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orm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5638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410080"/>
            <a:ext cx="2286000" cy="6858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or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komun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6553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6324480"/>
            <a:ext cx="2286000" cy="304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Centr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1981080"/>
            <a:ext cx="2057400" cy="60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2514600"/>
            <a:ext cx="0" cy="4114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3200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2819520"/>
            <a:ext cx="259056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Bendradarbi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4038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3733920"/>
            <a:ext cx="259056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taiko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b</a:t>
            </a: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im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4876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4572000"/>
            <a:ext cx="259056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Maž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orm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5410080"/>
            <a:ext cx="2514600" cy="6858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Nefor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komun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6400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6248520"/>
            <a:ext cx="25905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Decentr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827-28A4-4EDC-A19D-417CA0D39AA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idiniai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812960" y="167652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1600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1981080"/>
            <a:ext cx="5267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rbuotojų charakteristik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243828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šsilavi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2895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276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adovavimo stil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36576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toritar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657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e-autoritar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4191120"/>
            <a:ext cx="35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arjeros lūkesč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411480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4495680"/>
            <a:ext cx="16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44956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de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49528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5029200"/>
            <a:ext cx="22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Įgūdž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5334120"/>
            <a:ext cx="14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86600" y="5257800"/>
            <a:ext cx="10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575640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tir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606096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ia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601992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l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0729-672F-4BBE-AD0D-BAE44BB2C18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idiniai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270160" y="18702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09000" y="1870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65040" y="27082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Y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75800" y="3165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del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19200" y="3165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388620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4308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MPLEKSIŠK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520" y="49942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4917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579132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888E-0A08-42F0-8B83-513B3ED7A01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Išoriniai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889280" y="2174760"/>
            <a:ext cx="19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32680" y="21747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2936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IKLAUSOM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70520" y="33940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de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90600" y="3470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40384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ECHNOLOG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4572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utinin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4572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esikeičianč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5334120"/>
            <a:ext cx="46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INKOS DINAM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9680" y="5832360"/>
            <a:ext cx="10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92400" y="5756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BEC7-9876-4410-BCB4-75798AC7706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a aplinkos įtaka organizacijos valdymui bei vadybos metodų būtinybė prisitaikant prie besikeičiančios aplinko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tskleista struktūros įtaka ir galimybės organizacijai prisitaikant prie aplinkos pokyčių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ūdintos mechanistinės ir organinės organizacijos koncepcijos bei jų įtaka organizacijos gebėjimams reaguoti į aplinkos pokyči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3C8-FBD9-4658-8FC7-2B0004B8163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ųjų vadybos teorijų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6C68-C215-464F-972B-1BBD84C9F57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linka keičiasi vis sparčiau, todėl reikia naujų vadybos metodų prisitaikant prie besikeičiančios aplink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ybos metodų nelankstumas bei taikymo ribotumai skatino ieškoti naujų vadybos princip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Nuolatinė situacijų kaita sąlygojo poreikį ieškoti metodų, leidžiančių valdyti organizacijos tokių pokyčių konteks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D35-5328-4336-AA14-D422E5C50F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333399"/>
                </a:solidFill>
                <a:latin typeface="Tahoma"/>
              </a:rPr>
              <a:t>Situatyvinė teorij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ose dažnai pasitaiko analogiškos situacijos, kurių sprendimui gali būti naudojami tipiniai sprendimų metodai. Todėl svarbu aprašyti tuos metodus, sisteminti ir skleisti, padedant efektyviai valdyti organizacij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0D8-9EF1-4751-8421-431EB23841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utor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929360" cy="34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P. Lawre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J. Lorsc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R Mockl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T. Bur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G. Stalker ir kit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0768-014E-4854-B221-7AD91D50B7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Situacijų analizės principai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P. Lawrence, J. Lorsch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Vidinės aplinkos analizė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organizacijos diferenciacijos (atskirų organizacijos struktūrinių padalinių įtakos situacijai) ir integracijos (organizacijos kaip visumos galimybės įtakoti situaciją) lygio nustaty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Išorinės aplinkos analizė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organizacijos išorės veiksnių įtakos nustatymas bei iš jos kylančių galimybių ir grėsmių įvertini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2AA-D951-46DF-AC5C-46BA8BE61A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Diferenciacija / integracija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P. Lawrence, J. Lorsch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Diferenciac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sąlygota skirtingų padalinių specializacijos, požiūrių, tikslų, struktūrų  skirtingumų. Tai veiklos skirtingumų sąlygoti veiksni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Integrac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padalinių bendradarbiavimo kokybės laipsn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Nuo diferenciacijos ir integracijos laipsnio priklauso organizacijos galimybės reaguoti į aplinkos pokyčius ir valdyti situacij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F15-EAC6-478A-A83B-410DFB58B2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Tyrimų išvados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P. Lawrence, J. Lorsch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uo dinamiškesnė aplinka tuo didesnio diferenciacijos ir integracijos laipsnio reikia sėkmei pasiek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tabilesnė aplinka reikalauja mažesnio diferenciacijos bet vis dar aukšto integracijos laipsn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uo didesnis diferenciacijos laipsnis, tuo didesnė vidinių konfliktų grėsmė ir mažesnė jų sprendimo galimybė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Esant dideliam netikrumo laipsniui, integracija užtikrinama vidurinės grandies vadovų; esant stabiliai aplinkai, integracija užtikrinama aukščiausio lygio vadov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D7B4-838B-4DF9-B95B-FCF686E352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Situatyvinio nagrinėjimo žingsniai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R. Mockler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Situacijos diagno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priežasčių nustatymas ir tikslų formulavi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Priežasčių anali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įtakojančių veiksnių diferencijavimas ir įvertini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Veiksmų alternatyvų numa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galimų veiksmų būdų nustaty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Alternatyvų įvertinimas ir pasirinki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tinkamo sprendimo suradi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Sprendimo realizavimo plano sudary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4A43-0AF1-4AA3-890D-9A3A7B5A8B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0:19Z</dcterms:modified>
  <cp:revision>47</cp:revision>
  <dc:subject/>
  <dc:title>Introduction to Management</dc:title>
</cp:coreProperties>
</file>