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D1FC-62E7-410B-8CDE-EEE4C2A23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17A5-FB28-487C-BFB3-F5F922F3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2926-6C6D-42D2-9D8D-DA73DDE9F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2D51-C10A-4B61-9774-54B88B119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28CF7-676B-4D5B-AA8E-FA62DB100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07FBE-DADC-4C26-92CB-68F53BC8B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58090-19E6-48D5-9957-48885D1BA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A5994-ACA1-4797-A0F5-9FC466B02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E610B-FCD4-4389-9574-659008FB7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8040E-A42C-4524-BF35-1CFE80267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85622-EDC9-4B99-8350-78FA6BE3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069C-C5B9-426A-A813-BED587D5A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373A9-5D08-4F20-98CF-99F2EBCB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E9D89-F4B4-4362-8ACC-D92DAEB6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4BC60-7C63-4399-9D00-18DEE5745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EFFBF-04A0-42BE-9ADE-BCB2B4C0B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005F5-34EB-4449-8492-36BEF8476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134C-C4AF-4A17-80B1-C75A13DDD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8F65-8280-48E6-B336-E3FDD26F6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1A4C-9547-431B-B529-E5FF66C7D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0EDD-A596-4049-8D43-543B2D4C3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2821-41B6-455D-962E-E2658397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2B9B-DE08-473F-998F-2EFD6EDF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D53F-7EA2-4BF5-9842-7A550055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272A1-DA27-49F6-BC3B-969B15C0F75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68AE8-AA4B-491B-8B8D-13DD8B62D4A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345440" cy="408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333399"/>
                </a:solidFill>
                <a:latin typeface="Tahoma"/>
              </a:rPr>
              <a:t>Sisteminė teorija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C0BA8-410E-4006-9669-885E3B4AD40B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Organizacijų – kaip atvirų sistemų charakteristiko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Grįžtamasis ryš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Balanso tarp veiklos ir aplinkos palaikym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Diferenciacija – veiklų specializacija ir vaidmenų multi-funkciškum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Veiklų įvairovė – įvairūs būdai tikslams pasiekti. (“Equifinality” - 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L. Bertalanfi, 194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Katz and Kahn, 1966m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00C3-AF5D-40A8-BBD5-C87F2C5E7EA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Organizacijos veiklos kintamiej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Žmonė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Technologij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Struktūr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plink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A5D3-EC83-4CF2-B35C-4C1441F4AAA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Aplinkos charakteristikos</a:t>
            </a:r>
            <a:br>
              <a:rPr sz="4400"/>
            </a:b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Emery ir Trist (1965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astovi, atsitiktinė – nekintanti ir homogeniška, poreikiai atsitiktinai išsibarstę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astovi, koncentruota - nekintanti, poreikiai koncentruo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Kintanti, reaktyvi – didelė konkurencija ir lanksti konkurentų reakcij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Dinamiška – sparčiai kintanti, reikalaujanti ypač didelio prisitaikomumo, kad išgyvent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CC4A-349E-4D4B-A3AF-050CC46BB7C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Organizacija yra socialinė – ekonominė sistem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642160" cy="421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000000"/>
                </a:solidFill>
                <a:latin typeface="Tahoma"/>
              </a:rPr>
              <a:t>Socialinė sistema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, žmonių grupė, kuriuos sieja bendri tikslai, interesai, bendradarbiavimo ryšia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000000"/>
                </a:solidFill>
                <a:latin typeface="Tahoma"/>
              </a:rPr>
              <a:t>Ekonominė sistema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, organizacija yra vieta, kur fizinio kapitalo santykio su darbo jėga rezultate gaunamas produktas, atnešantis ekonominę naud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1093-BEF8-47A9-9207-8B0114363EB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Organizacijos posistemės</a:t>
            </a:r>
            <a:br>
              <a:rPr sz="4400"/>
            </a:b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Katz ir Kahn (196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Gamybo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aramos (išteklių ir rezultatų paskirstymas, išoriniai ir vidiniai ryšia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Aptarnavimo (stabilumą užtikrinanti posistemė, darbuotojų darbo turinio nustatymas, atlygis ir pan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risitaikymo (gebėjimai atpažinti ir reaguoti į pokyčius, marketingas, tyrimai ir pan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Valdymo (koordinavimas ir kontrolė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C2F7-8B0A-41F1-A772-81571E4C27B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Organizacijos sisteminė sandar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642160" cy="421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Gamybinė posistemė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, organizacijos gamybinei funkcijai realizuot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Komercinė posistemė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, organizacijos komercinei funkcijai realizuot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Ekonominė posistemė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, organizacijos finansinei - ekonominei funkcijai realizuot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Techninė – technologinė posistemė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, organizacijos techninei funkcijai realizuot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Socialinė posistemė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, organizacijos personalo valdymo ir darbo organizavimo funkcijai realizuot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A7EA-90CC-4C04-9E89-A0E31C9FE10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333399"/>
                </a:solidFill>
                <a:latin typeface="Tahoma"/>
              </a:rPr>
              <a:t>Organizacijos sisteminis valdymas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000" y="2174400"/>
            <a:ext cx="8418600" cy="392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000000"/>
                </a:solidFill>
                <a:latin typeface="Tahoma"/>
              </a:rPr>
              <a:t>Valdymo sistema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, integruotai vykdanti dvejopo pobūdžio funkcija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Atskirų organizacijos procesų (posistemių) valdymo funkcija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Bendrąsias valdymo ciklo funkcijas (planavimas, organizavimas, vadovavimas, kontrolė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000000"/>
                </a:solidFill>
                <a:latin typeface="Tahoma"/>
              </a:rPr>
              <a:t>Valdomoji sistema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, integruotai realizuojanti atskirus organizacijos proces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570F-2630-4B5C-A7A8-1A069BE5C16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Nuopelnai vadybos mokslu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ritaikytas sisteminis požiūris organizacijų valdym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Išryškinti esminiai sisteminio valdymo bruožai ir elementai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Apibūdinta organizacija, kaip atvira sistem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Įvardinti ir apibūdinti atviras sistemas įtakojantys veiksnia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Nustatytos ir apibrėžtos organizacijos posistemės ir jų sąveikos principa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3173-A1AC-40BC-9A25-4A5A51D47FF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Paskaitos tiksl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50640" y="2363760"/>
            <a:ext cx="7635960" cy="374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pibūdint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stemin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ės teorijos susiformavimo prielaid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Pristatyti pagrindinius autori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pžvelgti nuopelnus vadybos mokslui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4B26-996B-478A-A10A-B58DF91A572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Brush Script MT"/>
              </a:rPr>
              <a:t>Prielaidos</a:t>
            </a:r>
            <a:r>
              <a:rPr b="0" lang="en-US" sz="4000" spc="-1" strike="noStrike">
                <a:solidFill>
                  <a:srgbClr val="333399"/>
                </a:solidFill>
                <a:latin typeface="Brush Script MT"/>
              </a:rPr>
              <a:t> 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3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Išaugo organizacijų įvairovė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Globalių korporacijų valdymas iškėlė naujus vadybos iššūkiu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Sisteminio požiūrio populiarėjimas, analizuojant kitas, su vadyba nesusijusias sriti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Organizacijų integracijos problemos skatino ieškoti naujų būdų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FFEB-F9DC-4265-977E-2F85FA83416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333399"/>
                </a:solidFill>
                <a:latin typeface="Tahoma"/>
              </a:rPr>
              <a:t>Sisteminė teorija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96800" y="2174400"/>
            <a:ext cx="7489800" cy="392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Esmė: Organizacija yra atvira socialinė sistema sudaryta iš posistemių, kurių veikla tarpusavyje susijusi. Tik kiekvienai iš posistemių veikiant nepriekaištingai ir suderintai su kitomis posistemėmis organizacija, kaip sistema gali veikti efektyvia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9ED6-C391-4368-8117-EBFFA34EA59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Sistemos sampr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842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Sistema – tarpusavyje susijusių elementų visuma, veikiančių kart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Atvir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Uždar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Sistemos dažnai dalomos į posistemes – autonomiškai veikiančias sistemas vienos sistemos viduje, užtikrinant visos sistemos gyvavimą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osistemių ribos nėra matomos – jos yra pagrįstos ryšiais tarp posistemių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9DF4-CD2F-4525-9393-83AB965CBA9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41240" y="380880"/>
            <a:ext cx="7845480" cy="5607000"/>
          </a:xfrm>
          <a:prstGeom prst="ellipse">
            <a:avLst/>
          </a:prstGeom>
          <a:gradFill rotWithShape="0">
            <a:gsLst>
              <a:gs pos="0">
                <a:srgbClr val="23238d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62520" y="2438280"/>
            <a:ext cx="1218960" cy="685800"/>
          </a:xfrm>
          <a:prstGeom prst="rect">
            <a:avLst/>
          </a:prstGeom>
          <a:gradFill rotWithShape="0">
            <a:gsLst>
              <a:gs pos="0">
                <a:srgbClr val="b1b146"/>
              </a:gs>
              <a:gs pos="50000">
                <a:srgbClr val="ffff66"/>
              </a:gs>
              <a:gs pos="100000">
                <a:srgbClr val="b1b1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72200" y="5562720"/>
            <a:ext cx="609480" cy="45720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14600" y="5562720"/>
            <a:ext cx="685800" cy="45720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57560" y="3851280"/>
            <a:ext cx="895320" cy="890640"/>
          </a:xfrm>
          <a:prstGeom prst="rightArrow">
            <a:avLst>
              <a:gd name="adj1" fmla="val 50000"/>
              <a:gd name="adj2" fmla="val 25150"/>
            </a:avLst>
          </a:prstGeom>
          <a:gradFill rotWithShape="0">
            <a:gsLst>
              <a:gs pos="0">
                <a:srgbClr val="7e7e32"/>
              </a:gs>
              <a:gs pos="50000">
                <a:srgbClr val="ffff66"/>
              </a:gs>
              <a:gs pos="100000">
                <a:srgbClr val="7e7e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09680" y="5199120"/>
            <a:ext cx="457200" cy="866880"/>
          </a:xfrm>
          <a:prstGeom prst="rect">
            <a:avLst/>
          </a:prstGeom>
          <a:gradFill rotWithShape="0">
            <a:gsLst>
              <a:gs pos="0">
                <a:srgbClr val="b1b146"/>
              </a:gs>
              <a:gs pos="50000">
                <a:srgbClr val="ffff66"/>
              </a:gs>
              <a:gs pos="100000">
                <a:srgbClr val="b1b1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29400" y="5199120"/>
            <a:ext cx="457200" cy="866880"/>
          </a:xfrm>
          <a:prstGeom prst="rect">
            <a:avLst/>
          </a:prstGeom>
          <a:gradFill rotWithShape="0">
            <a:gsLst>
              <a:gs pos="0">
                <a:srgbClr val="b1b146"/>
              </a:gs>
              <a:gs pos="50000">
                <a:srgbClr val="ffff66"/>
              </a:gs>
              <a:gs pos="100000">
                <a:srgbClr val="b1b1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629400" y="2962440"/>
            <a:ext cx="2133720" cy="2552400"/>
            <a:chOff x="6629400" y="2962440"/>
            <a:chExt cx="2133720" cy="2552400"/>
          </a:xfrm>
        </p:grpSpPr>
        <p:sp>
          <p:nvSpPr>
            <p:cNvPr id="116" name=""/>
            <p:cNvSpPr/>
            <p:nvPr/>
          </p:nvSpPr>
          <p:spPr>
            <a:xfrm>
              <a:off x="6629400" y="3494160"/>
              <a:ext cx="2133720" cy="2020680"/>
            </a:xfrm>
            <a:prstGeom prst="rect">
              <a:avLst/>
            </a:prstGeom>
            <a:gradFill rotWithShape="0">
              <a:gsLst>
                <a:gs pos="0">
                  <a:srgbClr val="b1b146"/>
                </a:gs>
                <a:gs pos="50000">
                  <a:srgbClr val="ffff66"/>
                </a:gs>
                <a:gs pos="100000">
                  <a:srgbClr val="b1b1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>
                  <a:solidFill>
                    <a:srgbClr val="000000"/>
                  </a:solidFill>
                  <a:latin typeface="Arial"/>
                </a:rPr>
                <a:t>Produkta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>
                  <a:solidFill>
                    <a:srgbClr val="000000"/>
                  </a:solidFill>
                  <a:latin typeface="Arial"/>
                </a:rPr>
                <a:t>Paslaug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>
                  <a:solidFill>
                    <a:srgbClr val="000000"/>
                  </a:solidFill>
                  <a:latin typeface="Arial"/>
                </a:rPr>
                <a:t>Peln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>
                  <a:solidFill>
                    <a:srgbClr val="000000"/>
                  </a:solidFill>
                  <a:latin typeface="Arial"/>
                </a:rPr>
                <a:t>Nuostoli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629400" y="2962440"/>
              <a:ext cx="2133720" cy="558720"/>
            </a:xfrm>
            <a:prstGeom prst="rect">
              <a:avLst/>
            </a:prstGeom>
            <a:gradFill rotWithShape="0">
              <a:gsLst>
                <a:gs pos="0">
                  <a:srgbClr val="b1b146"/>
                </a:gs>
                <a:gs pos="50000">
                  <a:srgbClr val="ffff66"/>
                </a:gs>
                <a:gs pos="100000">
                  <a:srgbClr val="b1b1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Rezultata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533520" y="2962440"/>
            <a:ext cx="2133360" cy="2552400"/>
            <a:chOff x="533520" y="2962440"/>
            <a:chExt cx="2133360" cy="2552400"/>
          </a:xfrm>
        </p:grpSpPr>
        <p:sp>
          <p:nvSpPr>
            <p:cNvPr id="119" name=""/>
            <p:cNvSpPr/>
            <p:nvPr/>
          </p:nvSpPr>
          <p:spPr>
            <a:xfrm>
              <a:off x="533520" y="3494160"/>
              <a:ext cx="2133360" cy="2020680"/>
            </a:xfrm>
            <a:prstGeom prst="rect">
              <a:avLst/>
            </a:prstGeom>
            <a:gradFill rotWithShape="0">
              <a:gsLst>
                <a:gs pos="0">
                  <a:srgbClr val="b1b146"/>
                </a:gs>
                <a:gs pos="50000">
                  <a:srgbClr val="ffff66"/>
                </a:gs>
                <a:gs pos="100000">
                  <a:srgbClr val="b1b1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>
                  <a:solidFill>
                    <a:srgbClr val="000000"/>
                  </a:solidFill>
                  <a:latin typeface="Arial"/>
                </a:rPr>
                <a:t>Žmonė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lt-LT" sz="2800" spc="-1" strike="noStrike">
                  <a:solidFill>
                    <a:srgbClr val="000000"/>
                  </a:solidFill>
                  <a:latin typeface="Arial"/>
                </a:rPr>
                <a:t>Medžiag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>
                  <a:solidFill>
                    <a:srgbClr val="000000"/>
                  </a:solidFill>
                  <a:latin typeface="Arial"/>
                </a:rPr>
                <a:t>Kapital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>
                  <a:solidFill>
                    <a:srgbClr val="000000"/>
                  </a:solidFill>
                  <a:latin typeface="Arial"/>
                </a:rPr>
                <a:t>Duomeny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33520" y="2962440"/>
              <a:ext cx="2133360" cy="558720"/>
            </a:xfrm>
            <a:prstGeom prst="rect">
              <a:avLst/>
            </a:prstGeom>
            <a:gradFill rotWithShape="0">
              <a:gsLst>
                <a:gs pos="0">
                  <a:srgbClr val="b1b146"/>
                </a:gs>
                <a:gs pos="50000">
                  <a:srgbClr val="ffff66"/>
                </a:gs>
                <a:gs pos="100000">
                  <a:srgbClr val="b1b1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Išteklia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2209680" y="5746680"/>
            <a:ext cx="4876920" cy="425520"/>
          </a:xfrm>
          <a:prstGeom prst="rect">
            <a:avLst/>
          </a:prstGeom>
          <a:gradFill rotWithShape="0">
            <a:gsLst>
              <a:gs pos="0">
                <a:srgbClr val="b1b146"/>
              </a:gs>
              <a:gs pos="50000">
                <a:srgbClr val="ffff66"/>
              </a:gs>
              <a:gs pos="100000">
                <a:srgbClr val="b1b1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68360" y="5716440"/>
            <a:ext cx="4751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Grįžtamasis ryš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3871800"/>
            <a:ext cx="895320" cy="890640"/>
          </a:xfrm>
          <a:prstGeom prst="rightArrow">
            <a:avLst>
              <a:gd name="adj1" fmla="val 50000"/>
              <a:gd name="adj2" fmla="val 25150"/>
            </a:avLst>
          </a:prstGeom>
          <a:gradFill rotWithShape="0">
            <a:gsLst>
              <a:gs pos="0">
                <a:srgbClr val="7e7e32"/>
              </a:gs>
              <a:gs pos="50000">
                <a:srgbClr val="ffff66"/>
              </a:gs>
              <a:gs pos="100000">
                <a:srgbClr val="7e7e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211560" y="2935440"/>
            <a:ext cx="2797200" cy="2624040"/>
            <a:chOff x="3211560" y="2935440"/>
            <a:chExt cx="2797200" cy="2624040"/>
          </a:xfrm>
        </p:grpSpPr>
        <p:sp>
          <p:nvSpPr>
            <p:cNvPr id="125" name=""/>
            <p:cNvSpPr/>
            <p:nvPr/>
          </p:nvSpPr>
          <p:spPr>
            <a:xfrm>
              <a:off x="3211560" y="3483000"/>
              <a:ext cx="2797200" cy="2076480"/>
            </a:xfrm>
            <a:prstGeom prst="rect">
              <a:avLst/>
            </a:prstGeom>
            <a:gradFill rotWithShape="0">
              <a:gsLst>
                <a:gs pos="0">
                  <a:srgbClr val="b1b146"/>
                </a:gs>
                <a:gs pos="50000">
                  <a:srgbClr val="ffff66"/>
                </a:gs>
                <a:gs pos="100000">
                  <a:srgbClr val="b1b1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>
                  <a:solidFill>
                    <a:srgbClr val="000000"/>
                  </a:solidFill>
                  <a:latin typeface="Arial"/>
                </a:rPr>
                <a:t>Valdym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>
                  <a:solidFill>
                    <a:srgbClr val="000000"/>
                  </a:solidFill>
                  <a:latin typeface="Arial"/>
                </a:rPr>
                <a:t>Darbuotoja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>
                  <a:solidFill>
                    <a:srgbClr val="000000"/>
                  </a:solidFill>
                  <a:latin typeface="Arial"/>
                </a:rPr>
                <a:t>Technologij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>
                  <a:solidFill>
                    <a:srgbClr val="000000"/>
                  </a:solidFill>
                  <a:latin typeface="Arial"/>
                </a:rPr>
                <a:t>Operacij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11560" y="2935440"/>
              <a:ext cx="2797200" cy="574560"/>
            </a:xfrm>
            <a:prstGeom prst="rect">
              <a:avLst/>
            </a:prstGeom>
            <a:gradFill rotWithShape="0">
              <a:gsLst>
                <a:gs pos="0">
                  <a:srgbClr val="b1b146"/>
                </a:gs>
                <a:gs pos="50000">
                  <a:srgbClr val="ffff66"/>
                </a:gs>
                <a:gs pos="100000">
                  <a:srgbClr val="b1b1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Transformacij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692360" y="992160"/>
            <a:ext cx="652608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ffffff"/>
                </a:solidFill>
                <a:latin typeface="Arial"/>
              </a:rPr>
              <a:t>Organizacijos aplin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66880" y="1905120"/>
            <a:ext cx="3810240" cy="838080"/>
          </a:xfrm>
          <a:prstGeom prst="rect">
            <a:avLst/>
          </a:prstGeom>
          <a:gradFill rotWithShape="0">
            <a:gsLst>
              <a:gs pos="0">
                <a:srgbClr val="b1b146"/>
              </a:gs>
              <a:gs pos="50000">
                <a:srgbClr val="ffff66"/>
              </a:gs>
              <a:gs pos="100000">
                <a:srgbClr val="b1b1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Atvira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B425-AE66-4EF2-BD2F-8EB96E558564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Organizacija – atvira sistem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Gauna išteklius iš aplinkos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Transformuoja juos į rezultatus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tiduoda rezultatus aplinka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9A5C-DBC1-476D-BFC2-F9387E70E63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Autori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1280" y="2276640"/>
            <a:ext cx="7929360" cy="34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Katz; Kah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L. Bertalanf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A. Rappo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K. Boul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H. Sim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J. M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M. Bla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W. Scott ir ki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43E0-9EE6-4A9A-B2CB-667DBB7520E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Organizacijų – kaip atvirų sistemų charakteristikos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Energijos ir skatinimo svarba (žmonės, medžiago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Medžiagų konversijos procesai ir su tuo susiję darbinės veikl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tiduodami produkt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Procesų cikliškum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Negatyvi atrofi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000000"/>
                </a:solidFill>
                <a:latin typeface="Tahoma"/>
              </a:rPr>
              <a:t>Katz and Kahn, 1966m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231C-2860-47A8-9623-0B61A7DBB9B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5-03T11:01:54Z</dcterms:modified>
  <cp:revision>48</cp:revision>
  <dc:subject/>
  <dc:title>Introduction to Management</dc:title>
</cp:coreProperties>
</file>