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3B5-30B8-45F4-B28C-459FD38D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E91-3D0B-4E93-9782-FD44C1A2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88F-D0ED-4DF9-A8FC-9ECE778C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830-4466-4629-9E5B-7AFE6B74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CDA7-45B6-4428-9FC8-7B288C7B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1938-2F7E-4EAE-8AC8-1AFE3173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5134-D9E2-426D-9FF5-64D3C541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5F69-0FEC-4F4A-8A41-74231931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8579-DC22-4EF3-8ED4-B4F3CBC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3ADC-68AB-43E4-9D8C-29A70946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7236-06ED-4B54-812C-5B12C73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720-C933-457A-8B0C-8ACF4407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AA9F-FFAE-4320-8049-45A5A690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F620-38E3-483E-AC58-01151E7F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A4B3-2D32-48A4-8AD2-5E283EE6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5338-9215-4615-8FDA-57C64408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BF45-F4B2-4855-8EAA-0A0D693F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E76-A67F-4436-A8D7-ED8A7839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5FE-878B-4230-9596-A65C244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15D-99BB-49CD-99F7-093E550B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BF9-F154-412F-9751-7BEA67F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FF1-EF92-4BAD-BA9C-D58B4A80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DF3-47FE-4E9C-957D-460D82E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304-B089-4FB9-8A48-2A56982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5FFB-F030-4FF2-910B-39DE1F5FBC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76D2-09E9-4D89-921D-9575FDC846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oderniosios vadybos te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91F8-CFF2-42F4-B87B-6EAB5CB0189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ėkmingų organizacijų teorij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 valdymas kompleksinis, integruotas daugybės vadybos sudėtinių elementų realizavimas, siekiant organizacijos tikslų ir sėkmingos veik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A17-CF92-4568-B846-DC8E93E4DE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os klasikinės vadybos teorijos ir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s kompleksinio valdymo metodų taikymas, taigi ir vadybos teorijų studijavimo, poreik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okslas tapo svarbia, būtina, objektyviai neišvengiama socialinių mokslų visumos dalim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5D9-7BAE-433D-987D-F22CBA33C7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235-369B-4F62-B47B-CA6671B2AA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20A-9FEF-447A-A5AF-27DF421156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eorij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239920"/>
            <a:ext cx="749124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tuatyv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ikslinio valdymo teorij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stem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Organizacinio vystymo ir strateginio valdymo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ėkmingų organizacijų teorijo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153-05D3-4B8B-990A-230D4A7B1D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CEF-18B4-4830-BAFB-C24EC96121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9B1-5933-4036-9932-F94118DCA7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019-339A-4618-A406-CA5A9AA48C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nio vystymo ir strateginio valdymo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veikia nuolat besikeičiančioje aplinkoje. Tokios sąlygos verčia keisti požiūrį į valdymą, kad tai nėra periodinių ar vienkartinių veiksmų seka, tačiau nuolatinis, tęstinis procesas, orientuotas į ilgalaikę perspektyv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E1C-7955-474D-B231-A9E6D2212D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Strateg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Organizacijos veiklos ir gyvavimo tolimesnėje ateityje perspektyvinis mode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72D-953D-439A-93D3-C5F9BDA2A8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21Z</dcterms:modified>
  <cp:revision>47</cp:revision>
  <dc:subject/>
  <dc:title>Introduction to Management</dc:title>
</cp:coreProperties>
</file>