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724-1AD6-4A66-840F-8DAC8EBC7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B30C-F0F9-4CAD-8FE2-2439C562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16000" y="65088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32440" cy="41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18D-1B0F-4A66-9C70-34ABDCC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962-C7B5-48E2-8D3F-C831CD12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36F-5F36-4E51-B069-BE7CCB08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F9A-1DED-4E26-BE91-CBA04F5D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1699-BEA3-47AB-8DB0-83B9058E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66A9-4663-4C0C-8654-04A75805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AA45-BB6E-4D66-B690-E7A76CC8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77B5-64C0-4576-8036-1BE5F947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0B5C-A23E-4972-8E42-49571F3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A8C6-E2B5-4FB1-BC11-B02361B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41A-A326-4C12-8D2B-05F9D6E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D1B-2DCE-492C-8E08-8250A6E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2586-598B-4BAB-9DBA-3DE94B3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D7BA-3268-49DB-9F17-91B114D9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F506-5840-4221-8171-5ACE0691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0390-D8F3-45D3-9156-03EBF3A8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7C79-C289-42C9-8E9E-C633BF5F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614-4634-4514-BBE3-2379AA7A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A25-2D58-4813-8D9A-D5B4E83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C00-14A7-4336-A44E-C056339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440-5721-4E28-865E-6BC6347D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CD1-D0A7-423D-B14B-8DCD4E5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320-4883-4149-9D79-825B653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DC1-1542-4661-AC11-5ECA22A6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B62A-57F5-4DF4-B104-5211CAB97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14B2-855B-4BFF-8E16-DE603AF984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A2BA-A74F-4846-ACD9-6E37ABFF7A3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proble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i top valdymo lygmens pa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profesionaliai suformuluot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us pažangos monitorin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ug popierinio da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ikui imlus dar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575-B00B-49AA-87BD-9156F8936D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lanavimo efektyvu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panijoje naudojamus metodus, technikas, priemones ir sistemas. Pokyčiai ir nauji būdai didina klaidos tikimyb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katinti dalyvavimą planavime. Kuo daugiau organizacijos žmonių dalyvauja tuo didesnis lojalumas ir pasitikėjimas užtikrin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unikaciją ir didinti informuotumą. Tikslų ir veiklų sąveikos suvokimas svarbus planavimo sėkm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0F3-FED7-4641-BC86-687CEB650A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i individualių ir organizacijos tikslų derinimo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darbuotojų dalyvavimo planavime ir tikslų nustatyme svarb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plėtota “tikslo nuosavybės” koncepcij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formuota MBO samprata bei nustatyti tikslinio valdymo organizacijose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6AD-7E08-4441-9380-9BD6077E68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kslinio valdymo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722-8D47-4894-8E59-9806C940EA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ovavimas žmonėms ir įtraukimas į valdymą tampa vis svarbesniu vadybos ob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20E-48DB-476B-8054-75438E7AA8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E14-6605-4F4E-8A3C-6394D3B34F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H. To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. Carro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Odi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997-D293-4552-929D-E012E7C4E3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ini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ldym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MBO)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 žing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darbo reikalavi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plėtoti potencialius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statyti kontrolės sr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įvertinti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821-CD28-4700-B6DA-F90856EE40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nkos poveik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per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ildoma motyv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ankstiniai susitarim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ištekl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cijos vertyb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78B-09F8-45CC-9E60-7A0A02FDA9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subjek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ija - strateg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t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funkciniai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yv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em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C12-6136-4F29-B0B9-D03D8A6CB3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nau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horizont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išteklių panaudoji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vertik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bulinami pažangos vertinimo kriteri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planavimo proc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1EB-2E31-4D11-97A7-5F935ABA73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2:11Z</dcterms:modified>
  <cp:revision>48</cp:revision>
  <dc:subject/>
  <dc:title>Introduction to Management</dc:title>
</cp:coreProperties>
</file>