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3019-ADEE-4195-908F-E6A6B6783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5179-312E-4EC1-A492-743247FDD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BF38-C655-40DE-8958-EEEA90216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F92E-AC32-44DF-AC8A-1243F9992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8716-7C37-4EA7-89A4-CDBA7FA20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815-C4AD-4220-AAA6-9895F0E4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F3D-F12F-4C18-B1F2-12B683D2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F4A-405F-4A41-BA46-3A96F9A2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2F0-BEAC-470A-924C-1D00D39C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546D-3AA3-4FFF-A620-467079AE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2529-0D96-4191-91EC-DECB86BD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EB2F-2CA9-47E4-A184-822587D9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1676-B3AB-4C57-9638-8892E764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498A-3A65-453B-AC91-3DA3FF2B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E864-BC7F-4FE2-BB32-30C261A0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3AEE-05FA-4D3B-9C46-3062ED75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65E-1B88-4570-AA2B-742F54A5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59C7-4E38-41A3-B4DE-62013A2A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89B1-EE1E-4BA2-ABD8-140522D5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3BA9-448D-471E-BA96-B2205140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7FEC-AD5E-4A98-855D-B4FC12C7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4DFF-9BCF-42F2-AE45-D114114E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8CA-D19E-4AEE-9934-92C0D362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AC3-1709-4122-BEF7-ECC82672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6D6-C35E-4F08-9417-5628F77D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C26-82AE-488C-830F-21916E21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7D0-3AC5-440B-A5A8-4C7AB62D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EB6-F255-409D-B20E-7A12CC5A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761-7EB2-488E-872E-B716EFA0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D847-76D6-4208-A50E-FF8AF98334F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C77A-8314-4FCB-AFBA-F29A4DD3D1D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adybos mokslo mokykla: kiekybinės valdymo teorijo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CDF0-1578-4BB7-8201-1B60EDB7CF4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74280" y="636480"/>
            <a:ext cx="73407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šteklių modeliai</a:t>
            </a: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 (EOQ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udojama sprendžiant, kiek ir kokiu metu žaliavų užsaky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idaro kaštai, užsakant žaliavas ir jas laikant sandėly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i užsakymai bus reti - užsakymo kaštai bus maži, bet saugojimo - didel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i užsakymai bus dažni - užsakymo kaštai bus dideli, o saugojimo - maž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ištekli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deliai siekia nustatyti balanso tašką, kuomet šie kaštai mažiau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C66-AFF2-4B08-AB75-C03E95A157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Kritinio kelio metodas (CPM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uPont kompanijos sukurta planavimo ir kontrolės kompiuterizuota diagrama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6-195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uja Gantt diagramos vers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eiklų apimties ir laiko vaizdavi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trėlėms vaizduojamas kritinis (optimalus) veiklų atlikimo grafik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D59-E619-4980-AB15-AAF8345477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ERT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rogramos vertinimo ir peržiūros technika (Program Evalution and Review Techn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ukurtas JAV jūrų laivyn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8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rta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veiklų tinklo (sistemos) planavimui, ryšių nustatymui, jų tarpusavio ryšio vaizdavimui la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tatistinės tikimybės naudojimas trijų scenarijų suformavimui (optimistiniam, labiausiai tikėtinam, pesimistinia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38C-605D-48C8-B824-5962791CF6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76520" y="1415880"/>
            <a:ext cx="373068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05120" y="5372280"/>
            <a:ext cx="380664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29080" y="4822920"/>
            <a:ext cx="14623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Slac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10080" y="5491080"/>
            <a:ext cx="13053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7920" y="4727520"/>
            <a:ext cx="3738240" cy="145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37040" y="470700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440" y="4876920"/>
            <a:ext cx="2733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Optimal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0240" y="5465880"/>
            <a:ext cx="1555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laik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9320" y="1125360"/>
            <a:ext cx="2486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Activ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7920" y="695160"/>
            <a:ext cx="3738240" cy="145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37040" y="67464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59480" y="1100160"/>
            <a:ext cx="1959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Veik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0" y="4822920"/>
            <a:ext cx="189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Critic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64800" y="5491080"/>
            <a:ext cx="1212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Pa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6560" y="4727520"/>
            <a:ext cx="3738600" cy="145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6040" y="470700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2960" y="4797360"/>
            <a:ext cx="1927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Kritin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05320" y="5465880"/>
            <a:ext cx="1555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kel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53040" y="1125360"/>
            <a:ext cx="1834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6560" y="695160"/>
            <a:ext cx="3738600" cy="145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6040" y="67464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93920" y="1100160"/>
            <a:ext cx="17107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Įvyki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74680" y="2662200"/>
            <a:ext cx="1829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8080"/>
                </a:solidFill>
                <a:latin typeface="Arial"/>
              </a:rPr>
              <a:t>PE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8280" y="3483000"/>
            <a:ext cx="3087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8080"/>
                </a:solidFill>
                <a:latin typeface="Arial"/>
              </a:rPr>
              <a:t>Networ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10000" y="2444760"/>
            <a:ext cx="4024080" cy="1987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89120" y="2424240"/>
            <a:ext cx="4017960" cy="1979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49120" y="2637000"/>
            <a:ext cx="1829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PE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8640" y="3429000"/>
            <a:ext cx="2363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ffffff"/>
                </a:solidFill>
                <a:latin typeface="Arial"/>
              </a:rPr>
              <a:t>Tinkl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2480" y="2119320"/>
            <a:ext cx="296640" cy="1312920"/>
          </a:xfrm>
          <a:custGeom>
            <a:avLst/>
            <a:gdLst/>
            <a:ahLst/>
            <a:rect l="l" t="t" r="r" b="b"/>
            <a:pathLst>
              <a:path w="376" h="1653">
                <a:moveTo>
                  <a:pt x="48" y="0"/>
                </a:moveTo>
                <a:lnTo>
                  <a:pt x="0" y="0"/>
                </a:lnTo>
                <a:lnTo>
                  <a:pt x="0" y="1629"/>
                </a:lnTo>
                <a:lnTo>
                  <a:pt x="0" y="1653"/>
                </a:lnTo>
                <a:lnTo>
                  <a:pt x="24" y="1653"/>
                </a:lnTo>
                <a:lnTo>
                  <a:pt x="376" y="1653"/>
                </a:lnTo>
                <a:lnTo>
                  <a:pt x="376" y="1605"/>
                </a:lnTo>
                <a:lnTo>
                  <a:pt x="24" y="1605"/>
                </a:lnTo>
                <a:lnTo>
                  <a:pt x="24" y="1629"/>
                </a:lnTo>
                <a:lnTo>
                  <a:pt x="48" y="1629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92480" y="3394080"/>
            <a:ext cx="296640" cy="1312920"/>
          </a:xfrm>
          <a:custGeom>
            <a:avLst/>
            <a:gdLst/>
            <a:ahLst/>
            <a:rect l="l" t="t" r="r" b="b"/>
            <a:pathLst>
              <a:path w="376" h="1653">
                <a:moveTo>
                  <a:pt x="0" y="1653"/>
                </a:moveTo>
                <a:lnTo>
                  <a:pt x="48" y="1653"/>
                </a:lnTo>
                <a:lnTo>
                  <a:pt x="48" y="24"/>
                </a:lnTo>
                <a:lnTo>
                  <a:pt x="24" y="24"/>
                </a:lnTo>
                <a:lnTo>
                  <a:pt x="24" y="48"/>
                </a:lnTo>
                <a:lnTo>
                  <a:pt x="376" y="48"/>
                </a:lnTo>
                <a:lnTo>
                  <a:pt x="376" y="0"/>
                </a:lnTo>
                <a:lnTo>
                  <a:pt x="24" y="0"/>
                </a:lnTo>
                <a:lnTo>
                  <a:pt x="0" y="0"/>
                </a:lnTo>
                <a:lnTo>
                  <a:pt x="0" y="24"/>
                </a:lnTo>
                <a:lnTo>
                  <a:pt x="0" y="16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05640" y="2119320"/>
            <a:ext cx="214200" cy="1312920"/>
          </a:xfrm>
          <a:custGeom>
            <a:avLst/>
            <a:gdLst/>
            <a:ahLst/>
            <a:rect l="l" t="t" r="r" b="b"/>
            <a:pathLst>
              <a:path w="272" h="1653">
                <a:moveTo>
                  <a:pt x="272" y="0"/>
                </a:moveTo>
                <a:lnTo>
                  <a:pt x="224" y="0"/>
                </a:lnTo>
                <a:lnTo>
                  <a:pt x="224" y="1629"/>
                </a:lnTo>
                <a:lnTo>
                  <a:pt x="248" y="1629"/>
                </a:lnTo>
                <a:lnTo>
                  <a:pt x="248" y="1605"/>
                </a:lnTo>
                <a:lnTo>
                  <a:pt x="0" y="1605"/>
                </a:lnTo>
                <a:lnTo>
                  <a:pt x="0" y="1653"/>
                </a:lnTo>
                <a:lnTo>
                  <a:pt x="248" y="1653"/>
                </a:lnTo>
                <a:lnTo>
                  <a:pt x="272" y="1653"/>
                </a:lnTo>
                <a:lnTo>
                  <a:pt x="272" y="1629"/>
                </a:lnTo>
                <a:lnTo>
                  <a:pt x="2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05640" y="3394080"/>
            <a:ext cx="214200" cy="1312920"/>
          </a:xfrm>
          <a:custGeom>
            <a:avLst/>
            <a:gdLst/>
            <a:ahLst/>
            <a:rect l="l" t="t" r="r" b="b"/>
            <a:pathLst>
              <a:path w="272" h="1653">
                <a:moveTo>
                  <a:pt x="224" y="1653"/>
                </a:moveTo>
                <a:lnTo>
                  <a:pt x="272" y="1653"/>
                </a:lnTo>
                <a:lnTo>
                  <a:pt x="272" y="24"/>
                </a:lnTo>
                <a:lnTo>
                  <a:pt x="272" y="0"/>
                </a:lnTo>
                <a:lnTo>
                  <a:pt x="248" y="0"/>
                </a:lnTo>
                <a:lnTo>
                  <a:pt x="0" y="0"/>
                </a:lnTo>
                <a:lnTo>
                  <a:pt x="0" y="48"/>
                </a:lnTo>
                <a:lnTo>
                  <a:pt x="248" y="48"/>
                </a:lnTo>
                <a:lnTo>
                  <a:pt x="248" y="24"/>
                </a:lnTo>
                <a:lnTo>
                  <a:pt x="224" y="24"/>
                </a:lnTo>
                <a:lnTo>
                  <a:pt x="224" y="16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01B-D246-4D01-B332-3399FDF9257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839880" y="534960"/>
            <a:ext cx="7629480" cy="5591160"/>
            <a:chOff x="839880" y="534960"/>
            <a:chExt cx="7629480" cy="5591160"/>
          </a:xfrm>
        </p:grpSpPr>
        <p:sp>
          <p:nvSpPr>
            <p:cNvPr id="219" name=""/>
            <p:cNvSpPr/>
            <p:nvPr/>
          </p:nvSpPr>
          <p:spPr>
            <a:xfrm>
              <a:off x="3497400" y="1384200"/>
              <a:ext cx="0" cy="1114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51640" y="1079640"/>
              <a:ext cx="0" cy="1419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1680" y="2492280"/>
              <a:ext cx="0" cy="3248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282760" y="2451240"/>
              <a:ext cx="101520" cy="3324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63520" y="552276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63520" y="468792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63520" y="3849840"/>
              <a:ext cx="6823080" cy="60300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3520" y="301140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3520" y="217332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9880" y="534960"/>
              <a:ext cx="7629480" cy="132732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PERT </a:t>
              </a:r>
              <a:r>
                <a:rPr b="1" lang="lt-LT" sz="4000" spc="-1" strike="noStrike">
                  <a:solidFill>
                    <a:srgbClr val="ffffff"/>
                  </a:solidFill>
                  <a:latin typeface="Arial"/>
                </a:rPr>
                <a:t>tinklo kūrimo žingsniai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914400" y="2057400"/>
            <a:ext cx="7261200" cy="43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dentifikuoti visas veikl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ustatyti įvykdymo eiliškum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tvaizduoti veiklų srautą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Įvertinti veiklų atlikimo la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formuoti projekto graf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48B-E98E-4939-A7F4-D4ADAD944B6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ūžio taško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omas momentas, kuomet kaštai yra lygūs pajam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omeny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ovūs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tam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dr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eneto ka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A5A-D3E3-4EF7-AD0C-8C26B81406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533520"/>
            <a:ext cx="9078840" cy="6084360"/>
            <a:chOff x="0" y="533520"/>
            <a:chExt cx="9078840" cy="6084360"/>
          </a:xfrm>
        </p:grpSpPr>
        <p:sp>
          <p:nvSpPr>
            <p:cNvPr id="233" name=""/>
            <p:cNvSpPr/>
            <p:nvPr/>
          </p:nvSpPr>
          <p:spPr>
            <a:xfrm flipV="1">
              <a:off x="1858320" y="2468160"/>
              <a:ext cx="5625000" cy="3496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81640" y="853920"/>
              <a:ext cx="1800" cy="5094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744560" y="5986080"/>
              <a:ext cx="5836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4800" y="533520"/>
              <a:ext cx="1101960" cy="52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$9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85840" y="5941800"/>
              <a:ext cx="517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25200" y="3555720"/>
              <a:ext cx="391680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-733320" y="3057840"/>
              <a:ext cx="1830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ffffff"/>
                  </a:solidFill>
                  <a:latin typeface="Arial"/>
                </a:rPr>
                <a:t>Pajamos/kašta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26920" y="6254640"/>
              <a:ext cx="2657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ffffff"/>
                  </a:solidFill>
                  <a:latin typeface="Arial"/>
                </a:rPr>
                <a:t>Pardavimai (tūkst. Vnt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7860000">
              <a:off x="5306760" y="2991240"/>
              <a:ext cx="228240" cy="658080"/>
            </a:xfrm>
            <a:prstGeom prst="triangle">
              <a:avLst>
                <a:gd name="adj" fmla="val 49977"/>
              </a:avLst>
            </a:prstGeom>
            <a:solidFill>
              <a:srgbClr val="fcd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823040" y="3048840"/>
              <a:ext cx="5676840" cy="1641240"/>
            </a:xfrm>
            <a:prstGeom prst="line">
              <a:avLst/>
            </a:prstGeom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81800" y="2771640"/>
              <a:ext cx="2239560" cy="391680"/>
            </a:xfrm>
            <a:prstGeom prst="rect">
              <a:avLst/>
            </a:prstGeom>
            <a:solidFill>
              <a:srgbClr val="fcd1b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05040" y="4652640"/>
              <a:ext cx="579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7860000">
              <a:off x="6127200" y="2388240"/>
              <a:ext cx="228240" cy="823320"/>
            </a:xfrm>
            <a:prstGeom prst="triangle">
              <a:avLst>
                <a:gd name="adj" fmla="val 49977"/>
              </a:avLst>
            </a:prstGeom>
            <a:solidFill>
              <a:srgbClr val="eb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66680" y="2806560"/>
              <a:ext cx="230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Lūžio tašk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01760" y="2223720"/>
              <a:ext cx="1839600" cy="392040"/>
            </a:xfrm>
            <a:prstGeom prst="rect">
              <a:avLst/>
            </a:prstGeom>
            <a:solidFill>
              <a:srgbClr val="ebd3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86640" y="2257200"/>
              <a:ext cx="190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000000"/>
                  </a:solidFill>
                  <a:latin typeface="Arial Narrow"/>
                </a:rPr>
                <a:t>Bendros pajam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9680000">
              <a:off x="6501600" y="3321000"/>
              <a:ext cx="239760" cy="626400"/>
            </a:xfrm>
            <a:prstGeom prst="triangle">
              <a:avLst>
                <a:gd name="adj" fmla="val 49977"/>
              </a:avLst>
            </a:prstGeom>
            <a:solidFill>
              <a:srgbClr val="9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61880" y="3790800"/>
              <a:ext cx="1519920" cy="391680"/>
            </a:xfrm>
            <a:prstGeom prst="rect">
              <a:avLst/>
            </a:prstGeom>
            <a:solidFill>
              <a:srgbClr val="9fff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46760" y="3825720"/>
              <a:ext cx="1583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Bendri kašta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08360" y="4673520"/>
              <a:ext cx="1355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fc0128"/>
                  </a:solidFill>
                  <a:latin typeface="Arial"/>
                </a:rPr>
                <a:t>Nuostol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fc0128"/>
                  </a:solidFill>
                  <a:latin typeface="Arial"/>
                </a:rPr>
                <a:t>zon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22040" y="1439640"/>
              <a:ext cx="959760" cy="70452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9840000">
              <a:off x="7081560" y="2015280"/>
              <a:ext cx="239760" cy="783720"/>
            </a:xfrm>
            <a:prstGeom prst="triangle">
              <a:avLst>
                <a:gd name="adj" fmla="val 49977"/>
              </a:avLst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3440" y="1473120"/>
              <a:ext cx="749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Pel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zon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75720" y="5180040"/>
              <a:ext cx="1371240" cy="239760"/>
            </a:xfrm>
            <a:prstGeom prst="triangle">
              <a:avLst>
                <a:gd name="adj" fmla="val 49977"/>
              </a:avLst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541640" y="3125520"/>
              <a:ext cx="1537200" cy="2573280"/>
              <a:chOff x="7541640" y="3125520"/>
              <a:chExt cx="1537200" cy="2573280"/>
            </a:xfrm>
          </p:grpSpPr>
          <p:sp>
            <p:nvSpPr>
              <p:cNvPr id="258" name=""/>
              <p:cNvSpPr/>
              <p:nvPr/>
            </p:nvSpPr>
            <p:spPr>
              <a:xfrm rot="5400000">
                <a:off x="6897960" y="3768840"/>
                <a:ext cx="1526760" cy="239760"/>
              </a:xfrm>
              <a:prstGeom prst="triangle">
                <a:avLst>
                  <a:gd name="adj" fmla="val 49977"/>
                </a:avLst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840" y="3511080"/>
                <a:ext cx="118440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intami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ašta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65200" y="5000040"/>
                <a:ext cx="13136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Pastovū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ašta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713560" y="3605040"/>
              <a:ext cx="0" cy="232200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51760" y="5941800"/>
              <a:ext cx="76680" cy="74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352680" y="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ffff"/>
                </a:solidFill>
                <a:latin typeface="Arial"/>
              </a:rPr>
              <a:t>Lūžio taško analiz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55FF-65CA-47E3-A105-1FEECA94529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ūžio taško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2514600"/>
            <a:ext cx="528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ov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ū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 = ---------------------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ina - Kintam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F51-21CA-4998-8AE9-3A61C3356A3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ūsimoji vertė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V - procedūra, kurios metu analizuojama būsimoji hipotetinė įvairių alternatyvų vertė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ocedū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yti skirtingas alternatyvas ir rezultat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yti galimybes, kurios gali atsiras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Įvertinti būsimąją kiekvienos jų vert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D97-9981-423C-BD71-D8DD50E7C01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ūsimosios vertės skaičiavimo pvz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47600" y="2022480"/>
            <a:ext cx="68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trategi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uosto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2556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       $200 pelnas               $500 (nuosto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48320" y="3013200"/>
            <a:ext cx="73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       $400 pelnas               $300 (nuosto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45440" y="377496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s/nuostolio įvertini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34840" y="423216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  Sėkmė = .8          Nuostolis = 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36640" y="46483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  Sėkmė = .5          Nuostolis = 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3080" y="5375160"/>
            <a:ext cx="77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uostol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B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$200 x .8 = $160 + ($500) x .2 = ($100) = $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74880" y="624852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$400 x .5 = $200 + ($300) x .5 = ($150) = $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E16-0A46-442E-86A1-519E1F77A73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askaitos tiksl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38400" y="2292480"/>
            <a:ext cx="763560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pibūdinti vadybos mokslo mokyklos susiformavimo prielaid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ristatyti pagrindinius kiekybiniu metodus ir technik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pžvelgti kiekybinės teorijos nuopelnus vadybos mokslu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72C-17CD-4478-B7B3-B54EB51FD4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Gamybos ir žaliavų planavimo technik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71520" indent="-371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RP (Material Requirements Planning) – Žaliavų poreikio planavimo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kirta detalių (subproduktų) tiekimo planavimui gamyboje, tiekiant pagal poreik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1520" indent="-371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anban” (Just in time)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kirta itin tiksliam žaliavų ir medžiagų tiekimo planavim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ekiama pagal iš anksto sudarytą graf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kslas – nėra atsarg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ekiam kada reikia – svarbiausiai – laikas, o ne kiek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6F6-F43B-4D1A-9031-241B45F862B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Nuopelnai vadybos mokslui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atematinių metodų taikymo plė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Gamybos valdymo racionalizav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lanavimo ir kontrolės metodų taikymas valdy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aujų metodų sukūr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etodų taikymas prognozav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ompiuterinių technologijų diegimas organizacijų valdyme, siekiant įsisavinti naujus planavimo ir kontrolės metod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667-A9D5-40C3-AEBE-01E5F14B2C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rielaidos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nkstesnių autorių – Babbage, Taylor, Gantt, Gilbreth, Emerson taikyti kiekybiniai valdymo principa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II ir IV dešimtmetyje sumažėjęs dėmesys produktyvumo valdymui ir išaugęs sociopsichologiniams valdymo aspekt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Didžiosios depresijos pabaiga ir II pasaulinis karas sąlygojo didelių kompanijų skaičiaus augim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Formavosi nauja racionalaus organizacijų valdymo aplinka, palanki moksliniams valdymo metod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7D2-5DE1-4916-A209-AB3C3B4F71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Operacijų tyrimų komand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30592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Komandos suformuotos iš įvairių sričių specialist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Britai suformavo pirmąsias tokias komandas, radarų sistemų kūrimui, skirtų civilinei apsaugai II Pasaulinio karo met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Viena geriausiai žinomų prof. Blackett komanda, sudaryta iš trijų psichologų, dviejų matematikų, vieno astro-fizikų, dviejų matematikos fizikų, vieno armijos karininko, vieno tyrė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JAV  - Arthur D. Little, Inc. privačios konsultacinės kompanijos veikla operacijų tyrimų srity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2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rta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Amerikos operacijų tyrimų asociacija, pradėtas leisti žurnala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Operacijų tyrima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3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Vadybos mokslo institutas (TIMS) pradėjo leisti leidinį “Vadybos mokslas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B41-34CA-4006-9EFB-F0CD1E14C6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bjektas – gamybos valdym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enojo požiūrio į gamybos valdymą kai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uo darbo organizavimo modelių link matematinių – statistinių metod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aujasis vadybos mokslas – orientuotas į valdymo problemų sprendimą, naudojant specifines technikas, analizuojančias kiekybinius kintamuosius ir ryšius tarp j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formuota eilė kiekybinių technikų, naudojamų gamybos valdy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40B-0488-47EB-8DDC-9B14E8FE2D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Kiekybinės technik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sini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programav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Eilių model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teklių modeliai (EOQ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ritinio kelio metodas (CP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ERT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Lūžio taško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ūsimosios vertės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iti: MRP, Kanb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3CD9-5FA2-4E06-81DA-E2393ADA4A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iesinis programavim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alaus išteklių kiekio ir kombinacijos nustatym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ekiama su ribotais ištekliais maksimizuoti naudą ir minimizuoti nuostol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yzdžia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mybos grafikų sudarym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Žmonių pritraukimas projektų vykdymu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timalių maršrutų nustatym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5DE-2EB7-4823-AD53-E7C9C60D00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62120" y="304920"/>
            <a:ext cx="7629480" cy="5591160"/>
            <a:chOff x="762120" y="304920"/>
            <a:chExt cx="7629480" cy="5591160"/>
          </a:xfrm>
        </p:grpSpPr>
        <p:sp>
          <p:nvSpPr>
            <p:cNvPr id="167" name=""/>
            <p:cNvSpPr/>
            <p:nvPr/>
          </p:nvSpPr>
          <p:spPr>
            <a:xfrm>
              <a:off x="3419640" y="1154160"/>
              <a:ext cx="0" cy="111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3880" y="849600"/>
              <a:ext cx="0" cy="1419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03920" y="2262240"/>
              <a:ext cx="0" cy="324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5000" y="2221200"/>
              <a:ext cx="101520" cy="332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85760" y="529272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85760" y="445788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85760" y="3619800"/>
              <a:ext cx="6823080" cy="60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85760" y="278136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85760" y="194328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120" y="304920"/>
              <a:ext cx="7629480" cy="144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ffff"/>
                  </a:solidFill>
                  <a:latin typeface="Times New Roman"/>
                </a:rPr>
                <a:t>Tiesinio programavimo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ffff"/>
                  </a:solidFill>
                  <a:latin typeface="Times New Roman"/>
                </a:rPr>
                <a:t>efektyv</a:t>
              </a:r>
              <a:r>
                <a:rPr b="0" lang="lt-LT" sz="4000" spc="-1" strike="noStrike">
                  <a:solidFill>
                    <a:srgbClr val="00ffff"/>
                  </a:solidFill>
                  <a:latin typeface="Times New Roman"/>
                </a:rPr>
                <a:t>inima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43120" y="1953720"/>
            <a:ext cx="6858000" cy="39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boti i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kl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Optimizavimo siek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lternatyvios išteklių kombinacij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ultiplikuoti rezultatų derin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intamųjų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sin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ės priklausomybės nustaty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016-2348-441D-BC07-923DE304982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ių modeli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idaro kaštai, naudojant perdaug ar per mažai eilių konkretaus laiko rėmu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lių teorija leidžia įvertinti ir nustatyti optimalų skaičių eilių, minimizuojant kaštus ir maksimizuojant naud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52C-0C92-40DD-89E1-0BD3F8CDD6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6:32Z</dcterms:modified>
  <cp:revision>51</cp:revision>
  <dc:subject/>
  <dc:title>Introduction to Management</dc:title>
</cp:coreProperties>
</file>