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F86-BCF4-4E2A-83E0-D8853DE2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EE5F-BCC1-404D-895D-F8B8DD3A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F7E3-E165-4DBE-9B5A-E1C8ABFA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9B7-5871-4407-9623-51344752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0519-43F5-4917-BB72-1176A7A7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741C-5863-4398-88E0-3EFB0ABA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42C3-C857-4AF7-A959-85443BBC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CE2E-C62E-4D43-8ADB-4DE0D109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499B-622B-4F89-A85E-7CA30371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1C03-4B56-4AE1-A0B0-895770AD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BFCD-F384-4D14-BF8B-749E2E6E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21D7-BE96-4D73-8009-95AEF8FB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8FEC-C105-4C2C-9C1B-DD5D01D7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637B-ACB9-4335-948D-D3006CF6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3F72-A2D4-4563-ABD5-49DE1410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6DF1-151A-4D71-9832-EC63B18D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3E89-B7C5-4853-A6E7-EF190338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4821-9A78-4DF6-8D4C-A376F948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AAC4-0C5C-495A-9A67-F08A5B1A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D65-E9D4-4CFC-BB05-830991F4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A861-6178-4BE1-A030-B40A381E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BC2-AB8E-41C7-AAD6-C4DA7A36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C6FD-78B8-480C-851E-11CFA2DD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993-01D8-4BB9-85D8-CFF78ABC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1C19-FBDB-4CBF-836D-2A22FA2DA65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AA59-0D16-4614-A3F6-80CE3CABDF7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700" spc="-1" strike="noStrike">
                <a:solidFill>
                  <a:srgbClr val="ffffcc"/>
                </a:solidFill>
                <a:latin typeface="Arial"/>
              </a:rPr>
              <a:t>Visuotinio dalyvavimo valdyme (partisipatyvinė) teorija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6939-C0A3-48FC-BF5A-6E95F6145F6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Arial"/>
              </a:rPr>
              <a:t>Nuopelnai vadybos mokslu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agrįsta, kad organizacijos žmonės, dalyvaudami valdymo procese labiau motyvuojami geriau atlikti savo funkcija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Išryškinta, kad kiekvienas žmogus kupinas kūrybingų minčių, taigi yra neišsenkantis naujų idėjų šaltini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agrįsta, kad derinant organizacijos narių ir organizacijos interesus, derinami ir visuomeniniai interesai, kas leidžia organizacijai įsitvirtint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0E3-C6EE-47DB-AB91-FD6B7D8597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0280" y="1981080"/>
            <a:ext cx="808344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Apibūdinti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</a:t>
            </a: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isuotinio dalyvavimo valdyme teorij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s</a:t>
            </a: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 susiformavimo prielaida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ristatyti pagrindinius autori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Apžvelgti jų nuopelnus vadybos mokslui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0CD-143B-4FFA-BBC0-730B6150C3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ffffcc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Klasikinių teorijų ribotas požiūris į žmogaus svarbą organizacijoj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Valdymo ir 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ndim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ų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ri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ė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mo centralizacija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augant organizacijoms darėsi vis sudėtingesnė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Augo darbuotojų nepasitenkinimas motyvacine sistema ir valdymo neefektyvumu organizacijos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Naujų idėjų trūkumas skatino įtraukti vis daugiau žmonių į valdymo procesą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5884-DEA0-4720-BA68-01921B2959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Teorijos ir autoriai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C. Ker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W. Gellerm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K. Perro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T. Pars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R. Liker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bjektas – 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organizacijos darbuotojų dalyvavimas užduočių formavime ir sprendimų priėmim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3CD-894F-4319-8DCE-2C267226A6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Dalyvavimo valdyme galimybės 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C. Kerr,  W. Gellerman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riimant sprendimus organizacijos lygmenyje, į jų rengimo ir priėmimo grupes įtraukiami organizacijos padalinių (grupių) atstovai, turintys atstovavimo teisę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riimant sprendimus padalinio lygmenyje, į jų rengimo ir priėmimo procesą vadovas įtraukia padalinio darbuotojus, su kuriais konsultuojamas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F388-D59F-4FCE-9A9E-5391EDCCDA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Arial"/>
              </a:rPr>
              <a:t>Institucionalizm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Organizacija veikia visuomeninėje aplinkoje, taigi yra visuomenės dalis arba visuomenės institucija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Organizacijai svarbu įsitvirtinti visuomenėje ir būti pripažintai, kaip reikalingai institucijai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Visuotinis dalyvavimas padeda geriau įsitvirtinti visuomenėje, nes atspindi platesnius žmonių ir grupių, t.y. visuomenės interesus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Organizacijos ir visuomenės interesai turi būti suderinti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863-8093-4805-B4BD-39521F594D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Institucinis valdymas 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K. Perrow, T. Parsons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eaeaea"/>
                </a:solidFill>
                <a:latin typeface="Verdana"/>
              </a:rPr>
              <a:t>Gamybinis valdymas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organizacijos, kaip gamybinio – techninio objekto valdym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eaeaea"/>
                </a:solidFill>
                <a:latin typeface="Verdana"/>
              </a:rPr>
              <a:t>Socialinis valdymas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organizacijos, kaip socialinio objekto (žmonių) valdym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eaeaea"/>
                </a:solidFill>
                <a:latin typeface="Verdana"/>
              </a:rPr>
              <a:t>Institucinis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organizacijos, kaip institucinio objekto santykyje su kitais, visuomenėje funkcionuojančiais objektais, valdym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F8E-2428-4179-B04E-9619DC5740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Idealios organizacijos modelis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R. Likert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Organizacijos tikslai nustatomi grupinių svarstymų būdu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Organizacija yra atviras objektas, palaikantis ryšius su kitomis organizacijomi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Sprendimai visuose organizacijos lygiuose priimami, įtraukiant jos narius. Informacijos srautai organizacijoje turi būti subalansuoti – pasiekti organizacijos narius ir išorės institucijas laiku ir tiksliai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8312-616A-4CDF-93DA-04470E22B6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Idealios organizacijos modelis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R. Likert), tęsiny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Darbuotojai motyvuojami įvairiais būdais, ypač naudojant grupinio skatinimo metodus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Visų lygių vadovai pasitiki organizacijos nariais, svarsto ir panaudoja jų teikiamus pasiūlymus ir idėj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Kontrolės funkcijos organizacijoje decentralizuotos, ji vykdoma keliais lygiai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A7E5-694A-4EA7-81D9-87C91EEE2C9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8:52Z</dcterms:modified>
  <cp:revision>41</cp:revision>
  <dc:subject/>
  <dc:title>Introduction to Management</dc:title>
</cp:coreProperties>
</file>