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8F0-0EE5-469C-8129-223CA62F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714-07EE-4A3E-B163-E32472A3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997-874B-4CCE-B789-FC56377F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97D-15E5-4A79-A532-8E013B02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55B6-8FB7-497F-81C2-3AFE5692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DE22-4967-4E45-B542-2E36F4C4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C263-C1FC-4C0F-B861-7C92CE0E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F41C-9C87-40C9-B2D4-7E8CD416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CC48-4FFB-4041-B8DD-2F9DE590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63D9-89BA-495D-8073-07BFDF46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B63-2C10-4833-89EB-B86555AF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B33-B919-4521-B7C4-F0D53441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19D3-1F49-45B9-A1B4-01853BC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53A1-A8A8-4C34-8F78-6AC2F9EE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F7F4-735C-41CE-AFED-149002F7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0DC4-9951-4C69-9B2A-4DF37E31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4F1E-8207-4C8F-8503-6B3BDE20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737-D50A-4FE8-AAA1-6DFE9A4B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F37-50F8-43DC-8277-7C5EA308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BE2-0DF1-41A3-AEC7-69DD25D8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3E4-6ECD-471A-AB33-6684E951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D42-1D51-468C-8DDB-2F782681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F77-2D89-4BD2-96B4-A2F27476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F85-DFD5-48F9-8551-13079B17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857-7BF1-497A-A346-4E7016E78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1BD8-B35E-4AEC-A7B8-BD33605B2C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13BE-3712-445C-A985-F027C956F2B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dovas daro sprendimu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 ir juos “nuleidž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“parduoda”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us ir inicijuoja klaus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ų projektus diskusija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problemą, sulaukia pasiūlymų ir priima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apibrėžia sritį ir ribas bei deleguoja grupei priimti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deleguoja pavaldiniams veikti savo funkcijų ribose ir priimti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0EA-8599-445B-B7CB-9CBA510309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 vadovavimas, pag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įstas poreikių pokyčiais, integruojant užduoties, grupės ir individualius poreik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ituacijos valdymą lemiantys veiksniai (Fiedl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7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Lyderio ir pavaldinio santyk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duoties struktūrizavimo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Pareigybės valdžios ir galios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676-8517-49AB-BD5C-EB8569F4BB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Funkcinis lyderiavimo model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184464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3500280"/>
            <a:ext cx="2665440" cy="252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357336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4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Užduotie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40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rupė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407664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4076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Individualū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19F-391C-4DA8-9A85-01B523CCA8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Lyderiavimo teorijų nuopeln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as vadovo - lyderio vaidmuo organizacijoj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Apibrėžti vadovavimo stilia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os ir apibendrintos vadovams būdingos savybė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uformuoti vadovavimo principai nuo autokratinio iki demokratin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i lyderiavimo būdai, priklausomai nuo situac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i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F6A-0E16-4418-B981-240444EF7F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deriavimo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0AB-7B3C-4FC2-B592-35D4454EA8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žiūrių į vadovo formavimosi sąlygas ka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vaidmens organizacijose sureikšm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reikio profesionaliems ir kvalifikuotiems vadovams aug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– lyderio formavimo metodų ir principų sto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FD6-024E-42B3-87FA-6D7A9A7E85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ų tip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Charizmat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asmeninių savybi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Tradi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aveldėtas ar kitų aplinkybių sąlygo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Situacijo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atsiradimas tinkamoje vietoje tinkamu me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Paskirta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ozicijos, pareigybės suteik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Funk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gebėjimų, žinių ir kitų savybių, lemiančių ekspertinį išskirtinum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960-BD1C-413A-B062-97D6351E10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ą lemiantys veiksni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844640"/>
            <a:ext cx="417492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844640"/>
            <a:ext cx="403236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789360"/>
            <a:ext cx="417492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89360"/>
            <a:ext cx="403236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133720"/>
            <a:ext cx="3382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DE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ŽIN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ASMENYB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2133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TIKSL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076640"/>
            <a:ext cx="2303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PAVALDINI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MOTYVA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4005360"/>
            <a:ext cx="20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4005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PLINKA / SITU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C62-39A1-46E8-A70C-07F17FBC4E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A93-558F-4723-B7FA-96A45316A3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esminių organizacijos vadovų vadovavimo žmonėms asmeninių savybių nustaty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ffffff"/>
                </a:solidFill>
                <a:uFillTx/>
                <a:latin typeface="Arial"/>
              </a:rPr>
              <a:t>Dominuojančios savybė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rotas, intelek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Ener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Sumanumas, išrading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i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lyderių savybių yra bend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245-BB74-4779-B5FF-85C0E8C4AB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vadovavimo žmonėms stilių nustatymas ir form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avimo stilių kraštutinum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utoritar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centraliz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X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Demokrat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deleg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Y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3EF-6C37-42D2-84D8-45BFA5FA2A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557360"/>
            <a:ext cx="8424720" cy="2592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4000" y="1557000"/>
            <a:ext cx="842472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84464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AUTORITAR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Valdžios panaudojimo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92428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DEMOKRAT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Pavaldinių laisvės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79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95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6720" y="4220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156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80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16360" y="422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537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5300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537372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5373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5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87700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GAVIMO LAIPS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FEB-AB12-4142-9AB6-87CAF62F73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7:04Z</dcterms:modified>
  <cp:revision>44</cp:revision>
  <dc:subject/>
  <dc:title>Introduction to Management</dc:title>
</cp:coreProperties>
</file>