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B728-D5C2-4F60-B5AD-F715B3C4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545B-484F-47F6-A6F6-0443F613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C22C-C522-419C-B4DB-3B9B8628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72A9-AEC4-4E77-AAD1-939096C8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0254-1A39-4570-AE9C-837AA85C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2B08-C554-4D50-956F-52DF5F8A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51DC-55BF-49C2-A5BE-73CF1B67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59A1-6B63-4219-9433-7F62E762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4E71-F441-40FD-B1A9-4BAEF0CD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0F39-A52F-47AE-A0DA-C388FFF7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0C51-226A-4C97-98AD-16AC5C6B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6411-4997-4E7C-9C74-5DFCC09E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89D1-2BF8-4DC1-8DD0-B634F218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8024-055A-4D2C-A2C5-F06782CA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2ADF-5FFD-49C8-82C2-D8730843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B03B-5DB9-4B0A-98BA-6EB3996A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2A82-E1DC-4540-A571-F0B8B434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7B14-5D96-447E-A44B-C4F02F87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224C-254F-44D6-BEE3-68F699E1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9F85-8C5C-4E05-A711-0C073E57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2CBF-5404-4A32-864D-E252950C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3CA6-7688-419F-924D-64300ADA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6779-CAAE-46E2-B0FC-F60ED447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0D63-668A-4205-84A3-BA84546C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8CBD-7C69-4C3C-A802-2C06F40C43E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6F09-17EB-44BA-B77C-74A7C4AE9B6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b9efee"/>
                </a:solidFill>
                <a:latin typeface="Garamond"/>
              </a:rPr>
              <a:t>Žmogiškųjų santykių teorija: Howthorne eksperimentai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3066-AF4E-40CC-9480-9DA288583C7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: išvados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13924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Individas negali būti aktyvinamas izoliuotai- bet tik kaip grupės nary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Poreikis priklausyti grupei ir būti svarbiam joje yra netgi svarbesnis nei atlygis už darbą bei fizinės darbo sąlyg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Neformalios grupės turi didžiulę įtaką darbuotojo elgesiui darbo vietoj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Meistrai ir vadovai turi kreipti dėmesį į socialinius poreikius ir siekti juos pakreipti formalios organizacijos labu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9243-0519-4388-ACE3-D0C1DA643A9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b9efee"/>
                </a:solidFill>
                <a:latin typeface="Garamond"/>
              </a:rPr>
              <a:t>Mayo išvada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31160" cy="421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ŽMOGUS – socialinis gyvūnas tiek darbe tiek gyvenime, todėl individo priklausomybė grupei yra ypatingai svarbi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2F8A-48E2-44CD-B414-32D6449DDA5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ary Parker Folle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1868-1933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Tyrimų objektas – žmonių santykiai ir organizacinė struktūr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Valdymas – menas kurti daiktus per kitus žmon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BE80-00F9-4BAE-B989-7C4D4305CC3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Tyrimų objekta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91520" cy="421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02840" indent="-402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adovų ir pavaldinių santykių analizė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9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Valdžios ir autoriteto sąvokų analizė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02840" indent="-402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Valdžia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 – objektyvi valdymo sudėtinė dal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9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Autoritetas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įgyjamas teisingai naudojantis valdž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02840" indent="-402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adovo atsakomybės analizė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9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Atsakomybė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“už ką atsakau”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9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Grupinė atsakomybė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atsakomybė už darbų derinimą su kitais, tuo pačiu atsakant už grupės darbo rezultat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02AE-D890-49A4-8C51-1B6B0BB5A9E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b9efee"/>
                </a:solidFill>
                <a:latin typeface="Garamond"/>
              </a:rPr>
              <a:t>Vidiniai konfliktai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31160" cy="421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Konfliktų sprendimo tipai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Dominavimas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kai viena pusė sugeba įveikti kit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Kompromisas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kai abi pusės daro nuolaidas ir susitar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Integravimas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kai abi pusės ieško konflikto priežasčių ir būdų joms pašalint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Viena iš konfliktų priežasčių – vadovavimo būd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Grubus komandavimo būdas iššaukia psichologinį pasipriešinim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C71D-32D7-455C-916E-5DD4958E792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b9efee"/>
                </a:solidFill>
                <a:latin typeface="Garamond"/>
              </a:rPr>
              <a:t>Organizacijos reikšmė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Grupės svarba – sujungiant asmeninius gabumus į kažką didesnio (sinergij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linkos veiksnių įtaka organizacijai: politika, ekonomika, biologija ir t.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aldymo objektas ne tik organizacija bet ir organizacijos aplink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ugelio šiuolaikinių vadybos teorijų ir požiūrių pagrind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A253-C22F-472E-BC8A-F3D97B5C99F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b9efee"/>
                </a:solidFill>
                <a:latin typeface="Garamond"/>
              </a:rPr>
              <a:t>M. P. Follet išvada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31160" cy="421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20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20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Darbininkai, apgalvodami, kaip vykdyti sprendimus, dalyvauja valdyme – sprendimų realizavime. Todėl svarbu juo įtraukti ir į sprendimo priėmimo procesą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DED5-83B8-4948-B6FF-B9E863CD662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Žmogiškųjų santykių teorijos nuopelna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771200"/>
            <a:ext cx="7929360" cy="42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s žmogaus vaidmuo organizacijoj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 socialinių veiksnių įtaka darbuotojų elgsenai ir darbo našumui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 neformalių santykių organizacijoje svarb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 žmogaus priklausomybės grupei svarba – grupių valdymo teorijų ištako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Motyvavimo aktyviai veiklai veiksnių analizė – motyvavimo teorijų ištako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 vadovų asmeninė įtaka santykiams </a:t>
            </a:r>
            <a:r>
              <a:rPr b="0" i="1" lang="lt-LT" sz="2600" spc="-1" strike="noStrike">
                <a:solidFill>
                  <a:srgbClr val="ffffff"/>
                </a:solidFill>
                <a:latin typeface="Garamond"/>
              </a:rPr>
              <a:t>su</a:t>
            </a: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 darbuotojais ir santykiams </a:t>
            </a:r>
            <a:r>
              <a:rPr b="0" i="1" lang="lt-LT" sz="2600" spc="-1" strike="noStrike">
                <a:solidFill>
                  <a:srgbClr val="ffffff"/>
                </a:solidFill>
                <a:latin typeface="Garamond"/>
              </a:rPr>
              <a:t>tarp</a:t>
            </a: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 darbuotojų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56A1-75AD-4F87-A85D-6D761420A0B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Paskaitos tiksl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0280" y="1977840"/>
            <a:ext cx="808344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ibūdinti žmogiškųjų santykių teorijos susiformavimo prielaida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Pristatyti pagrindinius autori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žvelgti jų nuopelnus vadybos mokslu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6FF5-51C6-4487-8427-45C4BAC131E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Brush Script MT"/>
              </a:rPr>
              <a:t>Prielaidos</a:t>
            </a:r>
            <a:r>
              <a:rPr b="1" lang="en-US" sz="4400" spc="-1" strike="noStrike">
                <a:solidFill>
                  <a:srgbClr val="b9efee"/>
                </a:solidFill>
                <a:latin typeface="Brush Script MT"/>
              </a:rPr>
              <a:t>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Klasikinių teorijų ribotas požiūris į žmogaus svarbą organizacijoj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Organizacijų vadovų didelis dėmesys darbo organizavimui ir produktyvumo didinimui, tačiau mažas darbuotojų darbo sąlygų gerinimu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adovų ir pavaldinių santykių problem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CB13-40A6-44D4-A827-040F29B080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Elton Mayo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8960" y="1904760"/>
            <a:ext cx="7931160" cy="418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1880 – 1949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Harvardo </a:t>
            </a: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vadybos mokyklos p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ichologijos profesorius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Žymiausiais žmogiškųjų santykių problemų tyrinėtojas XX amžiuje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1927 – 1932 </a:t>
            </a: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Vakarų elektrotechniko kompanijos Howthorne gamykloje Čikago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tliko </a:t>
            </a: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tyrimus, tapusius vadybos mokslo klasik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Objektas – žmonių socialiniai santykiai darbe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F791-4A40-440C-A342-86B020AB16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3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3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Pirmoji stadij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924 – 1927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Objektas – apšvietimo darbo vietoje įtaka darbo našumu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Dvi darbuotojų grupės atskirtos viena nuo kitos ir nuo kitų gamyklos darbuotoj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Viena – kontrolinė grupė – turėjo pakankamų, pastovų apšvietim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Kita- -eksperimentinė grupė – kintamą apšvietim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Abiejų grupių darbo našumas padidėjo, net ir stipriai sumažinus apšvietimą eksperimentinei grupe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804A-FE31-4B08-8D6C-355AC6D5CE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491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Antroji stadija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1927 – 1929)</a:t>
            </a: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 – Rėlių surinkimo bandymų kambary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Objektas – fizinių darbo sąlygų įtakos darbo našumui tyrim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Šešios darbininkės atskirtos nuo kitų darbuotoj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Buvo atliekama fizinių darbo sąlygų kaita: įvestos poilsio pertraukėlės ir keičiama jų trukmė, pietų pertraukos laikas ir trukmės keičiami ir pa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Darbo našumas auga, nepaisant darbo sąlygos gerėjo ar blogėj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Išvada – Howthorne efektas – darbininkės reagavo ne tiek į pokyčius, kiek į joms rodomą dėmesį – objektas peraugo į požiūrių ir vertybių tyrim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7B62-E809-401A-9D21-9E11283A89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491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Trečioji stadij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928 – 1930)</a:t>
            </a: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Objektas – darbuotojų požiūrių į darbo sąlygas, jų priežiūrą ir jų darbą tyrim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Apklaust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 000 darbuotoj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Pasėkoje - pagerintos darbo sąlygos, patobulinti darbo priežiūros metoda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Tapo aišku, kad darbuotojų santykiai bei vadovų santykis su darbuotojai yra labai svarbus veiksnys, formuojant darbuotojų požiūriu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041-9A53-46F1-A5F4-B6848140DB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491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Ketvirtoji stadij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932)</a:t>
            </a: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 elektros instaliacijos </a:t>
            </a: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gamybos priežiūros kambar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Objektas – darbininkų darbo našumo tyrimas įprastomis sąlygomis, tačiau izoliuotai nuo kit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4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vyrų buvo perkelti dirbti į atskirą patalp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Darbo sąlygos buvo daugiau mažiau tos pači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Tyrimas truko šešis mėnesiu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Darbuotojai gana greitai nustatė savo bendravimo taisykles, požiūrius bei suformavo neformalią grupę, kuri siekė apsisaugoti nuo išorinės įtakos, tuo pačiu kontroliuodama vidaus tvark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1FA8-A91C-4AF5-8B16-0D8E2D59B55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491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600" spc="-1" strike="noStrike">
                <a:solidFill>
                  <a:srgbClr val="ffffff"/>
                </a:solidFill>
                <a:latin typeface="Garamond"/>
              </a:rPr>
              <a:t>Baigiamoji stadija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(1936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Objektas –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rim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ezultat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yrimas ir i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dos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Išryškintas profesinio orientavimo poreik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nalizuotas darbininko – meistro, ir darbininko – vadovo santyk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Išryškintas meistro vaidmuo, analizuojant darbininkų darbo problemas ir ieškant būdų jas spręst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C9B8-2B59-4A90-8F59-3E11B922EB6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1:29Z</dcterms:modified>
  <cp:revision>44</cp:revision>
  <dc:subject/>
  <dc:title>Introduction to Management</dc:title>
</cp:coreProperties>
</file>