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785E-8E7E-4A39-8A31-20661526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575D-68E4-436A-B45B-2DA193DD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27A5-1044-46DF-B81C-0B55C048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917-C34C-47BF-9350-4AB68946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740B-9047-4789-AB1E-0CE479C0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7D46-AA4A-4B54-9DBE-898A7B50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4B21-4A87-4A9A-B914-38BFDAE4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61C7-9B42-4A0F-A4C1-8C69B6D7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ADE8-C53C-4440-A7BB-E91031A0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4578-6D11-4C5E-B105-6EAB3A2A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9346-8153-4C2C-B2A2-C538B496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C078-38C6-420C-851A-901827BE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8D32-18CF-4661-8430-D7D960A3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16EC-CD32-4627-9AC6-1A9EAFF3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94D0-3325-4FCA-9CB1-929C598B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A960-C496-4A42-954D-AC58F4C4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9FC7-5716-4EC7-9C5C-210A7144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09AE-1919-4E4F-9D0E-99AA2A62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FCC3-DFD7-4593-929C-91412DAE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85B8-DE2C-495B-96F9-42937CAF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0D7-9406-4A6B-93D0-2B6E77F2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F5C-D8CF-470D-AB84-55F90D44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A1E4-2793-4DEF-839C-3CD68B67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0197-2466-4255-9BF8-CBF4CD4E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F9E1-6F5E-4C8D-B434-9F9C48D3615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C478-5D04-42BA-93EC-96386FEDA60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dbbd71"/>
                </a:solidFill>
                <a:latin typeface="Arial"/>
              </a:rPr>
              <a:t>Klasikinės sociopsichologinės teorijos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517C-CAFD-4147-9C63-2908FF677AA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Lyderiavimo teorij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avybių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tiliaus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tsitiktinumų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organizacijos vadovų vadovavimo žmonėms gebėjimų ir būdų analizė ir formavi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F22D-7945-472D-9F9D-764781B23BA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elgsenos teori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formavi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efektyvu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apribojim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ės elgsena ir vaidmu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onkurencija tarp grupi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omandos ir jų formavi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žmonių grupių formavimas ir elgsenos motyvavi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4110-FA82-4F47-BEA2-BF161B9CF44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isuotinio dalyvavimo valdyme (partisipatyvinė) teor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C. Ker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W. Geller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. Per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T. Pars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rganizacijos darbuotojų dalyvavimas užduočių formavime ir sprendimų priėm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5524-5605-4517-B450-88CEFC6F12F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Sociopsichologinių teorijų nuopeln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Išryškintas žmogaus vaidmuo organizacijoj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Parengti darbuotojų tarpusavio santykių pagrindai, išryškinant vadovų ir pavaldinių santyki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Suformuoti darbuotojų motyvavimo aktyviai veiklai metodai ir principa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Pradėti spręsti organizacijos ir visuomenės santykių klausima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Apjungtos klasikinių teorijų nuostatos su socialiniais ir psichologiniais principai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Išryškinta vadovų asmeninė įtaka organizacijos veiklai ir santykiams su darbuotojai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EFF6-1042-4FE1-BFDC-2B98CB0EC2A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Sociopsichologinių teorijų ribotum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Per didelis akcentas darbuotojų tarpusavio santykiams, psichologiniams veiklos motyvams iškreipia kompleksinį vadybos objektą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Žmonių motyvuotos elgsenos ir pasitenkinimo siekis nukreiptas savotiškos laimės kūrimui yra nenatūraliai pabrėžtas. Organizacijos funkcija – nėra kurti laimę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Organizacijos funkcija – sudaryti sąlygas žmogui siekti savo laimė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A165-146D-44F9-90E3-452952A8204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bbd71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0280" y="1981080"/>
            <a:ext cx="808344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opsichologini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ų teorijų susiformavimo prielaid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3F08-8D9B-47EB-9DE2-E0E1D2A3B9B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bbd71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bbd71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lasikinių teorijų ribotas požiūris į žmogaus svarbą organizacijo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Organizacijų vadovų didelis dėmesys darbo organizavimui ir produktyvumo didinimui, tačiau mažas darbuotojų darbo sąlygų gerinimu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arbuotojų nepasitenkinimas darbo sąlygomis ir motyvacine sistema organizacij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5433-AD24-41CE-AE36-89464E6ED0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bbd71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bbd71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eitėsi žmonių darbo ir vadovamo jiems principa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parti ekonominė plėtra ir žmonių koncentravimasis miestuose (ypač JAV) lėmė poreikio pramogoms ir laisvalaikiui augim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Gamybos kompanijos išgyveno krizę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9m. Akcij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ir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gimas)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 ir klasikinių metodų ribotum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5F0D-F3D3-4415-83D3-699F7D82B0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Sociopsichologinių teorijų esmė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8960" y="1908000"/>
            <a:ext cx="7931160" cy="42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Žmonių elgesio organizacijose tyrimas ir formavim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Žmogiškojo faktoriaus svarbos išryškinim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Objektas – žmonių motyvavimas, grupių santykiai ir lyderiavima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3F5-06E2-4F64-93F9-8E452E7671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Sociopsichologinės teorijo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mogiškųjų santykių teor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Bihevioristinės – veiklos ir elgsenos motyvavimo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Lyderiavimo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Grupių elgsenos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Visuotinio dalyvavimo valdyme (partisipatyvinė) teor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26F4-FBFE-480C-B0B6-ED130BB895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Žmogiškųjų santykių teori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Elton May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Mary Parker Fol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monių tarpusavio santykiai, psichologinių ir socialinių veiksnių įtaka organizacijos veiklos efektyvumu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CDE5-154C-448B-9B68-1392917387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20840" indent="-4208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Bihevioristinės – veiklos ir elgsenos motyvavimo teorijos (ankstyvesnė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braham Masl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ouglas McGregor (X ir Y teorij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Chris Argyr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F. Herzberg (Motyvavimo – higienos teorij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Rensis Like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FA9A-AE17-403D-854D-CEF0703C57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Bihevioristinės – veiklos ir elgsenos motyvavimo teorijos (vėlyvesnė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. H. Vroom (Vilčių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Robbins (Turto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Lock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amp;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Lathman (Tikslų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elley (Požymių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B. F. Skinner (Gebėjimų stiprinimo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rganizacijos darbuotojų veiklos aktyvinimo motyvų analizė ir skatini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55FF-ABE5-4B58-9A6B-B13D8FC861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14Z</dcterms:modified>
  <cp:revision>41</cp:revision>
  <dc:subject/>
  <dc:title>Introduction to Management</dc:title>
</cp:coreProperties>
</file>