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36EFE-8FEF-41DE-A408-7429210FB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E8538-4A14-4849-9CD5-BD019F24B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EE5B5-1928-49FF-835F-8BC142E4C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2F21D-DB55-4DCE-8988-D6FA54FF1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D2BF50-2E2B-4568-A6EF-0696314B5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F9A757-40BA-447E-9D54-4B82F549D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A9C7BD-69C9-4B7D-9751-022903B91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67DFCD-471F-4340-8A58-CBDD14888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C26376-B51A-4FCB-B9C2-D804025AF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784E19-48BF-4F78-8D43-F1A07A62F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01BCAB-2AAB-469F-8148-07A7F20D9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EDDC4-50D6-4C83-A714-4B8624C15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76539F-F6E0-446C-B499-154B64D8A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50FE4E-1F13-4C6A-A385-50F613B25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D55B6D-8B66-40D1-BA22-3E9082D40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2B9640-9211-4ABF-92E3-9601FBB95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3AA37C-8DA3-4CCF-B588-1F0A88D30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28D75-CDFC-4CD3-8413-C5169DE94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A4458-CAC2-47F3-AED4-166718BD8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86113-FFB6-4752-9988-9CEF3BEDC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08BFE-FD02-424F-814A-23D81F66A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E724E-C669-45F5-A32D-4DCB8FB01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FD5DC-657C-4657-8E13-32F0524DB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CE84C-B832-4ACE-BE68-3D1EB42EA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53ABE-3B9E-4D4D-81F5-D3237FEF30F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C6BA0-BD80-4782-A80E-2ABA5234E17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26920" y="260280"/>
            <a:ext cx="7345440" cy="499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ffffff"/>
                </a:solidFill>
                <a:latin typeface="Tahoma"/>
              </a:rPr>
              <a:t>Vadybos mokslas Lietuvoje: </a:t>
            </a:r>
            <a:br>
              <a:rPr sz="4400"/>
            </a:br>
            <a:r>
              <a:rPr b="0" lang="lt-LT" sz="4400" spc="-1" strike="noStrike">
                <a:solidFill>
                  <a:srgbClr val="ffffff"/>
                </a:solidFill>
                <a:latin typeface="Tahoma"/>
              </a:rPr>
              <a:t>V. Graičiūno indėlis į klasikinės organizacijos teorijos raidą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6 paskait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2C5D64-4546-4747-A597-ADE643074870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lt-LT" sz="4400" spc="-1" strike="noStrike">
                <a:solidFill>
                  <a:srgbClr val="ffffff"/>
                </a:solidFill>
                <a:latin typeface="Tahoma"/>
              </a:rPr>
              <a:t>Organizacijos vidiniai ryšiai”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4360" y="1773000"/>
            <a:ext cx="7929360" cy="4319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Objektas – organizacijos vidiniai ryšiai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Teorija apie valdymo procesą, vadovo darbo turinį ir “valdomumo normą”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Organizacijos vidinių ryšių klasifikavima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800" spc="-1" strike="noStrike">
                <a:solidFill>
                  <a:srgbClr val="ffffff"/>
                </a:solidFill>
                <a:latin typeface="Tahoma"/>
              </a:rPr>
              <a:t>Tiesioginiai individualūs</a:t>
            </a: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 ryšiai (a) – tarp vadovo ir pavaldinio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800" spc="-1" strike="noStrike">
                <a:solidFill>
                  <a:srgbClr val="ffffff"/>
                </a:solidFill>
                <a:latin typeface="Tahoma"/>
              </a:rPr>
              <a:t>Tiesioginiai grupiniai</a:t>
            </a: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 ryšiai (b) – tarp vadovo ir dviejų ar daugiau pavaldinių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800" spc="-1" strike="noStrike">
                <a:solidFill>
                  <a:srgbClr val="ffffff"/>
                </a:solidFill>
                <a:latin typeface="Tahoma"/>
              </a:rPr>
              <a:t>Kryžminiai ryšiai</a:t>
            </a: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 (c) – pavaldinių tarpusavio ryšiai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6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76EBA-EC54-4612-97C7-31394AD0B5D9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7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2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" dur="5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2" dur="5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7" dur="5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ffffff"/>
                </a:solidFill>
                <a:latin typeface="Tahoma"/>
              </a:rPr>
              <a:t>Valdomumo norm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50560" y="1628280"/>
            <a:ext cx="8364600" cy="4218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Jei pavaldinių skaičius – n, o visų galimų ryšių skaičius – f, tai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=n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=n (n – 1)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=n (2</a:t>
            </a:r>
            <a:r>
              <a:rPr b="0" lang="en-US" sz="2800" spc="-1" strike="noStrike" baseline="50000">
                <a:solidFill>
                  <a:srgbClr val="ffffff"/>
                </a:solidFill>
                <a:latin typeface="Tahoma"/>
              </a:rPr>
              <a:t>n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/ 2 – 1)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=a + b + c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=n (2</a:t>
            </a:r>
            <a:r>
              <a:rPr b="0" lang="en-US" sz="2800" spc="-1" strike="noStrike" baseline="50000">
                <a:solidFill>
                  <a:srgbClr val="ffffff"/>
                </a:solidFill>
                <a:latin typeface="Tahoma"/>
              </a:rPr>
              <a:t>n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/ 2 + (n – 1)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adovas produktyviai </a:t>
            </a: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gali valdyti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2</a:t>
            </a: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 tiesioginių individualių ryšių (a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8 tiesiogini</a:t>
            </a: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ų grupinių ryšių (b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Optimalus pavaldinių skaičius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5-6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6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9F070-4AB1-4B01-AFCB-03E034CC3248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4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9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4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9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4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5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4" dur="50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9" dur="500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4" dur="500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9" dur="500"/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lt-LT" sz="4000" spc="-1" strike="noStrike">
                <a:solidFill>
                  <a:srgbClr val="ffffff"/>
                </a:solidFill>
                <a:latin typeface="Tahoma"/>
              </a:rPr>
              <a:t>Organizacijos vidiniai ryšiai”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lt-LT" sz="4000" spc="-1" strike="noStrike">
                <a:solidFill>
                  <a:srgbClr val="ffffff"/>
                </a:solidFill>
                <a:latin typeface="Tahoma"/>
              </a:rPr>
              <a:t>reikšmė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4360" y="1773000"/>
            <a:ext cx="7929360" cy="4319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Organizacijos grupini</a:t>
            </a:r>
            <a:r>
              <a:rPr b="0" lang="lt-LT" sz="2600" spc="-1" strike="noStrike">
                <a:solidFill>
                  <a:srgbClr val="ffffff"/>
                </a:solidFill>
                <a:latin typeface="Tahoma"/>
              </a:rPr>
              <a:t>ų ir kryžminių ryšių reikšmės organizacijos valdymui išryškinimas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ffffff"/>
                </a:solidFill>
                <a:latin typeface="Tahoma"/>
              </a:rPr>
              <a:t>Metodologiniai pagrindai organizacijos ryšiams apskaičiuoti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ffffff"/>
                </a:solidFill>
                <a:latin typeface="Tahoma"/>
              </a:rPr>
              <a:t>Metodologiniai principai valdomumo normai nustatyti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ffffff"/>
                </a:solidFill>
                <a:latin typeface="Tahoma"/>
              </a:rPr>
              <a:t>Matematinių skaičiavimų taikymas valdymo ryšiams analizuoti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ffffff"/>
                </a:solidFill>
                <a:latin typeface="Tahoma"/>
              </a:rPr>
              <a:t>Labiausiai cituotas nacionalinis vadybos darba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1969m. </a:t>
            </a:r>
            <a:r>
              <a:rPr b="0" lang="lt-LT" sz="2600" spc="-1" strike="noStrike">
                <a:solidFill>
                  <a:srgbClr val="ffffff"/>
                </a:solidFill>
                <a:latin typeface="Tahoma"/>
              </a:rPr>
              <a:t>Niujorke išleistas pakartotinai “Pakartotinos ekonomikos klasikų publikacijos”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6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46D11-7C2A-400E-8D94-1B954529EB9C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6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1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6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1" dur="5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6" dur="5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1" dur="50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97632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Tahoma"/>
              </a:rPr>
              <a:t>V. Graičiūno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mokslin</a:t>
            </a:r>
            <a:r>
              <a:rPr b="0" lang="lt-LT" sz="3600" spc="-1" strike="noStrike">
                <a:solidFill>
                  <a:srgbClr val="ffffff"/>
                </a:solidFill>
                <a:latin typeface="Tahoma"/>
              </a:rPr>
              <a:t>ė veikla Lietuvoje po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1935m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440" y="1413000"/>
            <a:ext cx="7929720" cy="434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938m. </a:t>
            </a:r>
            <a:r>
              <a:rPr b="0" lang="lt-LT" sz="3200" spc="-1" strike="noStrike">
                <a:solidFill>
                  <a:srgbClr val="ffffff"/>
                </a:solidFill>
                <a:latin typeface="Tahoma"/>
              </a:rPr>
              <a:t>Įsteigė Mokslinės vadybos draugiją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ahoma"/>
              </a:rPr>
              <a:t>Tikslas: “tyrinėjimais, diskusijomis, spauda ir kitomis tinkamomis priemonėmis kelti lietuvių ūkinį pajėgumą ir ekonominę gerovę, praktiškai taikant vadybos dėsnius”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6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F3C08-CD4B-4B77-97E8-0B4C47816B8E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8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3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97632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ffffff"/>
                </a:solidFill>
                <a:latin typeface="Tahoma"/>
              </a:rPr>
              <a:t>Mokslinės vadybos draugijos veikla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4360" y="1267920"/>
            <a:ext cx="7929360" cy="496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Tahoma"/>
              </a:rPr>
              <a:t>Vadybos dėsnių pripažinimas ir propagavima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Tahoma"/>
              </a:rPr>
              <a:t>Nariai: kariškiai, inžinieriai, ekonomistai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Tahoma"/>
              </a:rPr>
              <a:t>Straipsniai spaudoj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Tahoma"/>
              </a:rPr>
              <a:t>Aktualių vadybos temų pristatymas. Vien pirmaisiais veiklos metais aptarta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5</a:t>
            </a:r>
            <a:r>
              <a:rPr b="0" lang="lt-LT" sz="2400" spc="-1" strike="noStrike">
                <a:solidFill>
                  <a:srgbClr val="ffffff"/>
                </a:solidFill>
                <a:latin typeface="Tahoma"/>
              </a:rPr>
              <a:t> temų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ffffff"/>
                </a:solidFill>
                <a:latin typeface="Tahoma"/>
              </a:rPr>
              <a:t>Organizacijos pradai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ffffff"/>
                </a:solidFill>
                <a:latin typeface="Tahoma"/>
              </a:rPr>
              <a:t>Sąlygos mokslinei vadybai įvesti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ffffff"/>
                </a:solidFill>
                <a:latin typeface="Tahoma"/>
              </a:rPr>
              <a:t>Ganto grafikų pritaikymas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ffffff"/>
                </a:solidFill>
                <a:latin typeface="Tahoma"/>
              </a:rPr>
              <a:t>Asmeninio darbo organizacija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ffffff"/>
                </a:solidFill>
                <a:latin typeface="Tahoma"/>
              </a:rPr>
              <a:t>Funkcinė sistema organizacijoje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ffffff"/>
                </a:solidFill>
                <a:latin typeface="Tahoma"/>
              </a:rPr>
              <a:t>Skatinimo problema organizacijoje ir kt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Tahoma"/>
              </a:rPr>
              <a:t>Uždaryta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940 metai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6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4D711-5B39-4E42-B901-85A5AB82887B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0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0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5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0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5" dur="5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0" dur="50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5" dur="500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0" dur="500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5" dur="500"/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0" dur="500"/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97632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Tahoma"/>
              </a:rPr>
              <a:t>V. Graičiūno veikla Lietuvoje po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1940m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4360" y="1267920"/>
            <a:ext cx="7929360" cy="4341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940 - 1941m. Techninio skyriaus vir</a:t>
            </a: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šininkas Vietinės pramonės l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audies komisariat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945m. Pramo</a:t>
            </a: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nės skyriaus vedėjas Liaudies komisarų Taryboje, Tyrimų skyriaus viršininkas “Lietstatprojekte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945 – 1948m. </a:t>
            </a: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Ėjo d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</a:t>
            </a: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cento pareigas VDU statybos fakultet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948 – 1951m., atleistas is universiteto, Dirbo “Kotono”, “Silvos” fabrikuos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951m. </a:t>
            </a: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Ištremta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952m. </a:t>
            </a: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Nusižudė lageryje Olžease (Kamerovo) srityje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6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1D991-88D1-4F1F-8B9F-82E8E41767DC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7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2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7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2" dur="5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7" dur="5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2" dur="500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76068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ahoma"/>
              </a:rPr>
              <a:t>V. Graičiūno nuopelnai vadybos mokslu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4360" y="1125000"/>
            <a:ext cx="7929360" cy="504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Teorija apie pavaldinių veiklos koordinavimą, analizuojant organizacijos vidinius ryšiu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Novatoriškas požiūris į matematinių modelių taikymą valdym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Valdomumo normos” nustatymo metodinių principų apibrėžima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Naujų vadybos mokslo teorijų ir idėjų propagavimas Lietuvoj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Valdymo metodų taikymas praktikoje Lietuvos ūkyj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V. Graičiūno veikla Lietuvoje žinoma tik nuo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988m., </a:t>
            </a: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išspausdinus jo straipsnį lietuviškai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6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411A6-6859-4E6A-84DD-A613873F8500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9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4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9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4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4" dur="500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ffffff"/>
                </a:solidFill>
                <a:latin typeface="Tahoma"/>
              </a:rPr>
              <a:t>Paskaitos tikslai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30280" y="2251080"/>
            <a:ext cx="8083440" cy="3743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315360" indent="-315360">
              <a:lnSpc>
                <a:spcPct val="14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ahoma"/>
              </a:rPr>
              <a:t>Apibūdinti klasikinės organizacijos (administravimo) teorijos plėtrą Lietuvoj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14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ahoma"/>
              </a:rPr>
              <a:t>Pristatyti Vytautą Graičiūną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14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ahoma"/>
              </a:rPr>
              <a:t>Apžvelgti jo nuopelnus vadybos mokslui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6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16FC3-5706-4440-9A1E-F7E565F13EFD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ransition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ffffff"/>
                </a:solidFill>
                <a:latin typeface="Brush Script MT"/>
              </a:rPr>
              <a:t>Prielaidos</a:t>
            </a:r>
            <a:r>
              <a:rPr b="0" lang="en-US" sz="4400" spc="-1" strike="noStrike">
                <a:solidFill>
                  <a:srgbClr val="ffffff"/>
                </a:solidFill>
                <a:latin typeface="Brush Script MT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ahoma"/>
              </a:rPr>
              <a:t>Pirmasis pasaulinis darbo mokslinio organizavimo kongresas (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924, Prah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ahoma"/>
              </a:rPr>
              <a:t>Dalyvis iš Lietuvos – Lietuvos universiteto profesorius J. Šimku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ahoma"/>
              </a:rPr>
              <a:t>Straipsnis “Darbo organizacija”,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924m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ahoma"/>
              </a:rPr>
              <a:t>Objektas - pagrindinės F. Taylor ir jo pasekėjų teorijos tezė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6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DD3F3-DB30-490E-8DD4-71D8DFA1B4C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ransition>
    <p:checker dir="horz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ahoma"/>
              </a:rPr>
              <a:t>Klasikinės organizacijos (administravimo) teorijų plėtra iki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935m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78960" y="2184120"/>
            <a:ext cx="7931160" cy="3832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315360" indent="-315360">
              <a:spcBef>
                <a:spcPts val="7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ffffff"/>
                </a:solidFill>
                <a:latin typeface="Tahoma"/>
              </a:rPr>
              <a:t>P. Raulinaitis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ffffff"/>
                </a:solidFill>
                <a:latin typeface="Tahoma"/>
              </a:rPr>
              <a:t>Knyga “Administracijos principai”, 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1926m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ffffff"/>
                </a:solidFill>
                <a:latin typeface="Tahoma"/>
              </a:rPr>
              <a:t>Objektas – 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H. Fayol </a:t>
            </a:r>
            <a:r>
              <a:rPr b="0" lang="lt-LT" sz="3000" spc="-1" strike="noStrike">
                <a:solidFill>
                  <a:srgbClr val="ffffff"/>
                </a:solidFill>
                <a:latin typeface="Tahoma"/>
              </a:rPr>
              <a:t>teorinės tezės iš veikalo “Bendrasis ir pramoninis valdymas” 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1916m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ffffff"/>
                </a:solidFill>
                <a:latin typeface="Tahoma"/>
              </a:rPr>
              <a:t>Knyga “Darbo organizacijos matmenys”, 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1930m.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ffffff"/>
                </a:solidFill>
                <a:latin typeface="Tahoma"/>
              </a:rPr>
              <a:t>Objektas – 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. Taylor teorijos pagrindai</a:t>
            </a:r>
            <a:r>
              <a:rPr b="0" lang="lt-LT" sz="3000" spc="-1" strike="noStrike">
                <a:solidFill>
                  <a:srgbClr val="ffffff"/>
                </a:solidFill>
                <a:latin typeface="Tahoma"/>
              </a:rPr>
              <a:t>, jų pristatymas, polemika, kritika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6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768F6-F4F0-430E-8805-77E335E91EC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" dur="5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50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ahoma"/>
              </a:rPr>
              <a:t>Klasikinės organizacijos (administravimo) teorijų plėtra iki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935m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4000" y="1844280"/>
            <a:ext cx="7931160" cy="4248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429840" indent="-42984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ffffff"/>
                </a:solidFill>
                <a:latin typeface="Tahoma"/>
              </a:rPr>
              <a:t>S. Nacevičiu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29840" indent="-42984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Tahoma"/>
              </a:rPr>
              <a:t>Straipsnis “Teilorizmas ir fajolizmas žemės ūkyje arba žemės ūkio darbams racionalizuoti etiudas”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933m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29840" indent="-42984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bjektas – klasikini</a:t>
            </a:r>
            <a:r>
              <a:rPr b="0" lang="lt-LT" sz="2400" spc="-1" strike="noStrike">
                <a:solidFill>
                  <a:srgbClr val="ffffff"/>
                </a:solidFill>
                <a:latin typeface="Tahoma"/>
              </a:rPr>
              <a:t>ų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organizacijos vadybos princip</a:t>
            </a:r>
            <a:r>
              <a:rPr b="0" lang="lt-LT" sz="2400" spc="-1" strike="noStrike">
                <a:solidFill>
                  <a:srgbClr val="ffffff"/>
                </a:solidFill>
                <a:latin typeface="Tahoma"/>
              </a:rPr>
              <a:t>ų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t</a:t>
            </a:r>
            <a:r>
              <a:rPr b="0" lang="lt-LT" sz="2400" spc="-1" strike="noStrike">
                <a:solidFill>
                  <a:srgbClr val="ffffff"/>
                </a:solidFill>
                <a:latin typeface="Tahoma"/>
              </a:rPr>
              <a:t>aikymas žemės ūkyj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29840" indent="-42984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ffffff"/>
                </a:solidFill>
                <a:latin typeface="Tahoma"/>
              </a:rPr>
              <a:t>G. Galvanausk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29840" indent="-42984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Tahoma"/>
              </a:rPr>
              <a:t>Straipsnis “Darbas administracinėse įstaigose”,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934m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29840" indent="-42984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bjektas – </a:t>
            </a:r>
            <a:r>
              <a:rPr b="0" lang="lt-LT" sz="2400" spc="-1" strike="noStrike">
                <a:solidFill>
                  <a:srgbClr val="ffffff"/>
                </a:solidFill>
                <a:latin typeface="Tahoma"/>
              </a:rPr>
              <a:t>tarnautojų parinkimo, priėmimo, darbo organizavimo klausimai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6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D9893-46BF-48BE-8CEB-4C70BE898E8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5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5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500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320760"/>
            <a:ext cx="8077320" cy="123984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Vytautas Andrius Grai</a:t>
            </a:r>
            <a:r>
              <a:rPr b="0" lang="lt-LT" sz="4400" spc="-1" strike="noStrike">
                <a:solidFill>
                  <a:srgbClr val="ffffff"/>
                </a:solidFill>
                <a:latin typeface="Tahoma"/>
              </a:rPr>
              <a:t>čiūna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78960" y="2184120"/>
            <a:ext cx="7931160" cy="3832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898 – 1952m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Gimė Čikagoje, lietuvio gydytojo šeimoj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914 – 1917 studijavo </a:t>
            </a: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Čikagos universitete, Administracijos ir komercijos fakultet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917 – 1919 tarnavo JAV karo aviacijoje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920 – 1923 studijavo </a:t>
            </a: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Čikagos technologijos institute ir įgijo bakalauro diplomą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923 – 1925 dirbo </a:t>
            </a: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vadybos patarėju keliose Čikagos ir Niujorko kompanijos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6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3D7A7-BAD6-41D5-B9EB-E01228168DE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" dur="5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" dur="500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97632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Tahoma"/>
              </a:rPr>
              <a:t>V. Graičiūno profesinė veikla Lietuvoj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440" y="1413000"/>
            <a:ext cx="7929720" cy="434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926m. Atvyko </a:t>
            </a:r>
            <a:r>
              <a:rPr b="0" lang="lt-LT" sz="3200" spc="-1" strike="noStrike">
                <a:solidFill>
                  <a:srgbClr val="ffffff"/>
                </a:solidFill>
                <a:latin typeface="Tahoma"/>
              </a:rPr>
              <a:t>į Lietuvą ir dirbo “Metalo” fabriko technikos vedėju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ahoma"/>
              </a:rPr>
              <a:t>Bandė organizuoti fabriko bazėje įkurti “Ford” koncerno automobilių surinkimo įmonę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ahoma"/>
              </a:rPr>
              <a:t>Negavęs paramos savo idėjoms,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927m. </a:t>
            </a:r>
            <a:r>
              <a:rPr b="0" lang="lt-LT" sz="3200" spc="-1" strike="noStrike">
                <a:solidFill>
                  <a:srgbClr val="ffffff"/>
                </a:solidFill>
                <a:latin typeface="Tahoma"/>
              </a:rPr>
              <a:t>Išvyko iš Lietuvos į Vakarų Europą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6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FCFB8-CC17-4402-85B0-C1BBCAA7E1F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97632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Tahoma"/>
              </a:rPr>
              <a:t>V. Graičiūno profesinė ir mokslinė veikla Europoj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929360" cy="434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ahoma"/>
              </a:rPr>
              <a:t>Dirbo analitiku, konsultantu įvairiose kompanijose Vokietijoje, Olandijoje, Prancūzijoje, Šveicarijoj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ahoma"/>
              </a:rPr>
              <a:t>Analizavo ir sprendė įmonių ekonomines ir organizacines problema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929m. </a:t>
            </a:r>
            <a:r>
              <a:rPr b="0" lang="lt-LT" sz="3200" spc="-1" strike="noStrike">
                <a:solidFill>
                  <a:srgbClr val="ffffff"/>
                </a:solidFill>
                <a:latin typeface="Tahoma"/>
              </a:rPr>
              <a:t>Dalyvavo ketvirtame tarptautiniame Vadybos kongrese Paryžiuj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ahoma"/>
              </a:rPr>
              <a:t>Straipsnis “Organizacijos vidiniai ryšiai”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6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42CF2-6FE8-4AF8-8CA5-21CD007F3AE1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" dur="5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lt-LT" sz="4400" spc="-1" strike="noStrike">
                <a:solidFill>
                  <a:srgbClr val="ffffff"/>
                </a:solidFill>
                <a:latin typeface="Tahoma"/>
              </a:rPr>
              <a:t>Organizacijos vidiniai ryšiai”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4360" y="1773000"/>
            <a:ext cx="7929360" cy="4319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Parengtas artimai bendradarbiaujant su L. Urwick, Tarptautinio valdymo instituto Ženevoje direktoriumi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933m. </a:t>
            </a: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Straipsnis išspausdintas Ženevos TVI biuletenyje, anglų kalba “Relationship in organization”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937m. Straipsnis i</a:t>
            </a: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š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pausdintas specialiame straipsni</a:t>
            </a: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ų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rinkinyje “Administracijos mokslo ap</a:t>
            </a: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ž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alga”</a:t>
            </a: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 (Niujorkas)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Rinkinyje žymių to meto mokslininkų darbai:  A. Fayol, E. Mayo ir k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6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6B582-9476-4AF3-8558-C74AE2B15847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0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5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08T18:37:46Z</dcterms:created>
  <dc:creator>Sally Coltrin</dc:creator>
  <dc:description/>
  <dc:language>en-US</dc:language>
  <cp:lastModifiedBy>No name (ISM)</cp:lastModifiedBy>
  <dcterms:modified xsi:type="dcterms:W3CDTF">2005-03-08T13:42:02Z</dcterms:modified>
  <cp:revision>35</cp:revision>
  <dc:subject/>
  <dc:title>Introduction to Management</dc:title>
</cp:coreProperties>
</file>