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61B1-B772-445D-BA22-74F9C0701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E75A-A06F-4489-9F37-9A0E98C69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BD9A-4E17-45A8-B844-186411E5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AEC6-D949-4FB6-8255-FDBCCE738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279F-BB94-4233-96BE-994453CED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3CB7-9091-4769-A354-2B3645D9B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53215-B425-43D3-A4F1-DBF4D5FC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5D31C-3C9C-4E38-B5CE-314E2C0E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10F0-D9D9-4D32-A314-BE05D9CA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02EC-6B68-4FB8-BDF5-938DA8E9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904A-BF07-48B4-87CD-46EBD80D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1E6B-3B4C-429C-A873-DA041275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A352-AA6B-4E48-8B47-CE35FE9D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B400-C762-4F5B-AB91-B88A3600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D4A4-9EEB-432C-BF63-8DA6A973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2CDCD-901D-424F-8A3F-3774094C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F960-BE9D-43C1-B8CF-20B97C0D6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58BC-9E7F-4CCC-8B99-35E680228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132A3-3465-4D73-9CB5-4B0CC1FE9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C20CA-AAD0-4054-8EB7-662A03F9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6878B-CF5C-45BF-9F07-618A047B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8FDBF-91AD-409B-BFE6-42E40838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9338F-91EF-4AB4-BC7F-3BE48D44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06CE-5C00-445E-90EB-8BA7B835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CE35C-2042-4CAB-84C4-8D7EE84E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9803F-89F2-4A1A-9B7C-77B10261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BC9A4-74BC-4E07-AB03-DA6D1E8D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FF770-BFF0-420E-A6CD-E090E902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1838B-8345-4AAC-8222-6E1A2628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6407D-F372-4DA1-B5D4-FAAED53C0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C07F9-2F5E-4A6C-80C5-07D03AE77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A9A1F-0C4B-434D-B0E2-D733895A1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D2AA4-6A90-49BC-83EE-22133173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FB467-3C5B-4DB1-97FE-D0A452AC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BADB-F7C4-4982-BD24-A8D973A3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561E0-E5D6-4112-AE75-45634925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802EB-1D65-415D-83FF-C9514E25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3976D-231B-46AD-B3EB-E570D49F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EA897-DE09-48AF-86F7-7341922F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B5919-01F2-479A-AC06-25360627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02B7D-36EA-4F6A-BAD2-9306A1FE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84BFD-AEC2-4668-A1C2-C09DA599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47C12-24DF-4211-B50A-B67685C4F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B245C-3C6F-4796-936E-A755FF503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E970-3C6D-4CA6-8350-7BB997DB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BADC-F1C3-4EFB-9272-2B9DE19A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CE8A-5028-4A73-A11D-3D53C20C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A863-C683-4C59-85B2-D43C4F71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AEE8-2F0B-48DA-AA1F-D8F254E4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121F-C230-4142-9140-D7173DDE5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55D1-2BCC-49A7-9467-7FB9E62BB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3887-0E53-4F83-9BBC-51E2499A918C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11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2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4A3F-8DE0-4824-919E-A2D0B862834A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26560" y="2349000"/>
            <a:ext cx="6409080" cy="29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Mokslinio valdymo teorijos raida ir reikšmė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3E51-CF17-42A7-88D3-07CCF0E115C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254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Matavimo techniko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9311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Therblig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Judesių analizės standartizavimas: simbolis, operacija, spalv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Operacijos: tyrimas, suradimas, suvokimas, apibūdinimas, inspektav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Vidutiniškai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žingsnių, lydimų simbolių ir spalvų, operacijo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3BD5-A4FE-43AB-84CC-0845FE748EA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254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Matavimo techniko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9311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Proceso diagr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Standartizuota proceso operacijų fiksavimo metodi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Procesų analizės simbolių sistema: Gamyba, Transportavimas, Inspektavimas, Prastovos ir Sandėliavi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D1AC-6323-46EB-9A10-1FED8F2A84C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Henry L. Gant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1861-1919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Taylor bendražyg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Pramonės įmonių konsultant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Tyrimo objektas – darbininkų skatinimo sist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Naujovė – užduoties – premijos atlygio siste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ADBC-4C8F-4D32-96A1-79FF11AEE95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Užduoties – premijos atlygio sistem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irminė motyvacija – darbininko skatinimas, įvykdžius užduot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ieniem įvykdžius, stengiasi ir ki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ntrinė motyvacija – dvigubas brigadininko skatinimas, įvykdžius užduotį kiekvienam ir visiems darbinink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ininkų darbo našumas priklauso nuo vadovų veik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8D03-01C6-4D10-B2D7-F42D0210B8A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254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Veiklos optimizavimas, skatinan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927920" cy="406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105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Skirtingai nei pirmtakai, sureikšmino darbininkų iniciatyvą ir atsakomybę, atlyginant už tai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5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Išryškino vadovų vaidmenį darbininkų veiklos efektyvumui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5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Darbininkų veiklos rezultatų viešinimas – svarbi motyvacinė priemonė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9FB1-14D7-40A0-A237-3BCC7C863B1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b7e7ff"/>
                </a:solidFill>
                <a:latin typeface="Arial"/>
              </a:rPr>
              <a:t>Ganto diagram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1360" y="198108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o laiko grafinis planavim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o rezultatų grafinis vaizd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Įrengimų ir medžiagų panaudojimo laike vaizd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amybos rezultatų kontrol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amybos kalendorinio planavimo ištak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A15A-68A0-40B5-A1F8-400D269AFA1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66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77400" y="328680"/>
            <a:ext cx="8685720" cy="5905800"/>
            <a:chOff x="77400" y="328680"/>
            <a:chExt cx="8685720" cy="5905800"/>
          </a:xfrm>
        </p:grpSpPr>
        <p:sp>
          <p:nvSpPr>
            <p:cNvPr id="210" name=""/>
            <p:cNvSpPr/>
            <p:nvPr/>
          </p:nvSpPr>
          <p:spPr>
            <a:xfrm>
              <a:off x="228600" y="1066680"/>
              <a:ext cx="8534520" cy="38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8000" y="1066680"/>
              <a:ext cx="110196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Activ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14080" y="1066680"/>
              <a:ext cx="94500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Mont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9080" y="1878120"/>
              <a:ext cx="2824200" cy="34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Edit Manuscrip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Design Sample Pag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Draw Artwor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Print Galley Proof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Print Page Proof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Design Co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48120" y="1689120"/>
              <a:ext cx="1371600" cy="365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495680" y="1689120"/>
              <a:ext cx="1371600" cy="365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43600" y="1689120"/>
              <a:ext cx="1371600" cy="365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391520" y="1689120"/>
              <a:ext cx="1371600" cy="365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581280" y="1533600"/>
              <a:ext cx="381240" cy="31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848720" y="1533600"/>
              <a:ext cx="380880" cy="31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23760" y="1508040"/>
              <a:ext cx="32328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891200" y="1488960"/>
              <a:ext cx="32328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29200" y="1533600"/>
              <a:ext cx="380880" cy="31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00800" y="1533600"/>
              <a:ext cx="380880" cy="31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1922400"/>
              <a:ext cx="1371600" cy="19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90760" y="1508040"/>
              <a:ext cx="32328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48120" y="2000160"/>
              <a:ext cx="1295280" cy="15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09880" y="2544840"/>
              <a:ext cx="2057400" cy="19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09880" y="2584440"/>
              <a:ext cx="1943280" cy="19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09880" y="3168720"/>
              <a:ext cx="1524240" cy="19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809880" y="3206880"/>
              <a:ext cx="1440000" cy="19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95680" y="3713040"/>
              <a:ext cx="2819520" cy="19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495680" y="3751200"/>
              <a:ext cx="2662200" cy="19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943600" y="5035680"/>
              <a:ext cx="2057400" cy="19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43600" y="5075280"/>
              <a:ext cx="1943280" cy="19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391520" y="4413240"/>
              <a:ext cx="1371600" cy="19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81440" y="5557680"/>
              <a:ext cx="18198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66"/>
                  </a:solidFill>
                  <a:latin typeface="Arial"/>
                </a:rPr>
                <a:t>Reporting D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245360" y="5430960"/>
              <a:ext cx="216000" cy="142920"/>
            </a:xfrm>
            <a:prstGeom prst="triangle">
              <a:avLst>
                <a:gd name="adj" fmla="val 49977"/>
              </a:avLst>
            </a:prstGeom>
            <a:solidFill>
              <a:srgbClr val="ffffff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98040" y="5535720"/>
              <a:ext cx="2133720" cy="69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Actual Progres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Goa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209680" y="5891040"/>
              <a:ext cx="22860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09680" y="5580000"/>
              <a:ext cx="228600" cy="23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400" y="328680"/>
              <a:ext cx="5959080" cy="75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6666"/>
                  </a:solidFill>
                  <a:latin typeface="Arial"/>
                </a:rPr>
                <a:t>A Sample Gantt Chart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609480" y="6248520"/>
            <a:ext cx="1981440" cy="457200"/>
            <a:chOff x="609480" y="6248520"/>
            <a:chExt cx="1981440" cy="457200"/>
          </a:xfrm>
        </p:grpSpPr>
        <p:sp>
          <p:nvSpPr>
            <p:cNvPr id="243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/>
            <p:cNvPicPr/>
            <p:nvPr/>
          </p:nvPicPr>
          <p:blipFill>
            <a:blip r:embed="rId1"/>
            <a:stretch/>
          </p:blipFill>
          <p:spPr>
            <a:xfrm>
              <a:off x="609480" y="6248520"/>
              <a:ext cx="135000" cy="13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7D26B-3FA0-4E0E-A123-D9D75E1035DB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b7e7ff"/>
                </a:solidFill>
                <a:latin typeface="Arial"/>
              </a:rPr>
              <a:t>Henry Emerson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1360" y="198108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Dvylika našumo principų “The twelve principles of Efficiency”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1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kslinio valdymo teorijos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nuostatų sistematizavimas ir kompleksiškas pateik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F912-FEAA-41F1-A65E-138A755E3E2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b7e7ff"/>
                </a:solidFill>
                <a:latin typeface="Arial"/>
              </a:rPr>
              <a:t>Dvylika našumo principų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1360" y="198108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572760" indent="-57276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Idealiai ir preciziškai suformuluoti tikslai – racionalaus veiklos valdymo pagrin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Organizacinių sprendimų pagrįstumas ir optimalu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Optimalus gerų ir techniškai tobulų įrengimų naudojimas – našumo pagrin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Naujausių pasiekimų ir žinių naudojimas visose organizacijos valdymo srity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Darbo drausm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BFBB-8A4B-40E2-B3BF-D3662127502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7e7ff"/>
                </a:solidFill>
                <a:latin typeface="Arial"/>
              </a:rPr>
              <a:t>Dvylika našumo principų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554400" indent="-5544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o atlikimo standartizav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o normav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Darbininkų kvalifikacinis atitikimas ir teisingas žmonių parinki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9. Darbo saugu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.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Teisingas atlygis už darb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.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o rezultatų apskaita ir įvertin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.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o dispečerizavimas – kontrolė ir koordinav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EE6B-2161-40E6-B4B0-DAAF64D31BC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Paskaitos tikslai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1720" y="1977840"/>
            <a:ext cx="8080560" cy="43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Apžvelgti mokslinio valdymo teorijos autori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Įvertinti skirtumus tarp skirtingų autorių teorinių apibendrinim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Nustatyti pagrindines mokslinio valdymo teorijos vystymosi tendencij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Įvertinti mokslinio valdymo teorijos privalumus ir trūkum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Įvertinti mokslinio valdymo mokyklos indėlį vadybos mokslu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C997-9A92-4A8F-B521-31EE63F26E1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b7e7ff"/>
                </a:solidFill>
                <a:latin typeface="Arial"/>
              </a:rPr>
              <a:t>Henry Ford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1360" y="198108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Airio imigranto sūnu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863 – 194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03m.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Įkūrė kompaniją “Ford Motor Compan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08m.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Sukonstruotas pirmasis T model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D415-B4B2-4580-977A-3EE03371174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7e7ff"/>
                </a:solidFill>
                <a:latin typeface="Arial"/>
              </a:rPr>
              <a:t>Automobilis visiem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vajonė – sukurti automobilį prieinamą daugeliu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Būdas – didelės gamybos apimtys ir žema kai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Gamybos pajėgų efektyvus panaudoj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o mechanizavimas ir skaidymas į atskiras užduo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ininkų specializav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FEB2-D662-4B56-8FCC-DCC014A45EC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403848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1896 Sukonstruoja savo pirmąjį automobilį Kvadraciklą ir važinėjasi juo po Detroito gat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1899 Vedantysis inžinierius – konstruktorius ir vienas iš savininkų naujai įkurtoje Detroito automobilių kompanijoje. Kompanija pagamino tik keletą automobili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1901 Bandoma organizuoti Henry Ford Company, bet neišėjus susitarti su galimais investuotojais kompanija neįkuria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4643280" y="404640"/>
            <a:ext cx="4038840" cy="27640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4643280" y="3357720"/>
            <a:ext cx="4032360" cy="302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DA0D-AF42-4B04-9554-506DB0DD427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40384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1903 Oficialiai įkuriama Ford Motor Company. Pirmasis Fordo modelis A pateikiamas pirkėjams Detroi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1908 Fordas pradeda gaminti savo įžymųjį  modelį 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1910 Pradeda veikti Highland Park gamykla Michigano valstijoj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5435640" y="333360"/>
            <a:ext cx="3101760" cy="453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B91A-8166-4268-A2FB-921AF2BE0FC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b7e7ff"/>
                </a:solidFill>
                <a:latin typeface="Arial"/>
              </a:rPr>
              <a:t>Gamybos mechanizavima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mybos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organizavimas linijos – konvejerio princip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Pirmoji modernaus konvejerio dalis – magneto vijos surinkima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913m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Anksčiau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darbininkas gamindav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4-40vnt. per darbo dien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Konvejeris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9 operacij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inkimo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laikas sutrumpėjo nu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20 iki 13 m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vejerio pritaikymas visoms operacij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B6AD-8EE1-4686-B15E-BF3FF313F2B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7e7ff"/>
                </a:solidFill>
                <a:latin typeface="Arial"/>
              </a:rPr>
              <a:t>Modelis 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597240" indent="-59724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irmasis modelis pe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,5 v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20m. Automobilis kas 1 m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25m. T modelis kas 5 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3 min.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automobiliui surinkt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ina 780 USD – 1910-11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50 USD – 1914-15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80 USD – 1918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30 041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už šią kainą parduoti automobili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59C7-D3B5-4665-8D6B-799E30B01D9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4038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1926 sukuriamas trimotoris lėktuv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1927 Baigiamas gaminti modelis T ir atnaujinus konvejerinę liniją  pradedamas gaminti naujas modelis 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4788000" y="549360"/>
            <a:ext cx="3809880" cy="30290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4788000" y="3860640"/>
            <a:ext cx="3887640" cy="25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8BC4-F402-45F8-B218-CDEBAB9AC6AF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95280" y="333360"/>
            <a:ext cx="856944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1932 sukuriamas pirmasis automobilis su V-8 varikli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1933 sėkmingai numalšinamas streikas kurį organizavo visuotinė automobilių gamintojų darbininkų profsąjun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1619280" y="2997360"/>
            <a:ext cx="5267160" cy="3571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417F-850E-4FD7-8E29-0053BBB3DF66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push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b7e7ff"/>
                </a:solidFill>
                <a:latin typeface="Arial"/>
              </a:rPr>
              <a:t>Masinės gamybos stebukla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Masinė gamyba eina masinio vartojimo priekyje ir įgalina, sumažinus kainas, gaminti patogesnius dalykus prieinamesnėmis kainomi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H. For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34F7-DFE0-41F9-85BB-39633045EC1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b7e7ff"/>
                </a:solidFill>
                <a:latin typeface="Arial"/>
              </a:rPr>
              <a:t>Mokslinio valdymo mokyklos nuopelnai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Racionalus požiūris į darbo organizavimą, tiksliai įvertinant užduotis ir proces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o užduočių matavimo informacija įgalino tobulinti darbo metodus, veiklos planavim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o metodų tobulinimas leido didinti darbo našumą ir produktyvum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o apmokėjimas susietas su darbo rezultata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FA5D-8A15-4E87-9EA8-8AD64F32594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b7e7ff"/>
                </a:solidFill>
                <a:latin typeface="Arial"/>
              </a:rPr>
              <a:t>Mokslinio valdymo mokykla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7840" y="1774440"/>
            <a:ext cx="8227800" cy="431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usiformavo JA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Iniciatoriai – mokslininkai ir organizacijų vadova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Objektas – darbo organizavimas ir darbininkų veiklos produktyvumo didin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1F1B-8636-4DD0-AF46-D5AE2EBC89B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b7e7ff"/>
                </a:solidFill>
                <a:latin typeface="Arial"/>
              </a:rPr>
              <a:t>Mokslinio valdymo mokyklos nuopelnai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Vadovų (žem. Lygmens) sureikšminimas ir motyvavi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Motyvavimas taip pat buvo nukreiptas į fizinių darbo sąlygų pagerinimą darbininka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Padėjo pamatus moderniems darbo proceso analizės metodams ir kiekybinėms valdymo techniko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94FF-554F-400D-8C33-188919F88DA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b7e7ff"/>
                </a:solidFill>
                <a:latin typeface="Arial"/>
              </a:rPr>
              <a:t>Mokslinio valdymo mokyklos trūkumai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Darbininko vaidmens sumažinimas iki primityvaus, rutininio simplifikuotų operacijų atlikim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Sąlygojo darbo fragmentaciją ir pilno proceso suvokimo praradim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Darbininkų motyvacija tapo siaurai piniginė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Darbo proceso ir vietos planavimas tapo išimtinai vadovų užduotim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Prarastas darbo užmokesčio realus vertinimas, nes tapo “moksliškai” apskaičiuotas, priklausomai nuo įkainių ir laik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F2DB-E7A3-49BB-9872-B414ED0AC85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b7e7ff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Industrinė revoliu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amybos įmonių aug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o organizavimo efektyvumo proble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Našumo ir produktyvumo proble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Kvalifikuotos darbo jėgos trūku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ininkų motyvavimo klausima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o organizavimo mokslinių metodų nebu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71FD-301E-442E-A65A-EB02C105F1A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Mokslinio valdymo mokyklos atstovai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6400" y="1844280"/>
            <a:ext cx="8229600" cy="400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Frederick W. Tayl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Frank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Lillian Gilbret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Henry Gant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Henry Emer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Henry F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1FDE-CFA8-40EE-B38E-5FFEA856F5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Frank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&amp; </a:t>
            </a: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Lillian Gilbreth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Frank B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1841-192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o organizavimo tyrinėtoj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llian M. (1878-197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dymo ir psichologijos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pecialist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Tyrimo objektas – darbininkų nuovargis ir judesia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Žmonių darbo sąlygų gerinimas ir judesių optimiz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491E-DDB5-4D11-97BE-DA47044AF43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254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Judesių optimizavima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9311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Mūrininko darbo efektyvinim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Judesių sumažinimas nu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 iki 4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ienai plytai padė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o efektyvumo padidinimas nu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00 iki 2700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lytų per darbo dien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ininko darbo tempas išliko toks p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7775-1433-4B5C-9C9A-CA236C927F9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254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Principas: One best wa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9311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Kuo mažiau judesių tuo mažiau pavargstama – tuo daugiau padaro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Judesių tyrimas ir laiko matavim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Geriausių atlikimo būdų nustatym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CC66-8FBD-45A2-9B9E-DA201009960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254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Planavimas / Vykdyma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9311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Taisyklių ir procedūrų nustatymas veiklos atlikimo efektyviausiu bū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Našumo didinim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o užmokesčio aug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lanavimo ir vykdymo veiklų atskyr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20B9-09BB-4432-AF1B-BBE904FDCA9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3-08T13:42:17Z</dcterms:modified>
  <cp:revision>26</cp:revision>
  <dc:subject/>
  <dc:title>Introduction to Management</dc:title>
</cp:coreProperties>
</file>