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F836-46FF-48C9-9A6C-C38DDDBA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6C44-33EF-4292-BA31-6E743EA3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D918-237F-49D1-B4AC-1A533AD3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DDD0-26B8-452F-93F9-5F3519F6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66C6-876C-4EBE-A1B1-4C81572F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2674-E6A8-4970-9AB7-E7062785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E250-86B3-40CA-A523-75EC3A47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1794-9A69-49E6-9370-802552D7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4752-691E-4AC4-9104-E14B6866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F534-F052-4EAF-A9D0-1DDA5C22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AF65-07B0-465E-9809-736F3620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062D-BA0A-48A1-A214-2C58DA60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3B4D-1F1B-4C16-8E7F-5BF18A00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12E6-9986-4DAA-98D0-B31CC594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737D-953D-4C69-918F-BB4D9345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6D47-DF81-412A-A21A-E08B8437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4B32-867F-4AC8-9A2D-1F95DD39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3A26-56E1-4331-90DC-A193CF09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7C35-AC1C-410A-94C0-D5F5DC51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6F6D-FCE4-4305-99F3-490E6AF3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F0AF-22C8-4ECA-A0F2-1374E3BC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816E-5E5B-405F-9207-AF6511DC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C0C4-A3B4-4918-AB3B-4221B5B8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8EE7-FA4F-4E6C-BEC6-D0A3A27C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6AF6-5CEF-4451-9FEB-BDD487C21C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B11E-71BB-42CC-BD96-27846ABFF7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dfdef6"/>
                </a:solidFill>
                <a:latin typeface="Arial"/>
              </a:rPr>
              <a:t>Klasikinės organizacijų valdymo teorijos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F057-9942-4900-A2D5-62C22CD453A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ių vadybos teorijų trūku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Idėjos - pagrįstos patirtim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ffffff"/>
                </a:solidFill>
                <a:latin typeface="Arial"/>
              </a:rPr>
              <a:t>Patirtis apribota daugiausiai gamybinių organizacijų veik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Nepatikrintos ir nepagrįstos prielaid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ffffff"/>
                </a:solidFill>
                <a:latin typeface="Arial"/>
              </a:rPr>
              <a:t>Prielaidos pagrįstos vertybiniu vertinimu ir moralinėmis nuostatomis, bet ne moksliniais tyrim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Neformalių santykių organizacijose neįvert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ffffff"/>
                </a:solidFill>
                <a:latin typeface="Arial"/>
              </a:rPr>
              <a:t>Svarbu tik formalūs org. ryšiai, taigi darbuotojų dalyvavimas neanalizuoja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3D6C-4CB5-40EA-894A-E1D6510AAD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ių vadybos teorijų trūku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Nenumatytos ir neapibrėžtos pasekmė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ffffff"/>
                </a:solidFill>
                <a:latin typeface="Arial"/>
              </a:rPr>
              <a:t>Neįvertintas veiklos formalizavimo poveikis darbuotojų veiklos efektyvumui ir racionalum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Mašinistinė organiz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ffffff"/>
                </a:solidFill>
                <a:latin typeface="Arial"/>
              </a:rPr>
              <a:t>Žmogus tik priedas prie mašinų (įrengim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Statinės sąly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ffffff"/>
                </a:solidFill>
                <a:latin typeface="Arial"/>
              </a:rPr>
              <a:t>Neįvertinta aplinkos sąlygų ka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0114-D962-488D-B7EE-F8C07D016D5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Objektyvi klasikinių vadybos teorijų kūrimo aplink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Darbininkai buvo mažai kvalifikuoti, karjeros samprata buvo nesuvoki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Pagrindiniai darbininkų poreikiai koncentravosi fiziologinių lygmeny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Technologijos keitėsi gana sparčiai ir efektyvus jų panaudojimas buvo svarbiau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Vadybos teorinė mintis tik rutuliojosi, taigi autorių požiūris buvo nenuoseklus ir sia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B270B-248F-40D1-B6A7-CE2D5CC509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ių vadybos teorijų privalu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Į valdymą pažvelgta, kaip į mokslinių tyrimų objekt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Valdymo veikla atskirta nuo darbinės veik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Išryškinta valdymo veiklos įtaka organizacijos veiklos rezultatyvum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Suformuluoti organizacijos ir darbinės veiklos valdymo princip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Į organizaciją pažvelgta, kaip sudėtingą, formalizuotą struktūr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36B95-1B62-4462-BC27-100861581E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ibūdinti klasikinių teorijų atsiradimo priela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žvelgti klasikines vadybos teorij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žvelgti klasikinių teorijų autori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Įvertinti klasikinių vadybos teorijų privalumus ir trūku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796F-E2A1-4C69-B3F9-7F84CCFFA25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parti verslo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rinkų atsiradimas ir plėtra         (ypač JA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erslo infrastruktūros plėtra (keliai, geležinkeliai, ryšiai – telegraf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technologijų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B4D8D-75F8-43B7-8518-E76152BBDB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Valdymo metodų poreiki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Būtinybė naujų valdymo metodų, </a:t>
            </a:r>
            <a:r>
              <a:rPr b="0" i="1" lang="lt-LT" sz="3600" spc="-1" strike="noStrike">
                <a:solidFill>
                  <a:srgbClr val="ffffff"/>
                </a:solidFill>
                <a:latin typeface="Arial"/>
              </a:rPr>
              <a:t>integruojančių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technologijas, medžiagas ir darbo jėg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Poreikis spręsti prekių ir paslaugų gamybos </a:t>
            </a:r>
            <a:r>
              <a:rPr b="0" i="1" lang="lt-LT" sz="3600" spc="-1" strike="noStrike">
                <a:solidFill>
                  <a:srgbClr val="ffffff"/>
                </a:solidFill>
                <a:latin typeface="Arial"/>
              </a:rPr>
              <a:t>produktyvumo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proble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Siekis didinti organizacinės veiklos </a:t>
            </a:r>
            <a:r>
              <a:rPr b="0" i="1" lang="lt-LT" sz="3600" spc="-1" strike="noStrike">
                <a:solidFill>
                  <a:srgbClr val="ffffff"/>
                </a:solidFill>
                <a:latin typeface="Arial"/>
              </a:rPr>
              <a:t>efektyvum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72FB-3533-45C8-850F-9945B49635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lasikinių vadybos teorijų vystymo krypty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Mokslinio valdymo mokyk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Klasikinės organizacijos (administravimo) teorijų mokyk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6BFB-4508-4C6B-8921-D69A2F3C96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dfdef6"/>
                </a:solidFill>
                <a:latin typeface="Arial"/>
              </a:rPr>
              <a:t>Mokslinio valdymo mokykla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701360"/>
            <a:ext cx="7929720" cy="442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usiformavo JA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iciatoriai – mokslininkai ir organizacijų vadov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bjektas – darbo organizavimas ir darbininkų veiklos produktyvumo did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E610-72BA-4E3C-A56A-D18D039AE2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Mokslinio valdymo mokyklos atstov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ederick W. Tay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an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Lillian Gilbre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Gan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Em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4BE4D-850F-40AC-AECA-397C3543F3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ų mokykl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siformavo JAV ir Europoj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Iniciatoriai – mokslininkai ir organizacijų vadov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Objektas – organizacijos, kaip visumos, veikla ir jos valdy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C62F-124D-4B17-B969-C73A43753F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o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dministravimo teo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Henri Fay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Chester Bern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L. Gulic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L. Urw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Idealaus biurokratinio valdymo teo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Max We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BFD9-2EDF-4FC5-92E6-FBCDE931A4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7:27Z</dcterms:modified>
  <cp:revision>22</cp:revision>
  <dc:subject/>
  <dc:title>Introduction to Management</dc:title>
</cp:coreProperties>
</file>