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6F3-071D-4D19-84E5-063CADE5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5FA3-73E3-4AF2-B004-7AD763F5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350-7959-436D-879C-D019561A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81F-AD0E-477A-A5C6-2FF36F6A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8AAC-7442-4B38-9029-638913C9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116A-71D4-4A6A-BF20-251CC032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E8DD-6ED7-4BDB-BD90-FB55BE54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8FAE-92BC-4382-BEEB-948DCB25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249E-F5AF-470A-837F-82D49AAE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5A5D-F6D8-4A51-8B9C-D2BC3C49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12DE-3E47-484D-AAB7-CA2417A0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D101-558A-4459-AB46-62CB4A65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663B-3A2D-4416-90D5-1311B354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23E5-9E7B-4BFE-8B6D-5FD5FCD1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FE5C-321F-44C8-820A-61B0ABB5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C14B-F468-4729-BE11-DA06CFC9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8551-BACB-4711-AA01-11510AE7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3A8-52C0-4C06-8E1D-85AD9A73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2178-F08E-4E8E-ACA3-056F6160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3EB-D309-4CF4-BE4A-779EF8E2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481-17CB-4B1B-9FD1-6B426A7B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5F01-6EEA-4AEC-90F4-C85AB1C7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C18B-84CD-4BC9-8B0A-04AD8CCC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810F-A9B3-4727-9A1C-2F22A529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reivi</a:t>
            </a: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ų konstravimo metodai ir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programinė įrang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440"/>
            <a:ext cx="4952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vydas Rancov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akalauro darb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5715000"/>
            <a:ext cx="5181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adovas: prof. V. Pluk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artotojo s</a:t>
            </a: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ąsa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2720" y="20570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niu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nktai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il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daguo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dy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z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-splain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gal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2-141" descr=""/>
          <p:cNvPicPr/>
          <p:nvPr/>
        </p:nvPicPr>
        <p:blipFill>
          <a:blip r:embed="rId1"/>
          <a:stretch/>
        </p:blipFill>
        <p:spPr>
          <a:xfrm>
            <a:off x="646200" y="2149560"/>
            <a:ext cx="56782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gramos galimybės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Leidžia konstruoti 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Bezje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 –os eilės, racionaliąsias,  papildytas, apskritimus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pses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udojant 3-os eilės Bezje kreiv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odant Sąsaj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arp 3-iosios eilės Bezje ir B-splainų kreivių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-splainų kreives.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Patogi pagalbos sistem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Tetavima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B-splainų kreivių ir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os eilės Bezje kreivių konstravimo teisingumo testavim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Ta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5562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Bezje kreivių kūrimo pavyzdžia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19920" y="190476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s,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s, 4 –os,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os eilės Bezje kreivių konstravim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limybė atvaizduoti Krieves, Liestines, Taškus, Indeksus bei svoriu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la" descr=""/>
          <p:cNvPicPr/>
          <p:nvPr/>
        </p:nvPicPr>
        <p:blipFill>
          <a:blip r:embed="rId1"/>
          <a:stretch/>
        </p:blipFill>
        <p:spPr>
          <a:xfrm>
            <a:off x="533520" y="2084400"/>
            <a:ext cx="556236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Racionaliųjų Bezje kreivių kūrimo pavyzdžia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19920" y="190476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cionalioji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s         eilės Bezje kreivė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limybė kiekvienam kontroliniui taškui nustatyti atitinkamą svorį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40600" y="130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tete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563904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B-splainų  kreivių kūrimo pavyzdžia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77120" y="3200400"/>
            <a:ext cx="2666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 - iosios eilės         B-splainų kreivė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mama" descr=""/>
          <p:cNvPicPr/>
          <p:nvPr/>
        </p:nvPicPr>
        <p:blipFill>
          <a:blip r:embed="rId1"/>
          <a:stretch/>
        </p:blipFill>
        <p:spPr>
          <a:xfrm>
            <a:off x="304920" y="1940040"/>
            <a:ext cx="584352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cbcbcb"/>
                </a:solidFill>
                <a:latin typeface="Times New Roman"/>
              </a:rPr>
              <a:t>Aparatūriniai ir sisteminiai resursai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IBM PC, Intel 166 MHz;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O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Windows95, Windows95, Windows 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audota programin</a:t>
            </a: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ė įrang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sual C++ 5.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ML Help Workshop 1.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S Word9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švad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Darbe išnagrinėti tolydžiųjų kreivių konstravimo metodai, naudojant n-tos eilės (n&lt;34) Bezje polinomus, 3 –iosios eilės racionaliąsias Bezje kreives bei B-splainu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Išnagrinėti metodai bei sukurta programinė įranga bus naudojama dėstant “Skaičiavimo metodai 2” kursą ir padės studentams geriau įsisavinti bei įsivaizduoti kreivių konstravimą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Darbo tikslas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šnagrinėti norimos formos tolydžiųjų kreivių konstravimo metodus, naudojant Bezje polinomus, 3–ios eilės racionaliąsias Bezje kreives bei B-splainu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ukurti patogią programinę įrangą skirtą tokių kreivių konstravimu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roduktas bus naudojamas dėstant “Skaičiavimo metodai 2” kursą ir padės studentams geriau įsisavinti bei įsivaizduoti kreivių konstravimą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Bezje polinomų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219320" y="4724280"/>
                <a:ext cx="312408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685800" y="1981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Turime aibę taškų :                                                      Šie taškai, dar vadinami Bezjė tašk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124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Tada n – tosios eilės Bezjė polinomas, kurį nusako taškai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          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 parametrine forma apibrėžiamas taip:                                                      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   , kur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72000" y="2057400"/>
                <a:ext cx="2971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581280" y="3581280"/>
                <a:ext cx="19177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38680" y="5006880"/>
                <a:ext cx="3124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u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cbcbcb"/>
                </a:solidFill>
                <a:latin typeface="Times New Roman"/>
              </a:rPr>
              <a:t>Bezje 3-iosios eilės polinomų kreivė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752480" y="2209680"/>
            <a:ext cx="6477120" cy="4114800"/>
            <a:chOff x="1752480" y="2209680"/>
            <a:chExt cx="6477120" cy="4114800"/>
          </a:xfrm>
        </p:grpSpPr>
        <p:graphicFrame>
          <p:nvGraphicFramePr>
            <p:cNvPr id="103" name=""/>
            <p:cNvGraphicFramePr/>
            <p:nvPr/>
          </p:nvGraphicFramePr>
          <p:xfrm>
            <a:off x="1752480" y="2209680"/>
            <a:ext cx="2819520" cy="175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209680"/>
                      <a:ext cx="2819520" cy="175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4572000" y="2209680"/>
            <a:ext cx="3657600" cy="175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2209680"/>
                      <a:ext cx="3657600" cy="175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7" name=""/>
            <p:cNvGrpSpPr/>
            <p:nvPr/>
          </p:nvGrpSpPr>
          <p:grpSpPr>
            <a:xfrm>
              <a:off x="1752480" y="3962520"/>
              <a:ext cx="6477120" cy="2361960"/>
              <a:chOff x="1752480" y="3962520"/>
              <a:chExt cx="6477120" cy="2361960"/>
            </a:xfrm>
          </p:grpSpPr>
          <p:graphicFrame>
            <p:nvGraphicFramePr>
              <p:cNvPr id="108" name=""/>
              <p:cNvGraphicFramePr/>
              <p:nvPr/>
            </p:nvGraphicFramePr>
            <p:xfrm>
              <a:off x="4495680" y="3962520"/>
              <a:ext cx="3733920" cy="2361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0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495680" y="3962520"/>
                        <a:ext cx="3733920" cy="23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0" name=""/>
              <p:cNvGraphicFramePr/>
              <p:nvPr/>
            </p:nvGraphicFramePr>
            <p:xfrm>
              <a:off x="1752480" y="3962520"/>
              <a:ext cx="2743200" cy="2361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752480" y="3962520"/>
                        <a:ext cx="2743200" cy="23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Racionaliosios Bezje kreivės</a:t>
            </a: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Racionalio</a:t>
            </a: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ji</a:t>
            </a: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n-ojo laipsnio Bezje kreivė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užrašoma taip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648320" y="1752480"/>
                <a:ext cx="380988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33520" y="3581280"/>
            <a:ext cx="76960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aškai       vadinam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troliniais taškais, o skaičiai     - atitinkamų kontrolinių taškų svoria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133720" y="3581280"/>
                <a:ext cx="446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209680" y="4038480"/>
                <a:ext cx="519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Racionaliosios Bezje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2590920"/>
          <a:ext cx="777240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-splain</a:t>
            </a: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ų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Splainas –tai tolydžioji iki p-osios eilės išvestinės imtinai funkcija, sudaryta iš kokios nors funkcijos dalių. Istoriškai splainai buvo pradėti konstruoti iš n-tiosios eilės polinomo dalių. Todėl čia splainai, suvokiami kaip funkcijos, sudarytos iš polinomo dalių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Paprasčiausias ir seniausiai naudojamas splaino pavyzdys yra laužtė. Tai pirmosios eilės splainas, kuriam 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lt-LT" sz="2400" spc="-1" strike="noStrike">
                <a:solidFill>
                  <a:srgbClr val="ffffff"/>
                </a:solidFill>
                <a:latin typeface="Arial"/>
              </a:rPr>
              <a:t>0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Jei splainas sudarytas, pavyzdžiui, iš kubinio polinomo dalių, tai jis vadinamas kubiniu splainu ir  jam   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391520" y="5105520"/>
                <a:ext cx="14475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-splain</a:t>
            </a: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ų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5" name="1.26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3505320" cy="2260800"/>
          </a:xfrm>
          <a:prstGeom prst="rect">
            <a:avLst/>
          </a:prstGeom>
          <a:ln w="0">
            <a:noFill/>
          </a:ln>
        </p:spPr>
      </p:pic>
      <p:pic>
        <p:nvPicPr>
          <p:cNvPr id="126" name="2.26" descr=""/>
          <p:cNvPicPr/>
          <p:nvPr/>
        </p:nvPicPr>
        <p:blipFill>
          <a:blip r:embed="rId2"/>
          <a:stretch/>
        </p:blipFill>
        <p:spPr>
          <a:xfrm>
            <a:off x="1143000" y="4191120"/>
            <a:ext cx="3657600" cy="19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4572000" y="1981080"/>
          <a:ext cx="342900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981080"/>
                    <a:ext cx="34290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4.26" descr=""/>
          <p:cNvPicPr/>
          <p:nvPr/>
        </p:nvPicPr>
        <p:blipFill>
          <a:blip r:embed="rId5"/>
          <a:stretch/>
        </p:blipFill>
        <p:spPr>
          <a:xfrm>
            <a:off x="4724280" y="4267080"/>
            <a:ext cx="3262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plaino užrašymo form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ra keturios splainų užrašymo formos, iš kurių tik dvi naudojamos praktiniuose skaičiavimuose, tai 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ekviename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nurodoma polinomo išraiška, t.y. dalimis polinominė forma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plainas užrašomas tiesine B-splainų kombinacija.</a:t>
            </a:r>
            <a:r>
              <a:rPr b="0" lang="lt-L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657600" y="3276720"/>
                <a:ext cx="12952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2:29:34Z</dcterms:created>
  <dc:creator>Sigitas Drąsutis</dc:creator>
  <dc:description/>
  <dc:language>en-US</dc:language>
  <cp:lastModifiedBy>alvydas</cp:lastModifiedBy>
  <dcterms:modified xsi:type="dcterms:W3CDTF">1999-06-16T08:26:29Z</dcterms:modified>
  <cp:revision>11</cp:revision>
  <dc:subject/>
  <dc:title>Medžiaga ActiveX laboratorinių darbų pravedimui</dc:title>
</cp:coreProperties>
</file>