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448-4BE6-40BF-9180-BB8D918C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91A-C7AC-42BD-BBAA-F3567C71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0B6-E732-4432-8566-209A867F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209-5F4E-4AD8-88F8-F16DAB18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6E10-4642-4994-B21A-F2478381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58BB-CEA9-4554-B218-119F0B3A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9276-7787-4122-98D1-3262C788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18B0-81AB-41A0-B617-09B4DAAA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AE12-4B0B-4823-921D-35A998B3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E7F7-4548-47DD-9A63-96D7FFA7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5BB-CC45-4FFB-8AF5-820D930B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D26-122A-4986-99C0-E617700B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D0BC-3D89-4DAC-8582-6A7A5D86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4C2C-5308-4ED3-8CB7-7B322423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C67C-6818-4A50-982C-7A155D37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76F3-A8B0-4A09-9744-3EF3AB0A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514F-A983-48C9-9F32-0BC91802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EE4-3C7F-4E4F-8CAF-D9A71508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71E-6BA6-459F-86E6-4A2E7C5A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E58-6B2D-4B1D-86DE-AC50906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DB5-1C37-4DB8-8402-BB428DBF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DB7-3AAA-4876-B4DA-392561EF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C41-DCC3-4094-83FC-863083C6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67F-824D-45CD-8E2E-F0AB1DF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F6D4-9D54-4418-9343-4218C4C894FB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83A1-974A-44E5-84AE-9C375F106B72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arkoz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ės teorij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9:27:00Z</dcterms:created>
  <dc:creator>Antanas</dc:creator>
  <dc:description/>
  <dc:language>en-US</dc:language>
  <cp:lastModifiedBy>Antanas</cp:lastModifiedBy>
  <dcterms:modified xsi:type="dcterms:W3CDTF">2004-01-08T10:30:51Z</dcterms:modified>
  <cp:revision>1</cp:revision>
  <dc:subject/>
  <dc:title>Narkozės teorijos</dc:title>
</cp:coreProperties>
</file>