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D0B4-62A3-4CAB-A418-67B7ADF3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4A13-63F6-4667-9E3C-5B94ED4E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D5D4-38A0-4E42-A908-5183AB8B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2990-13A7-4F29-912E-50D1BE2C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B7B0-06BB-45E1-876F-C135A3EE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F277-8549-4017-8124-A3FEB5C0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2980-0F71-45A9-B4A6-BB0629B7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5424-41CD-4C0D-83F9-541071AE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4998-5B79-4A58-A137-30C5ABF7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6C11-A970-4056-B935-CFDDD3D9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D7FC-3F2A-42A8-912B-385823BB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7601-83DE-40C5-ACDB-1C49954F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47A1-3DA8-4FD3-AFAB-A9D7D499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75BA-9144-4D5F-A877-C4AD6660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9478-232A-4B46-8BDA-46BA986D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F925-08D1-49BF-B4AC-F1B4CBD6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69C6-62E3-4A7E-9861-649B1F83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0894-AFDA-43DE-8D3D-9CF981C7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CA8F-CCB1-4308-99F8-213A870B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9117-9668-4C00-9B2D-34FADED3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DA7D-FD33-4D8F-B67F-6D6C52A0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B836-5D9F-46D8-BB57-1A9066E2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3A4B-F0F6-4D7C-B363-DB054CC6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39E7-49DF-44D4-92BE-42A04540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1D0D-9A97-4627-9D6A-9E6BC6E6DF19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CD32-2F41-4016-A159-C7EBF4900A31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bbraunusa.com/stimuplex/stimuplex-hns11.html" TargetMode="External"/><Relationship Id="rId3" Type="http://schemas.openxmlformats.org/officeDocument/2006/relationships/hyperlink" Target="http://www.bbraunusa.com/stimuplex/stimuplex-dig.html" TargetMode="External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eteziologija iki eteri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koma, kad graikų filosofas Dioskorid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.pr.Kr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irmas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jo terminą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zij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b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damas svaiginantį mandragoros veikim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osios civilizacijos nuskausminimui naudodavo aguonų pieną (opiumą), kokos lapus, mandragoros šaknį, alkoholį, beigi drastiškas priem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okias kaip kraujo nuleidimą iki sąmonės netekim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inei anestezijai sukelti naudodavo nervų kamienų suspaudimą bei šalčio aplikacij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ruojamoje vietoje (krioanalgezija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kai vietiniam nuskausminimui naudodavo kokos lapus: gydytojas pakramtydavo lapų ir prispjaudydavo į žaizdą (kokain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iacinių anestetikų veikimo mechanizma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iacinių anestetikų veikimo mechanizmas iki šiol neaiškus. Smegenyse nėra specifinės anatominės struktūros, į kurią vieną veiktų anestetikai. Jie slopina tinklinį darinį, pusrutulių žievę, hipokampą. Anestetikai taip pat slopina impulsų plitimą nugaros smegenyse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haliacinių anestetikų veikimą bando aiškinti kelios teorijos,kurios turi savų trūkumų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nitarinė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yer-Overto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orij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ar vadinama lipidų teorija, kadangi grindžiama anestetikų tirpumu lipiduo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tezija prasideda anestetikui ištirpus specifinėse lipidų turinčiose struktūrose. Tirpdami membranų fosfolipidiniame sluoksnyje, inhaliaciniai anestetikai padidina jos tūrį, ko pasekoje pasikeičia mebranos funkci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tezija prasideda, kuomet cheminė medžiaga pasiekia tam tikrą koncentraciją hidrofobinė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(lipidinės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ąstelės struktūr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rodymas – tirpumas lipiduose koreliuoja su anestetiniu stiprum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50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ikimo mechanizmas</a:t>
            </a: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yer-Overton teori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nestetiko veikimo stiprumas koreliuoja su jo tirpumu riebaluo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ie</a:t>
            </a:r>
            <a:r>
              <a:rPr b="1" lang="lt-LT" sz="2400" spc="-1" strike="noStrike">
                <a:solidFill>
                  <a:srgbClr val="40458c"/>
                </a:solidFill>
                <a:latin typeface="Tahoma"/>
              </a:rPr>
              <a:t>š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1" lang="lt-LT" sz="2400" spc="-1" strike="noStrike">
                <a:solidFill>
                  <a:srgbClr val="40458c"/>
                </a:solidFill>
                <a:latin typeface="Tahoma"/>
              </a:rPr>
              <a:t>Kai kurie riebaluose tirpios substancijos yra ne anestetikai, bet konvulsant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284720" y="1557360"/>
            <a:ext cx="4572000" cy="4500720"/>
          </a:xfrm>
          <a:prstGeom prst="rect">
            <a:avLst/>
          </a:prstGeom>
          <a:ln w="255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tyminė teorij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estetikai gali susijungti su baltymų molekulėmis.Matoma paralelė tarp anestetiko stiprumo ir fermentų inhibicij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Įrodytas anestetikų sąveika su membranos baltyma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Veik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</a:t>
            </a: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mo mechanizmas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4381560"/>
            <a:ext cx="77724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40458c"/>
                </a:solidFill>
                <a:latin typeface="Tahoma"/>
              </a:rPr>
              <a:t>Hidrofobinės baltymų (receptorių) sritys CNS yra anestetikų veikimo vie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40458c"/>
                </a:solidFill>
                <a:latin typeface="Tahoma"/>
              </a:rPr>
              <a:t>Anestetikai sąveikauja su šiais baltymais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438280" y="1600200"/>
            <a:ext cx="4496040" cy="2597040"/>
          </a:xfrm>
          <a:prstGeom prst="rect">
            <a:avLst/>
          </a:prstGeom>
          <a:ln w="255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inaptinio perdavimo teorij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nestetikas keičia neuromediatoriaus išsiskyrimą sinapsė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inta nervinio impulso plitimas per sinapsę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 kurios anestezijoje naudojamos medžiagos veikia specifiškai į tam tikrus receptorius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696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timuliuojantys receptor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ikotinin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MDA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methyl-D-aspartat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amino-3-hydroxy-5-methyl-4-isoxazole propion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lopinantys receptor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B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minosviesto rūgšt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licino receptoria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nestezijos aktyvuojami”K</a:t>
            </a:r>
            <a:r>
              <a:rPr b="0" lang="lt-LT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anala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drenerginė sistem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timuliuojant selektyvia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gonistais, pvz.:klonidinu, sustiprėja halotano anestetinis veiki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500"/>
                            </p:stCondLst>
                            <p:childTnLst>
                              <p:par>
                                <p:cTn id="31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0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500"/>
                            </p:stCondLst>
                            <p:childTnLst>
                              <p:par>
                                <p:cTn id="32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Veikimo mechanizmas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4343400"/>
            <a:ext cx="77724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Pirmiausiai veikia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GABAA </a:t>
            </a: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receptorius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Jie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Wingdings 3"/>
                <a:ea typeface="Wingdings 3"/>
              </a:rPr>
              <a:t>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receptorių jautrumą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GAB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Padidina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GABA-</a:t>
            </a: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sukeltą Cl</a:t>
            </a:r>
            <a:r>
              <a:rPr b="1" lang="lt-LT" sz="2800" spc="-1" strike="noStrike" baseline="30000">
                <a:solidFill>
                  <a:srgbClr val="40458c"/>
                </a:solidFill>
                <a:latin typeface="Tahoma"/>
              </a:rPr>
              <a:t>- </a:t>
            </a: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srautą daugiau kaip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50%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1600200" y="1371600"/>
            <a:ext cx="5791320" cy="2720880"/>
          </a:xfrm>
          <a:prstGeom prst="rect">
            <a:avLst/>
          </a:prstGeom>
          <a:ln w="255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124080" y="533520"/>
            <a:ext cx="19814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38480" y="1066680"/>
            <a:ext cx="0" cy="3049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371600" y="1371600"/>
            <a:ext cx="26668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1371600"/>
            <a:ext cx="0" cy="380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1752480"/>
            <a:ext cx="2209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Vietin</a:t>
            </a:r>
            <a:r>
              <a:rPr b="0" lang="lt-LT" sz="2200" spc="-1" strike="noStrike">
                <a:solidFill>
                  <a:srgbClr val="40458c"/>
                </a:solidFill>
                <a:latin typeface="Times New Roman"/>
              </a:rPr>
              <a:t>ė anestezij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38480" y="1371600"/>
            <a:ext cx="0" cy="380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1752480"/>
            <a:ext cx="2514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40458c"/>
                </a:solidFill>
                <a:latin typeface="Times New Roman"/>
              </a:rPr>
              <a:t>Regioninė anestezij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38480" y="1371600"/>
            <a:ext cx="38102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848720" y="1371600"/>
            <a:ext cx="0" cy="3049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676520"/>
            <a:ext cx="2438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40458c"/>
                </a:solidFill>
                <a:latin typeface="Times New Roman"/>
              </a:rPr>
              <a:t>Bendrinė anestezij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220968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33520" y="2438280"/>
            <a:ext cx="7617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243828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59092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Pavirš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2438280"/>
            <a:ext cx="7621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57400" y="243828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259092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Infiltrac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209680"/>
            <a:ext cx="0" cy="37339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343040" y="289548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2362320"/>
            <a:ext cx="12193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Periferinių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nervų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blokado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4266720" y="4038480"/>
            <a:ext cx="304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3429000"/>
            <a:ext cx="1143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Ganglijų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ar nervinių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rezginių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bloka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266720" y="4800600"/>
            <a:ext cx="304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457200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Epidūr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266720" y="5334120"/>
            <a:ext cx="304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510552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Spinal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266720" y="5943600"/>
            <a:ext cx="304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563868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Intraveninė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region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7848720" y="2133720"/>
            <a:ext cx="0" cy="457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8680" y="2590920"/>
            <a:ext cx="28958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38680" y="25909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05520" y="3124080"/>
            <a:ext cx="10666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Total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inhaliac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25909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24480" y="3124080"/>
            <a:ext cx="121932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Subalansuo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534520" y="25909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0120" y="3124080"/>
            <a:ext cx="13716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Totalin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intravenin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(TIVA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44956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Kaukin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4495680"/>
            <a:ext cx="18288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Endotrachėj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ir/a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endobronch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38680" y="4191120"/>
            <a:ext cx="0" cy="3045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2920" y="4191120"/>
            <a:ext cx="0" cy="3045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38680" y="4267080"/>
            <a:ext cx="15242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500"/>
                            </p:stCondLst>
                            <p:childTnLst>
                              <p:par>
                                <p:cTn id="4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0"/>
                            </p:stCondLst>
                            <p:childTnLst>
                              <p:par>
                                <p:cTn id="47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6500"/>
                            </p:stCondLst>
                            <p:childTnLst>
                              <p:par>
                                <p:cTn id="4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500"/>
                            </p:stCondLst>
                            <p:childTnLst>
                              <p:par>
                                <p:cTn id="4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9000"/>
                            </p:stCondLst>
                            <p:childTnLst>
                              <p:par>
                                <p:cTn id="49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51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3000"/>
                            </p:stCondLst>
                            <p:childTnLst>
                              <p:par>
                                <p:cTn id="5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500"/>
                            </p:stCondLst>
                            <p:childTnLst>
                              <p:par>
                                <p:cTn id="52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0"/>
                            </p:stCondLst>
                            <p:childTnLst>
                              <p:par>
                                <p:cTn id="5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500"/>
                            </p:stCondLst>
                            <p:childTnLst>
                              <p:par>
                                <p:cTn id="5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nestezij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škas jutimų praradimas ir atsko į aplinkos dirgiklius nebuvim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ai anesteziologija pradėjo vystytis XIX a. antroje pusėje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miej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ieji anestetikai buvo inha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i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eris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z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o suboksidas ir chlorofor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e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tez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o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40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, tačiau medicinoje ir anesteziologijoje buvo panaudotas 1846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m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lio 16 d., kuomet William T.G. Morton Bostone pirmą kartą pademonstravo bendrinę eterio anestezij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oto suboksidą anestezijai 184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ir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ej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jo H.Wells ir G.Colt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oformą pirmą kartą panaudojo H.Coote 1847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populiarino akušeris J.Simpson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naudojęs jį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dymo skausmų sumažinimu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otanas sintezuotas 195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adėtas naudoti 1956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 metoksifluranas pradėtas naudoti 1960m, enfluranas sintezuotas 1963, pra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 naudoti 1973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ge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mažintas arba iš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ęs skausmo pojūtis bei atsakas į skausminius dirgikli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inė anestezija yra dirbtinai sukeltas grįžtamas CNS slopinimas. Jos dalys:</a:t>
            </a: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rkozė (sąmonės išnykimas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gezija (skausmo išnykimas arba sumažėjimas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orelaksacija (skersaruožių raumenų atsipalaidavimas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rovegetacinė blokada (vegetacinių funkcijų slopinimas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inė anestezija yra pakankama, kai yra trys dalys:     1) narkozė (miegas); 2) nejautra (analgezija); 3)raumenų relasacija. Papildomai galima atlikti ir neurovegetacinę blokadą, tai priklauso nuo operacijos apimties ir vie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uroleptanalgezij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cientas yra ram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mažėjęs motorinis aktyvum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mažėjęs/išnykęs baimės jausm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bejingumas aplinkai, esant sąmonei.Pacientas vykdo paliepimu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aistai: neuroleptikas (droperidolis) kartu su opioidiniu analgetiku (fentanil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isociacinė anestezija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ūklė, kuriai būdinga sedacija, nejudrumas, amnezija ir išreikšta analgezij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i sukelti ketaminas, naudojamas vien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inę anesteziją galima sukelti, vartojant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ien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tiką (mononarkozė)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is skirtingus anestetikus (daugiakomponentė anestezija)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nant b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nius anestetikus su vietiniais anestetikais (mišrioj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nant bendrinius anestetikus su vaistas, veikiančiais tam tikrą bendrinės anestezijos komponentą (kombinuotoji anestezija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000"/>
                            </p:stCondLst>
                            <p:childTnLst>
                              <p:par>
                                <p:cTn id="70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500"/>
                            </p:stCondLst>
                            <p:childTnLst>
                              <p:par>
                                <p:cTn id="70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6000"/>
                            </p:stCondLst>
                            <p:childTnLst>
                              <p:par>
                                <p:cTn id="71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tinė anestezija – nedidelės kūno srities anestezija vietiniu anestetiku. Ji gali būti paviršinė (gleivinių ) ir infiltracinė.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iltracinė anestezija – vietinis anestetikas,sušvirkštas po oda, veikia juntamųjų nervų galines šak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i nedidelės koncentracijos vietinių anestetikų tirpalai (pvz. 0.5-1% lidokaino, 1-2% novokaino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eistas vietinis anestetikas pradeda veikti iš karto; veikimo trukmė priklauso nuo anestetiko rūšies bei priedų (pvz. adrenalino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tiko dozė priklauso nuo anestezuojamo ploto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3000"/>
                            </p:stCondLst>
                            <p:childTnLst>
                              <p:par>
                                <p:cTn id="7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inė anestezij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2264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kiros kūno dalies (plaštakos, rankos, kojos) skausmo malšinimas vietiniais anestetikais, kurie veikia nervų kamienus, pluoštus, rezginius, nugaros smegenis. Ji gali būti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dinė nervų kamienų bei rezginių anestezija (blokada)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veninė anestezija, naudojant turniketus (blokada pagal Bier)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nalinė bei epidūralinė anestezij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ferinės nervų blokado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žniausiai atliekamos operuojant viršutin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apatines galūn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inis anestetik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le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t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alia nervų ar nervinių kamienų, sutrikdo nervinio impulso pliti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iausiai yra paplitę viršutinė galūnės nervinių rezginių blokados, nes ranką galima nuskausminti vienkartiniu anestetiko suleidimu. Norint anestezuoti koją, reika 2-3 anestetiko injekcij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500"/>
                            </p:stCondLst>
                            <p:childTnLst>
                              <p:par>
                                <p:cTn id="78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79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ankos laidinė anestezij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klausomai nuo operuojamos srities, galima nus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ti atlikant interskaleninę (tarplaiptinę), supraklavikulinę, infraklavikulinę arba aksiliarinę (pažasties duobėje) petinio rezginio blokad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inis pluoštas nustatomas neurostimuliatoriaus pagalb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eidžiama apie 30-40ml anestetiko tirpalo. Naudojamas 1-2% lidokainas arba 0.5% bupivakain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sideda po 20-30 min., trunka keletą valand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500"/>
                            </p:stCondLst>
                            <p:childTnLst>
                              <p:par>
                                <p:cTn id="81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6000"/>
                            </p:stCondLst>
                            <p:childTnLst>
                              <p:par>
                                <p:cTn id="82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traveninė anestezij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veninė anestezij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m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55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rtu su švirkštu ir adata (A.Wood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bitūratai indukcijai pradėti plačiai naudoti 1927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ezavus heksobarbitalį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opentalis pradėtas naudoti 193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iki šiol išliek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 ger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čiausiai naudojamu intraveniniu anestetik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taminas pasirodė 196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ačiau plačiai pradėtas naudoti 1970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omidatas 197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pofolis 1989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imes New Roman"/>
              </a:rPr>
              <a:t>Neurostimuliatoria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838080" y="1523880"/>
            <a:ext cx="6781680" cy="4571640"/>
            <a:chOff x="838080" y="1523880"/>
            <a:chExt cx="6781680" cy="4571640"/>
          </a:xfrm>
        </p:grpSpPr>
        <p:pic>
          <p:nvPicPr>
            <p:cNvPr id="309" name="" descr="Stimuplex HNS11 and Stimuplex Dig RC: The leading edge in Peripheral Nerve Block Equipment"/>
            <p:cNvPicPr/>
            <p:nvPr/>
          </p:nvPicPr>
          <p:blipFill>
            <a:blip r:embed="rId1"/>
            <a:stretch/>
          </p:blipFill>
          <p:spPr>
            <a:xfrm>
              <a:off x="838080" y="1523880"/>
              <a:ext cx="6781680" cy="45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>
              <a:hlinkClick r:id="rId2"/>
            </p:cNvPr>
            <p:cNvSpPr/>
            <p:nvPr/>
          </p:nvSpPr>
          <p:spPr>
            <a:xfrm>
              <a:off x="4334040" y="1523880"/>
              <a:ext cx="3285720" cy="45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>
              <a:hlinkClick r:id="rId3"/>
            </p:cNvPr>
            <p:cNvSpPr/>
            <p:nvPr/>
          </p:nvSpPr>
          <p:spPr>
            <a:xfrm>
              <a:off x="838080" y="1523880"/>
              <a:ext cx="3229560" cy="45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traveninė regioninė anestezij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audojama viršutinės ir apatinės galūnių nuskausminimui, kuomet operacijos trukmė ne ilgesnė kaip 1 v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ietinis anestetikas sušvirkščiams į galūnės, kurioje turniketo pagalba yra nutraukta kraujotaka, veną žemiau užspaudimo vie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nestetikas, tekėdamas retrogradiškai, pasiekia kapiliarus ir patenka į ekstravaskulinį tarpą, kur nuskausmina nervines galūnė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augusio žmogaus anestezijai pakanka 35-40 ml anestetik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audojami nedidelės (0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 koncentracijos prilokaino, lidokaino ar mepivakaino tirpalai. Nenaudojamas bupivakain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4500"/>
                            </p:stCondLst>
                            <p:childTnLst>
                              <p:par>
                                <p:cTn id="85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500"/>
                            </p:stCondLst>
                            <p:childTnLst>
                              <p:par>
                                <p:cTn id="86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381400" cy="771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2381400" cy="37911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2971800" y="2590920"/>
            <a:ext cx="2381400" cy="31716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4"/>
          <a:stretch/>
        </p:blipFill>
        <p:spPr>
          <a:xfrm>
            <a:off x="3048120" y="304920"/>
            <a:ext cx="2381040" cy="1724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5"/>
          <a:stretch/>
        </p:blipFill>
        <p:spPr>
          <a:xfrm>
            <a:off x="6172200" y="304920"/>
            <a:ext cx="2381400" cy="15904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6172200" y="3352680"/>
            <a:ext cx="2381400" cy="11908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523880" y="1066680"/>
            <a:ext cx="0" cy="1143000"/>
          </a:xfrm>
          <a:prstGeom prst="line">
            <a:avLst/>
          </a:prstGeom>
          <a:ln w="572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90920" y="4267080"/>
            <a:ext cx="380880" cy="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114800" y="1981080"/>
            <a:ext cx="0" cy="609840"/>
          </a:xfrm>
          <a:prstGeom prst="line">
            <a:avLst/>
          </a:prstGeom>
          <a:ln w="572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1066680"/>
            <a:ext cx="76212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5200" y="1905120"/>
            <a:ext cx="0" cy="1447560"/>
          </a:xfrm>
          <a:prstGeom prst="line">
            <a:avLst/>
          </a:prstGeom>
          <a:ln w="572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inė blokad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zija (spinalinė, epidūralinė, kaudalinė), sukeliama vietinį anestetiką suleidus šalia centrinės nervų sistemos  struktūrų (nugaros smegenų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500"/>
                            </p:stCondLst>
                            <p:childTnLst>
                              <p:par>
                                <p:cTn id="9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nalinė anestezija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inis anestetikas suleidžiamas į nugaros smegenų subarachnoidinį tarp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iekama operuojant apatines galūnes, lytinius organus, šlapimo pūslę, prostatą, tarvietės, tiesiosios žarnos operacija, taip pat nuskausminant Cezario pjūvio operaciją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os spinalinės adatos su mandrenu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tikai : Lidokain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% arba Bupivakainas 0.5%, suleidžiama 3-4 m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500"/>
                            </p:stCondLst>
                            <p:childTnLst>
                              <p:par>
                                <p:cTn id="94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3000"/>
                            </p:stCondLst>
                            <p:childTnLst>
                              <p:par>
                                <p:cTn id="95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4500"/>
                            </p:stCondLst>
                            <p:childTnLst>
                              <p:par>
                                <p:cTn id="9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6000"/>
                            </p:stCondLst>
                            <p:childTnLst>
                              <p:par>
                                <p:cTn id="96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ūrinė anestezija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inis anestetikas sušvirkščiamas į epidūrinį tarp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a tais pačiais atvejais kaip spinalinė anestezija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p pat kaip analgezijos dalis bendrinės anestezijos metu, atliekant sudėtingas kraujagyslių, žarnyno, plaučių operacijas; gimdymo nuskausminimui bei pooperaciniam skasumui malšint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os special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pidūrinės adatos 17G-18G Tuochy arba Weiss ir 20G epidūriniai kateteri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i 1-2% lidokaino arba 0.25-0.75% bupivakaino tirpalai, 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 15-30 m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ima valdyti bloko aukštį bei anestezijos trukmę(per kateterį papildomai suleidžiant anestetiko), o taip pat motorinio bloko išreikštumą (keičiant anestetiko koncentraciją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0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3000"/>
                            </p:stCondLst>
                            <p:childTnLst>
                              <p:par>
                                <p:cTn id="98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4500"/>
                            </p:stCondLst>
                            <p:childTnLst>
                              <p:par>
                                <p:cTn id="98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9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7500"/>
                            </p:stCondLst>
                            <p:childTnLst>
                              <p:par>
                                <p:cTn id="99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Miorelaksantai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.Griffith, E.Jonso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irmieji panaudoj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bokurar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engvėjo trachėjos intubacija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po įmanoma užtikrin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alingą miorelasaciją ir tuo sumaž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estetikų doz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vo sintezuota daug įvairių miorelaksantų (metokurarinas, galantaminas, pankuronijus); artimais idealiam miorelaksantu galima laikyti vekuronijų, atrakuriumą, pipekuronijumą, doksakuriumą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cinilcholinas pradėtas naudoti 1951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at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finas išskirtas iš opijaus 1805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as k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veninis anestetik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džioje opiatų ve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, nes manyta, kad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ie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didina pooperacinį mirtingum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idomėjimas opiatais atsinaujino 1939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ntezavus meperidin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atų naudojimą pagrindė “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alansuotos anestez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koncepcija: tiopentalis – indukcijai, azoto suboksidas – amnezijai ir miegui, opiatas – analgezijai ir kurare preparatai – miorelaksacij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inė anestezij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tinės anestezijos pradininku laikomas oftalmologas Carl Koller, 188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naudojęs kokainą akių operacijos nuskausminimu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8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.Halsted panaudojo kokainą infiltracinei ir periferinių nervų blokad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inalinę anesteziją atliko A.Bier 1898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naudojęs 0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ml kokaino tirpalą. Jis taip pat pirmasis 1908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o intraveninę regioninę anesteziją (Blokas pagal Bie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kainas sintezuotas 1904 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pradėtas naudoti klinikoje H.Brau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ūrinė anestezija – 1921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dokainas –1947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prokainas – 1955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pivakainas – 1963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dokainas – 1972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75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Anesteziologija Lietuvoj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55640" y="1628640"/>
            <a:ext cx="6337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847 m. vasario 12 d. A.</a:t>
            </a:r>
            <a:r>
              <a:rPr b="0" lang="lt-LT" sz="2800" spc="-1" strike="noStrike">
                <a:solidFill>
                  <a:srgbClr val="40458c"/>
                </a:solidFill>
                <a:latin typeface="Tahoma"/>
              </a:rPr>
              <a:t>Adomavičiaus paskaita apie etrį VU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40458c"/>
                </a:solidFill>
                <a:latin typeface="Tahoma"/>
              </a:rPr>
              <a:t>1847 m. vasario 23 d. A.Adomavičius ir L.Lechavičius Vilniujepademonstravo pirmąją eterio narkoz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40458c"/>
                </a:solidFill>
                <a:latin typeface="Tahoma"/>
              </a:rPr>
              <a:t>1847 m. gruodžio 21 d. L.Lechavičius Vilniuje atliko pirmąją chloroformo narkozę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826920" y="1700280"/>
            <a:ext cx="1683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Anesteziologija Lietuvoj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0458c"/>
                </a:solidFill>
                <a:latin typeface="Tahoma"/>
              </a:rPr>
              <a:t>1955 m. – pirmoji endotrachėjinė nejautr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0458c"/>
                </a:solidFill>
                <a:latin typeface="Tahoma"/>
              </a:rPr>
              <a:t>1960 m. – Vilniuje įkurtas pirmasis anesteziologijos skyriu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0458c"/>
                </a:solidFill>
                <a:latin typeface="Tahoma"/>
              </a:rPr>
              <a:t>1962 m. – įkurta Lietuvois anesteziologų-reanimatologų draugij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rkoz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ės teorijo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3434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07:00:33Z</dcterms:created>
  <dc:creator>Antanas</dc:creator>
  <dc:description/>
  <dc:language>en-US</dc:language>
  <cp:lastModifiedBy>Antanas</cp:lastModifiedBy>
  <dcterms:modified xsi:type="dcterms:W3CDTF">2005-01-24T13:31:48Z</dcterms:modified>
  <cp:revision>7</cp:revision>
  <dc:subject/>
  <dc:title>Aneteziologija iki eterio</dc:title>
</cp:coreProperties>
</file>