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9385-91E4-4928-AB78-4F4047E2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603-08DC-4AF4-B9B0-64504B5A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F4C7-7DC5-450A-9FC5-59BDE661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FFE8-16A9-4846-81A6-CADAEEB4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FCD9-A749-42E1-AB98-CD90F8E9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33B4-0586-4655-8938-B3A69C2C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940E-4A7B-42D9-B0C3-6A6764AC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8EA4-9C12-4132-91FB-80133C4E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3D2D-2BE2-4A3A-BA20-EE3F4907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0973-4448-45D6-9A34-68A1A8B4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1E6B-65C6-4DE0-85D3-1FA7C5B3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20FF-7029-4EF7-8ABB-530F03AA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9E46-0688-44B7-A7C3-0384E7D4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ACB0-9D8F-4555-BD7C-0DC94F60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532E-5028-4947-8C72-815B4129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0DF0-3749-4C21-9892-24D0A1F7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AADE-4EB7-40F2-87F6-3B5E469F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E642-C283-4DFA-9B98-F126DD74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E4F-D0C2-442B-8159-745F94F3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E088-A473-41EF-B021-61AE0214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1C5E-889A-404C-97DB-E7B01FDF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140-2F83-4C78-8FBB-872AF9E4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60E-C279-4D34-A735-3AE63922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9C74-725B-4CEC-9441-F161EFF2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AB78-36B6-4634-BEF9-51D43C5D91B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170A-C085-49A5-B000-950F2370257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Aneteziologija iki eteri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Laikoma, kad graikų filosofas Dioskoridas I a.pr.Kr. panaudojo terminą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nestezija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pibudindamas svaiginantį mandragoros veikim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enosios civilizacijos nuskausminimui naudodavo aguonų pieną (opiumą), kokos lapus, mandragoros šaknį, alkoholį, beigi drastiškas priemone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tokias kaip kraujo nuleidimą iki sąmonės netekimo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Regioninei anestezijai sukelti naudodavo nervų kamienų suspaudimą bei šalčio aplikacij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operuojamoje vietoje (krioanalgezij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kai vietiniam nuskausminimui naudodavo kokos lapus: gydytojas pakramtydavo lapų ir prispjaudydavo į žaizdą (kokain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Realiai anesteziologija pradėjo vystytis XIX a. antroje pusėje.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irmiej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endrieji anestetikai buvo inhal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inia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eteris,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az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to suboksidas ir chloroforma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ter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sintez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uota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1540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, tačiau medicinoje ir anesteziologijoje buvo panaudotas 1846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m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palio 16 d., kuomet William T.G. Morton Bostone pirmą kartą pademonstravo bendrinę eterio anestezij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zoto suboksidą anestezijai 184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ir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eji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anaudojo H.Wells ir G.Colt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hloroformą pirmą kartą buvo panaudojo H.Coote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847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;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špopuliarino akušeris J.Simpson,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naudojęs jį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mdymo skausmų sumaž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alotanas sintezuotas 1951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pradėtas naudoti 1956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, metoksifluranas pradėtas naudoti 1960m, enfluranas sintezuotas 1963, prad</a:t>
            </a:r>
            <a:r>
              <a:rPr b="0" lang="lt-LT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ė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as naudoti 1973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Intraveninė aanestez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traveninė anestezija gimė 1855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kartu su švirkštu ir adata (A.Wood)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arbitūratai indukcijai pradėti plačiai naudoti 1927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intezavus heksobarbitalį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iopentalis pradėtas naudoti 193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ir iki šiol išlieka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ko gero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lačiausiai naudojamu intraveniniu anestetik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Ketaminas pasirodė 1962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tačiau plačiai pradėtas naudoti 1970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etomidatas 1972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propofolis 1989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Miorelaksantai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942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H.Griffith, E.Jonso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pirmieji panaudojo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ubokurari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alengvėjo trachėjos intubacija,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tapo įmanoma užtikrint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galingą miorelasaciją ir tuo sumaži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t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anestetikų doze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uvo sintezuota daug įvairių miorelaksantų (metokurarinas, galantaminas, pankuronijus); artimais idealiam miorelaksantu galima laikyti vekuronijų, atrakuriumą, pipekuronijumą, doksakuriumą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ukcinilcholinas pradėtas naudoti 1951m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Opiatai</a:t>
            </a:r>
            <a:r>
              <a:rPr b="0" lang="en-GB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orfinas išskirtas iš opijaus 1805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nau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tas k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p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traveninis anestetikas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adžioje opiatų ve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a, nes manyta, kad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jie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adidina pooperacinį mirtingum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usidomėjimas opiatais atsinaujino 1939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sintezavus meperidin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piatų naudojimą pagrindė “</a:t>
            </a:r>
            <a:r>
              <a:rPr b="0" i="1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ubalansuotos anestezijo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” koncepcija: tiopentalis – indukcijai, azoto suboksidas – amnezijai ir miegui, opiatas – analgezijai ir kurare preparatai – miorelaksacij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Regioninė anestezija</a:t>
            </a:r>
            <a:r>
              <a:rPr b="0" lang="en-GB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Vietinės anestezijos pradininku laikomas oftalmologas Carl Koller, 188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anaudojęs kokainą akių operacijos nuskausm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88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W.Halsted panaudojo kokainą infiltracinei ir periferinių nervų blokad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ir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j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spinalinę anesteziją atliko A.Bier 1898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anaudojęs 0.5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%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3ml kokaino tirpalą. Jis taip pat pirmasis 1908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atliko intraveninę regioninę anesteziją (Blokas pagal Bie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okainas sintezuotas 1904 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ir pradėtas naudoti klinikoje H.Brau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pidūrinė anestezija – 1921m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Lidokainas –1947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hlorprokainas – 1955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upivakainas – 1963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tidokainas – 1972m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07:00:33Z</dcterms:created>
  <dc:creator>Antanas</dc:creator>
  <dc:description/>
  <dc:language>en-US</dc:language>
  <cp:lastModifiedBy>Antanas</cp:lastModifiedBy>
  <dcterms:modified xsi:type="dcterms:W3CDTF">2004-01-08T07:45:01Z</dcterms:modified>
  <cp:revision>1</cp:revision>
  <dc:subject/>
  <dc:title>Aneteziologija iki eterio</dc:title>
</cp:coreProperties>
</file>