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A46E-5FBC-4F9B-A652-1666CFE3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F566-E0AF-4547-BCDC-7F2C6A68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C609-11E5-4E08-9286-BE4F3EDE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0E33-1D36-4DFB-9476-AC3505A0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F351-8A52-425C-B553-70A87A36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701E-E9D9-4674-8097-B0FAE227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A7E8-607D-4958-904D-4B5CB819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8307-4F87-4004-BF08-B5B06F92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852A-B255-40B6-8A3E-8F47FCA0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5709-4067-4022-879F-9CE2BD5F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622E-B192-4DAC-9CE3-B2D04008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8B92-C04D-4E70-AEBF-470AEBE0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DF96-C30F-4501-91ED-7B306EDC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EF38-3B8F-4F17-86F8-EA75080A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FB2C-4C00-4724-8206-3289AC8A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29AC-77AE-4F81-900E-1B6936BC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9A4B-11C8-4599-991F-C13D2915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21E7-F1CA-41C2-81A8-A74C2F41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E63E-307C-4487-B32A-53BB09D9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14E6-0BD8-446C-BE7D-7663ACF8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7D64-5CE0-4AB1-884C-1F0C33C6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5302-ABED-496D-8DEE-7CE64FC9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7741-A01F-46B8-BAD4-6E052ACB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CCF3-BC8B-4EDE-8B99-50AB4AE1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11D6-4BD9-40D6-90C3-9EC5190CB0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A931-B75A-4810-8E74-3DEEB2ACC5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5400" spc="-1" strike="noStrike">
                <a:solidFill>
                  <a:srgbClr val="ffffff"/>
                </a:solidFill>
                <a:latin typeface="Times New Roman"/>
              </a:rPr>
              <a:t>Verslas. Verslumas. Verslininkystė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asmuo, disponuojantis kapitalu ir siekiantis jį padidinti, ieškantis naujų pelningų veiklos sričių, pasitelkiantis dalykines žinias ir žmogiškąsias savyb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Ekonom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tai asmuo, kuris susiejęs lėšas, darbą, mežiagas ir pan., padidina jų visuminę vert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Psicholog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tai žmogus, kurį veikti skatina tam tikri motyvai: troškimas ką nors gyvenime pasiekti, įgyti savarankiškumą ir p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923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tų verslininkų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pavojingas varžovas arba, priešingai, partneris, tiekėjas, pirkėjas ir k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kroekonom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žmogus, didinantis ne vien savo, bet ir nacionalinį turtą, atskleidžiantis geresnį išteklių naudojimo, nuostolių mažinimo būdus, kuriantis naujas darbo vie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ko nors nauja, turinčio vertę kūrimas, jėgų ir laiko reikalaujantis, asmeninę, finansinę, moralinę ir socialinę atsakomybę numatantis procesas, kuris galų gale teikia pinigų ir pasitenkinimą pasiektais rezultata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6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</a:rPr>
              <a:t> – tai ne vien veiklos forma, gyvenimo būdas, mokslas ir menas kartu paėmus; tai dar poezija ir kūrybinis polėkis, sportas, ekonominės rizikos sritis; jis aprėpia savus rašytinius ir nerašytinius dėsnius, principus, tarpusavio bendravimo etiką, slaptus sveikatos poveikio mechanizm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Nauji, dinamiški, nedideli, bet lankstūs verslai atlieka daug svarbių funkcijų visuomenėje ir nacionalinėje ekonomik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gamina prekes, teikia paslaugas, kuria pridėtinę vertę ir didina nacionalines paja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užpildo ribotas geografines, gamybines, paslaugų rink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ininkai moka mokesč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ininkai kuria naujas darbo vietas, kurios valstybei nieko nekainuoj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lininkai apmoko ir įdarbina daug nekvalifikuotų darbinink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perskirsto išteklius, skatina konkuruo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geriau tenkina net itin specifinius bei pavienius vartotojų poreik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veikia kaip ekonominio šoko slopintuvai, nustatantys ekonominio pakilimo ir depresijų rib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dekoncentruoja ekonomines jėgas ir sprendimų pasirink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užtikrina individualias galimybes ir socialinį mobilu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lai tenkina asmeninius poreikius bei siekius tų asmenų, kurie juos turi ir val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, ypač nauji, yra tarsi laboratorijos, kuriose galima pigiai išbandyti idėjas, produktus, paslaugas, naujas rink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ūtent verslai buvo, yra ir bus tarptautinių korporacijų lopš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Išorinės verslo funkc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492360" y="3860640"/>
            <a:ext cx="2303640" cy="505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5640" y="2421000"/>
            <a:ext cx="230364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Gamina pre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4581360"/>
            <a:ext cx="223200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katina konkuruo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227640" y="2421000"/>
            <a:ext cx="223200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Teikia paslau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156360" y="4653000"/>
            <a:ext cx="223200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ukuria tu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43280" y="6021360"/>
            <a:ext cx="3600360" cy="576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uteikia naujų darbo viet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2626920" y="2923920"/>
            <a:ext cx="86508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2987640" y="4365720"/>
            <a:ext cx="504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796000" y="2923920"/>
            <a:ext cx="86364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796000" y="436572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43280" y="43657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Vidinės verslo funkc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87640" y="3645000"/>
            <a:ext cx="2736720" cy="504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Gamina pre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8360" y="2205000"/>
            <a:ext cx="2519280" cy="719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inansinės apska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12000" y="2276640"/>
            <a:ext cx="244764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ersonalo valdy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68360" y="5229360"/>
            <a:ext cx="273528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Rinkodaros 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940360" y="5229360"/>
            <a:ext cx="266400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Tiekimo 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19280" y="292428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164360" y="299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7640" y="256536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03640" y="5589720"/>
            <a:ext cx="2736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87640" y="2924280"/>
            <a:ext cx="720720" cy="72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003280" y="2997360"/>
            <a:ext cx="1008360" cy="647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203640" y="4149360"/>
            <a:ext cx="57636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5076360" y="4149360"/>
            <a:ext cx="86364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3280" y="2997360"/>
            <a:ext cx="3600360" cy="29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2924280"/>
            <a:ext cx="4105080" cy="302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600" spc="-1" strike="noStrike" u="sng">
                <a:solidFill>
                  <a:srgbClr val="ffffff"/>
                </a:solidFill>
                <a:uFillTx/>
                <a:latin typeface="Times New Roman"/>
              </a:rPr>
              <a:t>Verslą sudar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4</a:t>
            </a:r>
            <a:r>
              <a:rPr b="1" lang="lt-LT" sz="3600" spc="-1" strike="noStrike" u="sng">
                <a:solidFill>
                  <a:srgbClr val="ffffff"/>
                </a:solidFill>
                <a:uFillTx/>
                <a:latin typeface="Times New Roman"/>
              </a:rPr>
              <a:t> etapa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ujos idėjos paieška ir jos įvertinim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erslo plano sudarym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teklių paiešk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įsteigtos įmonės valdym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Išskiriamos šios verslininkystės rūš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gamybin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omercin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inansin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as. Verslumas.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Tiksla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siaiškinti pagrindines verslo sąvok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uformuluoti verslo sampratos apibrėžimą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analizuoti verslo funkcij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nagrinėti verslininkystės rūši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nagrinėti verslininkystės įtaką šalies ekonominei sistema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Gamybinė verslininkystė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apima prekių gamybą ir vartoj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Komercinės verslininkystė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pagrindas yra komerciniai sandoriai, t.y. prekių ir paslaugų perpardav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Finansinėje verslininkystėje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pirkimo ir pardavimo objektas yra pinigai, valiuta, vertybiniai popieri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X ir XXI a. sandūroje pasaulis yra globalizacijos, naujos informacijos valdymo ir pramonės revoliucijos eros pradžio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iežastys, kurios skatina kurtis mažas ir vidutines įmones ir didina jų reikšmę pasauliui, yra sekanč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žagabaritinės technikos suklestėj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yšių kanalų, informatikos suklestėjimas paprastina priėjimą prie duomenų bazių, lengvina kontaktą su klientais ir tiekėjais užmezg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emografiniai pokyčia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eimos verslo privaluma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laugų plėtr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totojų poreikių skalės kit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ichologinis darbuotojų poreikių kit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olatinis rinkos poreikių kit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ug verslo įmonių kuriasi buvusio Rytų bloko šalyse, tarp jų ir Lietuvoje, kadang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ažai mažų ir vidutinių įmonių atsirado privatizuojant buvusių valstybinių įmonių padaliniu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aikinus iš centro planuojamas ekonomines sistemas buvo suteikta laisvė privačiai iniciatyvai, kurios viena svarbiausių išraiškų – verslininkystės atgimim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ujai bsikuriančios įmonės dažniausiai gali būti tik mažos, nes jas kuriantys verslininkai nėra sukaupę didelio pradinio kapita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same pasaulyje verslo įmonės yra valstybės remiamos, o Lietuvoje turėtų būti remiamos, nes j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tykinai mažomis išlaidomis sukuria darbo vietų, ypač paslaugų srityje, kuri nuolat plečias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deda spręsti užimtumo problemas nepramoniniuose ar šiaip atokiuose nuo pagrindinių šalies centrų regionuose, kur stambios įmonės paprastai nelinkusios plėtoti veikl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arbios kaip subrangovės, vykdančios stambių įmonių užsakymus abipusiškai naudingomis sąlygomi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idina gyventojų investicinį aktyvumą, naudodamos savininkų, jų giminaičių ir draugų asmenines santaupas verslui plės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ų daugėjant, mažėja kapitalo ir gamybos priemonių susitelkimas įvairiose verslo šakose, todėl sudaroma sveikesnė konkurencij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tina diegti inovacijas, nes sugeba lanksčiau prisitaikyti prie kintančių rinkos poreikių nei didelės įmonės ir kartu verčia pastarąsias neatsilik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enkina psichologinius žmonių atsakomybės, nuosavybės, sprendimo laisvės, individo saviraiškos ir kitus poreik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ažose šalyse naudoja įvairių vietų negausius vietinius gamtos ištekl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atsižvelgiant į produkto naujumą arba technologijas, kiekviena naujovė patenka į rinką šiais kanala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valstybės sektori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vidinę verslininkystę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apskritai verslininkyst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alstybė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gali remti mokslinius atradimus, tik ne visi jie įgyvendinam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idaus verslininkystė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– tai tokia verslininkystė, kuri susiklostė verslo struktūrose ir užtikrina ryšį tarp mokslinių tyrimų ir gamyb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dar vienas kelias, įgalinantis mokslines idėjas paversti gaminiais, t.y. įgyvendinant naują idėją, įsteigiama ir pradeda veikti nauja įmon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 esmės veikia vietinę ekonomiką, nes ji stiprina materialinę ir techninę bazę, todėl daugėja naujų darbo viet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VV, nors ir stokoja finansinių išteklių, mokslinio potencialo, techninių galimybių, įgyvendina nepaprastai daug naujų idėj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X a. inovacijų raida išryškino SVV reikšmę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mulkiojo ir vidutiniojo verslo subjektų gausa, aktyvi investicijų ir eksporto veikla, didelis užimtumas bei produktyvios naujos darbo vietos duoda realią naudą nacionalinės ekonomikos plėtr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agrindinis tuometinių verslininkų tikslas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buvo kuo labiau apgauti pirkėją gaunant ku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augiau naudos sa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erslininkystės samprata kūrėsi stebint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asdienę žmonių ūkinę veikl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intanti socialinė aplinka sudarė sąlyga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urtis verslininkų bendrij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irmieji bandymai teoriškai įprasminti reiškinį  “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ystė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” įvyko tik XVII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5400" spc="-1" strike="noStrike">
                <a:solidFill>
                  <a:srgbClr val="dfdef6"/>
                </a:solidFill>
                <a:latin typeface="Times New Roman"/>
              </a:rPr>
              <a:t>Dėkoju už dėmesį </a:t>
            </a:r>
            <a:r>
              <a:rPr b="1" i="1" lang="en-US" sz="5400" spc="-1" strike="noStrike">
                <a:solidFill>
                  <a:srgbClr val="dfdef6"/>
                </a:solidFill>
                <a:latin typeface="Times New Roman"/>
                <a:ea typeface="Arial"/>
              </a:rPr>
              <a:t>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iduramžiais sąvoka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“verslininkas”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vartojama dvejopa prasme: verslininkai buvo parodų ir muzikos renginių organizatoriai bei didelių galimybių arba statybinių projektų vadov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VII a. jau atsižvelgiama į rizikos veiksn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asmuo, sudaręs su valstybe sutartį, kurios įgyvendinimo vertė iš anksto aptar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ž. Lokas Prancūzijoje įkūrė Karališkąjį banką ir Misisipės bendrov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Akcija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dokumentas (vertybinis popierius), liudijantis nuosavybės ir balsavimo teisę akcinėje bendrovė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Aktyvai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konkrečiam  asmeniui priklausantis fizinis turtas (pinigai, akcijos, obligacijos) bei turtinės teisės, turinčios ekonominę vertę (patentai, autorių teisė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irmasis verslininkystės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teoreti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XVIII a. pr. Anglijos ekonomistas R.Kantiljo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asak R.Kantiljono,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– tai žmogus, kuris tam tikra kaina perka gamybos priemones, kad pagamintų atitinkamai produkcijos, siekdamas gauti pajamų, tačiau nežino, kokiomis kainomis pardu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traktuojamas kaip žmogus, veikiantis rizikos sąlygom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.Sėjaus nuomone,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tai žmogus, organizuojantis žmones gamybiniame viene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XVIII a. atskiriamos sąvokos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kapitalo savininkas”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ir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verslininkas”,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t.y. atskiriamos kapitalo teikimo ir verslininkystės funkcij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Kapitalas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finansiniai ir materialiniai ištekliai prekėms gaminti ir paslaugoms teikti; į mokslą investuotos savininko lėš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Vartojamos sąvokos: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smulkusis verslas”, “vidutinis verslas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 u="sng">
                <a:solidFill>
                  <a:srgbClr val="ffffff"/>
                </a:solidFill>
                <a:uFillTx/>
                <a:latin typeface="Times New Roman"/>
              </a:rPr>
              <a:t>SVV apibrėžti labiausiai tinka tokie ES priimti kriterij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inės įplaukos už realizuotą produkcij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lanso sum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dra įmonei priklausančio turto suma, įskaičius grynuosius pinigus, žaliavų ir prekių atsargas, žemę, įrenginius ir kitus ištekliu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buotojų skaič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IBM bendrovės atstovas Tomas Dž. Votsonas jaunesnysis poetiškai teigia, kad “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didžiausias žaidimas pasaulyje, jeigu žinote, kaip jį žaisti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Ekonomistų požiūriu verslas y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onominė veikla, kuria siekiama peln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žsiėmimas, darbas, smulkioji gamyba, amat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giau trunkanti profesinė ir neprofesinė veikla, susijusi su pareigomis ir teisėmis siekiant uždarb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mybos, pirkimo, pardavimo ar tiekimo veikla, atliekama už pinigus ir t.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um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gamybos veiksnys, kurio turinys – žmogaus gebėjimas susieti kapitalą, darbą ir gamtinius išteklius, organizuoti verslą, įgyvendinti inovacijas, rizikuoti savo turtu ir gerove siekiant pel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nuosavybė, savarankiškumas, atsakomybė prieš visuomenę, dirbančiuosius, už save ir artimųjų gyvenim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8:09:29Z</dcterms:created>
  <dc:creator>a</dc:creator>
  <dc:description/>
  <dc:language>en-US</dc:language>
  <cp:lastModifiedBy>SK_06</cp:lastModifiedBy>
  <dcterms:modified xsi:type="dcterms:W3CDTF">2007-10-16T11:46:44Z</dcterms:modified>
  <cp:revision>32</cp:revision>
  <dc:subject/>
  <dc:title>Verslas. Verslumas. Verslininkystė</dc:title>
</cp:coreProperties>
</file>