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79FC-F58F-41F2-A98F-BFCC0AD439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4FA3-C4D1-4008-8662-503F70BFC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1954-6729-4E13-88B2-19D6DBE4A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6439-AD91-40F8-A8F0-D661215E1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C372-1DAE-43AD-8144-6BD21EA8D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468F-B3BB-4882-8D5E-72FE8D9F9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0BA3-AF5C-41F7-BAA2-A209FEC13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C62E-2202-4DA1-B212-AB3D3BFD0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37D3-64C4-4B5D-9D43-3DA12BFF7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585D-2270-4EEA-A2DD-25916886F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C22A-41DD-415F-9FBF-E096B253F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7E00-C1A4-4FE6-9680-7AD11C553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C0B3-71B9-444F-887C-6C52AC5E2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5369-EC7F-4420-AFBB-66CC01166B25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Polimorfizmas ir virtualios funkcij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os klasės vadinamos „grynai abstrakčios klasės“ – pure abstract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ų klasių objektų konstruoti nega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#include &lt;iostream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Inline pure virtual definitions illegal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! virtual void sleep() const = 0 {}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eat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speak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Use the common Pet code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speak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eat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 simba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speak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eat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tos 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6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p yra, kuomet perduodami objektai, o ne nuorodos į objektu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Reikėtų išlaikyti reikalavimą, kad kodas, kuris dirba su bazinės klasės objektu, taip pat dirbtų ir su paveldėtos klasės objek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 – 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string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pnam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Pet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) : pname(name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name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This is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favoriteActivity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,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activity) : Pet(name), favoriteActivity(activity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name() +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 likes to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favoriteActivity; 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describe(Pet p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Slices the objec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cout &lt;&lt; p.description() &lt;&lt; endl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Pet p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Alfred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og d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Fluffy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sleep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p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d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88000" y="4581360"/>
            <a:ext cx="388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kon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de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5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pcasting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rocedūrų „susiejimo“ sąvo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arly-b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ynamic-binding – kviečiamos funkcijos adresas nustatomas vykdymo metu pagal tikrąjį objekto tip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++ realizuojamas virtualiomis funkcijom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 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irgi virtuali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TABL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ai klasei, kurioje yra virtualių funkcijų, sukuriama virtualių funkcijų lentelė (VT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onkrečios klasės metodų adresai įrašomi į tos klasės V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lasės duomenų struktūroje sukuriamas papildomas nematomas laukas VPT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rtualios funkcijos kvietimas realizuojamas kaip (*VPTR[N])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šininis k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ti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i.adjust(1); // kur adjust – virtuali f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eneruoja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mov bx, word ptr [si]   </a:t>
            </a:r>
            <a:r>
              <a:rPr b="0" lang="lt-LT" sz="2000" spc="-1" strike="noStrike">
                <a:solidFill>
                  <a:srgbClr val="808080"/>
                </a:solidFill>
                <a:latin typeface="Verdana"/>
              </a:rPr>
              <a:t>; nes vptr yra objekto pradžio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all word ptr [bx+4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add sp,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iliatoriaus optimiza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iostrea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string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virtual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Bark!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* p1 = &amp;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&amp; p2 =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p3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Late binding for both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1-&gt;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1-&gt;speak() &lt;&lt;end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2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2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Early binding (probably)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3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3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/:~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8240" y="1300320"/>
            <a:ext cx="4938840" cy="5516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#include &lt;iostream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Cflat 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Pure virtual functions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= 0;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&lt;- šitas galės modifikuoti objektą, todėl ne con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12:41:29Z</dcterms:modified>
  <cp:revision>46</cp:revision>
  <dc:subject/>
  <dc:title>PowerPoint Presentation</dc:title>
</cp:coreProperties>
</file>